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A591-AAB1-460D-B558-740607E7E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96E7-8256-4265-A875-9C9ABF8B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8184-C62E-49FB-B55F-746BF0A24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756A-5A48-461B-AFD5-73DD012F2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D6768-5022-4D67-8314-7170BB877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3801-CF54-4D57-91E5-44940967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5AD3-D01D-4409-90D8-B78FA14B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81C4A-3892-41A5-80F5-0EAE2969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408B7-4C32-4F4E-A12D-B53C494F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6F89-642E-47B0-9F75-E6843826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07D5-F87E-45D0-9ADA-EB42802D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F454-D445-43C0-8132-8243D128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DA874-570F-4B5E-BA1A-22B07F39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81B0D-CDD4-494C-8960-CB7E7ACC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A815-A0C9-4912-B36F-659C0683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3A12-5696-4BF0-9591-A6BEBF3D1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1294-9E1C-4CE8-AFBF-FCDA05CD3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5FC7-B0D6-4884-A529-1DEC85E4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7509-560F-41B2-ACAF-407D1165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AED2-D36B-47FF-B31C-95AC4DD0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4433-8D4B-4120-90F5-6E012316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7D3F-21E6-4ED7-9F8A-A2B22FF4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51C6-F319-407C-86B7-71A1DA52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5616-6F1D-4C88-B178-BD21BA63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3118" r="0" b="31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2323-A726-4739-B208-1B4D8E195B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3128" r="0" b="31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12D7-C541-4E5C-B04A-D5A30EE805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71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Business Template</a:t>
            </a:r>
            <a:endParaRPr b="0" lang="en-US" sz="72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70360" y="1719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080"/>
                </a:solidFill>
                <a:latin typeface="Arial"/>
              </a:rPr>
              <a:t>Example of a Bullet Point Slide</a:t>
            </a: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b Bull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080"/>
                </a:solidFill>
                <a:latin typeface="Arial"/>
              </a:rPr>
              <a:t>Example of a chart</a:t>
            </a: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027160" y="1219320"/>
          <a:ext cx="6062760" cy="37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7160" y="1219320"/>
                    <a:ext cx="6062760" cy="37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080"/>
                </a:solidFill>
                <a:latin typeface="Arial"/>
              </a:rPr>
              <a:t>Picture slide</a:t>
            </a: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778120" y="1676520"/>
            <a:ext cx="3586320" cy="2689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080"/>
                </a:solidFill>
                <a:latin typeface="Arial"/>
              </a:rPr>
              <a:t>Examples of default styles</a:t>
            </a: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xt and lines are like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333333"/>
                </a:solidFill>
                <a:uFillTx/>
                <a:latin typeface="Arial"/>
              </a:rPr>
              <a:t>Hyperlinks like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66ffff"/>
                </a:solidFill>
                <a:uFillTx/>
                <a:latin typeface="Arial"/>
              </a:rPr>
              <a:t>Visited hyperlinks like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994280" y="1701720"/>
          <a:ext cx="3630600" cy="1727280"/>
        </p:xfrm>
        <a:graphic>
          <a:graphicData uri="http://schemas.openxmlformats.org/drawingml/2006/table">
            <a:tbl>
              <a:tblPr/>
              <a:tblGrid>
                <a:gridCol w="1816200"/>
                <a:gridCol w="181440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3497400" y="4114800"/>
            <a:ext cx="2232000" cy="1368360"/>
          </a:xfrm>
          <a:prstGeom prst="rect">
            <a:avLst/>
          </a:prstGeom>
          <a:gradFill rotWithShape="0">
            <a:gsLst>
              <a:gs pos="0">
                <a:srgbClr val="ffffff">
                  <a:alpha val="42352"/>
                </a:srgbClr>
              </a:gs>
              <a:gs pos="100000">
                <a:srgbClr val="ffffff">
                  <a:alpha val="42352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92880" y="4114800"/>
            <a:ext cx="2232000" cy="1368360"/>
          </a:xfrm>
          <a:prstGeom prst="rect">
            <a:avLst/>
          </a:prstGeom>
          <a:solidFill>
            <a:srgbClr val="333333">
              <a:alpha val="42000"/>
            </a:srgbClr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4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ith shad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14:52:18Z</dcterms:created>
  <dc:creator>jonty pearce</dc:creator>
  <dc:description/>
  <dc:language>en-US</dc:language>
  <cp:lastModifiedBy>jonty pearce</cp:lastModifiedBy>
  <dcterms:modified xsi:type="dcterms:W3CDTF">2007-05-29T15:15:13Z</dcterms:modified>
  <cp:revision>1</cp:revision>
  <dc:subject/>
  <dc:title>Business Template</dc:title>
</cp:coreProperties>
</file>