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EE2-5E66-475F-AD3F-0DC5874F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A26-5C0C-4236-9A45-A95850C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380-B88A-42B6-9EB5-A38DABF2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B9E-1AA2-42D3-B19C-AFB52FE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52CD-059A-4A71-ADF2-A544C50D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889-45D5-4291-85DB-F86D7ED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D658-56D9-415E-AC3E-F81BC62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0F3-F35F-4572-9966-F0CDE98A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178-EAC1-41CE-8C8B-06501BF0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83C6-93D1-472F-A307-6D0BE759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653-8634-4552-BF5D-B02A09A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F02-1F05-4C76-A57C-324D949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724-8734-4839-B9CB-E0B24E3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F65-082F-4856-A0BA-27EB9D2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EFB-75DF-407C-9EC6-E5282E9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ED1A-963C-4980-8F74-FD786A5E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58D-F15B-4F00-9C83-B15E06F5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FD4-882B-4960-8493-CA881FA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BA1-6186-48D1-863C-CCC5120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21D-3114-4097-A19B-0BD5CA5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F99-D20F-4ECC-987F-0DF3B52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C16-5229-4190-8398-ECA7C5B7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BE7-8360-451B-B7C1-B4FFB0B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6F9-9253-48B0-A426-CA3BC29A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D63-1E10-455E-BB2F-264F9105F98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9080" y="0"/>
            <a:ext cx="918216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CBC-4C6C-4EAF-AD7C-48ADF7922A6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91919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1654200"/>
            <a:ext cx="3586320" cy="26892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cc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00ff80">
              <a:alpha val="42000"/>
            </a:srgbClr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jonty pearce</dc:creator>
  <dc:description/>
  <dc:language>en-US</dc:language>
  <cp:lastModifiedBy>jonty pearce</cp:lastModifiedBy>
  <dcterms:modified xsi:type="dcterms:W3CDTF">2007-05-29T15:32:53Z</dcterms:modified>
  <cp:revision>1</cp:revision>
  <dc:subject/>
  <dc:title>Business Template</dc:title>
</cp:coreProperties>
</file>