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779-17A4-4F38-AC36-D1136F6F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985-545F-4B7D-8DD6-0BF39458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937-8027-4B48-BC7F-A5EC8479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1C5-8C12-42B6-BF6E-C5FCCDAF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5BF-B708-497F-BC67-495B6B28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6F9-2F3C-4D27-903A-C93D7F6F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62F-4BF6-445A-B8B8-0AFFD665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7E5-11D6-4A7B-83D6-E75B9FAA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6C9-28E5-4F8F-BBFA-8D504444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41B-E2A6-4F39-98F7-BCE6903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763-ADDD-4396-8CB4-EE4F89FB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B25-1C77-4541-8DD8-F2AA6CC4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48DA-60EA-4D19-877C-A2B0E937139B}" type="slidenum"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99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55Z</dcterms:created>
  <dc:creator> </dc:creator>
  <dc:description/>
  <dc:language>en-US</dc:language>
  <cp:lastModifiedBy> </cp:lastModifiedBy>
  <dcterms:modified xsi:type="dcterms:W3CDTF">2005-01-17T11:27:12Z</dcterms:modified>
  <cp:revision>2</cp:revision>
  <dc:subject/>
  <dc:title>Slide 1</dc:title>
</cp:coreProperties>
</file>