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12E-F941-430C-9067-FB97DA08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E29-A287-4F6B-9956-06FF32CF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3C4-EEBA-4562-8EDB-A87D62F8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27A-3987-4F15-B3C5-E847C7BE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ECA-E7C6-4B5E-9103-0B44EE32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FB6-8C3C-4063-85FC-C0453704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18D-46F9-4995-9AF6-008FF20D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FF1-63D8-45C5-88D8-5B627849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053-5610-402B-ABFF-BFEE03C5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B80-DC75-495D-8810-563422B5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273-FDE1-4B68-8E3B-57584610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E43-E2BB-4079-B4F9-EFA6DED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F755-AACC-4DB6-AB54-ED3BF30CBC8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 </dc:creator>
  <dc:description/>
  <dc:language>en-US</dc:language>
  <cp:lastModifiedBy> </cp:lastModifiedBy>
  <dcterms:modified xsi:type="dcterms:W3CDTF">2005-01-17T11:26:22Z</dcterms:modified>
  <cp:revision>2</cp:revision>
  <dc:subject/>
  <dc:title>Slide 1</dc:title>
</cp:coreProperties>
</file>