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9C248-96E9-4176-8BF0-D3F63E6E5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5330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F12BC-A3B3-4F04-AD3C-C5230C857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432E6-7AAE-477F-8395-9F71966FE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849E0-07C8-4CB0-9C47-7E0BA513B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2D58B-CD19-4329-8986-AD6170111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F9DCD-B283-42B8-B7B9-6C60FD35B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CF768-04BC-4A58-A013-DA26C43CD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8D4E5-4CA1-4F6D-B608-AA2104B5E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5B83C-60A5-4D66-B945-AB6D9411B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6E4F7-C347-4360-B6C8-746C10E8A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3971E-09EE-49FE-80B3-E3D0BA974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68968-E685-44A8-906B-11C4BD248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AB9C9-A891-4082-963D-2C8FB1E9F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392F3-BD88-49BB-9212-09CDFE6CF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5330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179BE-05AE-4F42-B7F5-F44495C7D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98D4C-1216-4DBD-8A2C-6C6F12021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5BF32-04C8-44DA-865A-6923C37CC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86331-D488-4B10-8B6D-E41D77E51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320BC-FABA-45C2-8AE8-8C5274F67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9AF75-537D-4D1D-A513-EEBED6D9C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A0E91-DC6E-49DB-AE10-40D02B568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F597E-20BD-4C2C-B55E-3B370237B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8BE9E-4953-4FC1-8E8D-62D124BE0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E0F41-5CCA-4870-BF9F-A96AC2BBC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660960" indent="-254160">
              <a:spcBef>
                <a:spcPts val="7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017000" indent="-20340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424160" indent="-203400">
              <a:spcBef>
                <a:spcPts val="7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1830960" indent="-203400">
              <a:spcBef>
                <a:spcPts val="799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1830960" indent="-203400">
              <a:spcBef>
                <a:spcPts val="799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1830960" indent="-203400">
              <a:spcBef>
                <a:spcPts val="799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EF77E-E707-4E92-9E11-3A25C996E927}" type="slidenum"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196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0678C-50E5-4383-BCB5-98C7B3F27899}" type="slidenum"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66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66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196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Arial"/>
              </a:rPr>
              <a:t>Plain Sailing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2952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Arial"/>
              </a:rPr>
              <a:t>Example of a Bullet Point Slide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66"/>
                </a:solidFill>
                <a:latin typeface="Arial"/>
              </a:rPr>
              <a:t>Bullet Poin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66"/>
                </a:solidFill>
                <a:latin typeface="Arial"/>
              </a:rPr>
              <a:t>Bullet Poin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Sub Bulle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Arial"/>
              </a:rPr>
              <a:t>Example of a chart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1492200" y="1417680"/>
          <a:ext cx="7132680" cy="3759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92200" y="1417680"/>
                    <a:ext cx="7132680" cy="375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Arial"/>
              </a:rPr>
              <a:t>Picture slide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3236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Bullet 1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Bullet 1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6058080" y="1600200"/>
            <a:ext cx="2628720" cy="32846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Arial"/>
              </a:rPr>
              <a:t>Examples of default styles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Text and lines are like thi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66"/>
                </a:solidFill>
                <a:uFillTx/>
                <a:latin typeface="Arial"/>
              </a:rPr>
              <a:t>Hyperlinks like thi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3333ff"/>
                </a:solidFill>
                <a:uFillTx/>
                <a:latin typeface="Arial"/>
              </a:rPr>
              <a:t>Visited hyperlinks like thi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4994280" y="1887480"/>
          <a:ext cx="3630600" cy="1581120"/>
        </p:xfrm>
        <a:graphic>
          <a:graphicData uri="http://schemas.openxmlformats.org/drawingml/2006/table">
            <a:tbl>
              <a:tblPr/>
              <a:tblGrid>
                <a:gridCol w="1815120"/>
                <a:gridCol w="1815480"/>
              </a:tblGrid>
              <a:tr h="79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Table</a:t>
                      </a:r>
                      <a:endParaRPr b="0" lang="en-US" sz="2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79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4056120" y="3824280"/>
            <a:ext cx="2232000" cy="1368360"/>
          </a:xfrm>
          <a:prstGeom prst="rect">
            <a:avLst/>
          </a:prstGeom>
          <a:solidFill>
            <a:srgbClr val="b9b9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Text box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597720" y="3824280"/>
            <a:ext cx="2232000" cy="1368360"/>
          </a:xfrm>
          <a:prstGeom prst="rect">
            <a:avLst/>
          </a:prstGeom>
          <a:solidFill>
            <a:srgbClr val="b9b9ff"/>
          </a:solidFill>
          <a:ln w="9360">
            <a:solidFill>
              <a:srgbClr val="000066"/>
            </a:solidFill>
            <a:miter/>
          </a:ln>
          <a:effectLst>
            <a:outerShdw dist="107932" dir="2700000" blurRad="0" rotWithShape="0">
              <a:srgbClr val="5f5f5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Text box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With shadow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3148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Supplementary Slide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Bullet Poin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9T08:46:04Z</dcterms:created>
  <dc:creator>Pearce</dc:creator>
  <dc:description/>
  <dc:language>en-US</dc:language>
  <cp:lastModifiedBy>Pearce</cp:lastModifiedBy>
  <dcterms:modified xsi:type="dcterms:W3CDTF">2006-03-21T10:11:46Z</dcterms:modified>
  <cp:revision>7</cp:revision>
  <dc:subject/>
  <dc:title>Slide 1</dc:title>
</cp:coreProperties>
</file>