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54E-A9E6-4337-8FD2-5C0636E0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BDF-DA98-4E94-A459-CC0ABA0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D03-FD56-4705-B5E9-A55CA1AA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209-71A6-483E-B47D-DA72612A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23B-2451-45C0-8E73-D4258462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E1BF-B510-46EC-B57B-7F061742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5192-66EB-48B2-999B-552E94B6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1129-11D0-4132-A4F8-FFA4E519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972E-CFC5-4556-AD3E-1A8C3F60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0F73-9CE4-4ECF-B1F9-5C13AB12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A714-C9FB-444D-A7E6-DFBBD52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10A-0C16-45B6-B788-D941051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6EB1-A017-47C1-89E8-B38F8C4F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11E7-1811-4722-8BE2-2B8A907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5832-FA45-47C6-B9DA-DB221C5C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715-BDA1-4F1B-94AE-DEEA32F8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A254-9221-49E6-AF26-89E9420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FA3-0842-496D-96C3-E2650481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C24-3EF2-4C84-8986-3A8551B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A7C-7EEF-4359-9975-2685BD3D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DEF-1938-4A70-9E48-616E5233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917-DF17-4E16-98AA-2D83B0B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AB7-CBAC-4B44-A7A1-73925E63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31D-DC25-45D8-B954-192BD1A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375-10EE-4C54-B5CB-930B2F280B7D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A3A-C236-4554-925D-EC9538C4C704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ff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cc66ff">
              <a:alpha val="42000"/>
            </a:srgbClr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ty pearce</cp:lastModifiedBy>
  <dcterms:modified xsi:type="dcterms:W3CDTF">2007-05-29T15:52:51Z</dcterms:modified>
  <cp:revision>56</cp:revision>
  <dc:subject/>
  <dc:title>Flowers</dc:title>
</cp:coreProperties>
</file>