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0D09-49C5-4D14-8896-D6B1D4B0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70FA-8FAA-4A65-B80D-473D311C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A383-05BC-44BE-BA69-3ABAA30C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001F-A589-468A-BE60-C0925BEF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2C39-F33B-48EA-A89D-41BB27B5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CBBC-0273-41BE-8617-4D9EB7D8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2D34-EBD3-43C5-A23F-151B49D7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E4E5-637C-4398-85D4-D995A61A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5E06-1CBE-4AC9-9D49-4D044EB8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C19D-C0D2-4E61-9B11-9DDBEDDB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7579-9BBC-4A01-AB0B-868C2EAE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441C-A27D-4B8D-8FC0-D9346280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781E-5F63-483C-B91F-98EB8E82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EFCD-54E5-46F5-95CD-7B80CAE6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3479-E26D-49EE-9C3B-D2832469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7457-107E-4FA4-B507-2F43205E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E115-CBF7-4A74-A661-B9941A21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D74B-5D36-4280-8ABD-8B7F0E3C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291F-0A54-443A-A1C8-59D4A050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74B5-E681-4A39-A63A-01651E76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BA60-EC0A-4E1C-B421-39EC58E0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68BC-6C23-4B1D-92DC-5BD78566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9A34-7816-4D67-921B-2498696A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1CAD-534D-48AB-A895-C75CDE56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1160"/>
            <a:ext cx="9144000" cy="6846840"/>
          </a:xfrm>
          <a:prstGeom prst="rect">
            <a:avLst/>
          </a:pr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9BDB-5A09-473C-8422-9FD26D36D4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3FE2-E136-4B8A-BC29-06327C7263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266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80"/>
                </a:solidFill>
                <a:latin typeface="Arial"/>
              </a:rPr>
              <a:t>Red lights</a:t>
            </a:r>
            <a:endParaRPr b="0" lang="en-US" sz="72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70360" y="2001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58444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emplat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80"/>
                </a:solidFill>
                <a:latin typeface="Arial"/>
              </a:rPr>
              <a:t>Example of a Bullet Point Slide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80"/>
                </a:solidFill>
                <a:latin typeface="Arial"/>
              </a:rPr>
              <a:t>Example of a chart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027160" y="1219320"/>
          <a:ext cx="606276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1219320"/>
                    <a:ext cx="606276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80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58080" y="1600200"/>
            <a:ext cx="2628720" cy="3284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80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80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4080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994280" y="1701720"/>
          <a:ext cx="3630600" cy="1727280"/>
        </p:xfrm>
        <a:graphic>
          <a:graphicData uri="http://schemas.openxmlformats.org/drawingml/2006/table">
            <a:tbl>
              <a:tblPr/>
              <a:tblGrid>
                <a:gridCol w="1816200"/>
                <a:gridCol w="18144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838080" y="4114800"/>
            <a:ext cx="2232000" cy="13683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4114800"/>
            <a:ext cx="2232000" cy="13683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4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ffice 2004 Test Drive jontypearce</cp:lastModifiedBy>
  <dcterms:modified xsi:type="dcterms:W3CDTF">2006-09-18T11:12:43Z</dcterms:modified>
  <cp:revision>37</cp:revision>
  <dc:subject/>
  <dc:title>Flowers</dc:title>
</cp:coreProperties>
</file>