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CEE-9DB0-43D1-9D1B-474F2300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A93-8B50-452B-9A92-3515D526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8CB-FC06-4DEB-BEDB-3E1A5413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3CA-898A-42F5-86E2-8E00902E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E86-8CBB-4923-B540-03C9B350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F4C6-EB75-470E-870E-926B1D3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DBA6-1131-4A0C-AF19-E95A903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5E8F-D717-48D7-9F25-2442A13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093-7258-4264-9D9C-F1B9A7C9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9F0B-7C42-4261-9003-DA2938ED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6012-CF89-4A8A-B2FD-9510F4E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C59-0B8C-4BDB-B179-FFD626E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3106-9743-47A8-896F-B15E81D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9F99-B437-41D3-8E5A-09482391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D66B-35DB-491E-AF84-8653944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31BF-947C-4FC7-A2D5-B447AF42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2673-2C61-46A6-83AF-B5421BD3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90C-F58C-47BC-A090-FB43E17D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319-4D92-46CF-B02A-AA550F9E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6E7-F63E-489C-922D-B820772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C40-2904-4A64-9F3E-C66C03C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E1D-A1C2-4CAA-B428-8346447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7FD-A307-462B-8558-2C5C5B7D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495-1085-41DC-B092-C2412813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8894" t="0" r="0" b="20791"/>
          <a:stretch/>
        </p:blipFill>
        <p:spPr>
          <a:xfrm>
            <a:off x="0" y="41911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1319" r="53335" b="0"/>
          <a:stretch/>
        </p:blipFill>
        <p:spPr>
          <a:xfrm>
            <a:off x="7543800" y="0"/>
            <a:ext cx="1600200" cy="29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640E-5623-490C-AE9F-0051F516C7ED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7648-1049-4376-A81D-6CE98177A7F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80972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8050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ranges Templa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Bullet Point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Sub Bull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char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2200" y="175752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75752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Pictur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2816280"/>
            <a:ext cx="3708360" cy="2473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s of default sty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ext and lines are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3300"/>
                </a:solidFill>
                <a:uFillTx/>
                <a:latin typeface="Tahoma"/>
              </a:rPr>
              <a:t>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00"/>
                </a:solidFill>
                <a:uFillTx/>
                <a:latin typeface="Tahoma"/>
              </a:rPr>
              <a:t>Visited 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70520" y="2300400"/>
          <a:ext cx="3429000" cy="17589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0561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77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8:20Z</dcterms:created>
  <dc:creator>Mark Stevenson</dc:creator>
  <dc:description/>
  <dc:language>en-US</dc:language>
  <cp:lastModifiedBy>Pearce</cp:lastModifiedBy>
  <dcterms:modified xsi:type="dcterms:W3CDTF">2006-05-01T14:31:28Z</dcterms:modified>
  <cp:revision>11</cp:revision>
  <dc:subject/>
  <dc:title>Oranges Template</dc:title>
</cp:coreProperties>
</file>