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ct" ContentType="image/x-pict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C7AB6-C541-487D-A024-4E8E35260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08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5330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5D17A-CEA1-4C8E-8E18-2FCEBE0BC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08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A4C5D-E5A8-4256-8A2C-5769F80FD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08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C4334-1023-45D4-BAE0-4880DCD84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202A7-145F-4834-8246-E39E93FE3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08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613C8-1D6F-441F-B38F-E58D5779F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08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4390F-305D-4B1B-9E49-0D3B20435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08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0BC77-F2FF-44C8-835D-C66B835E4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96FC9-3866-422F-82C4-3CD3C2AD5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65F4B-8434-402C-9204-3969C33A2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08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83E86-ACD0-45CC-950A-D3AAE75B4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08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F51B5-E94D-48E9-87E9-79D93CF73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08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E0907-D59D-4ECD-A3B1-0DC9FCDA2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08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3FF29-A2B3-4F64-8CF6-A0562A5F5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08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5330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CD5EC-246D-49E3-B51B-CEB852092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08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BE47B-8261-4D4D-A97B-4C6762036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08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6DD45-0B2E-44FC-AB2D-1C74AFD19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08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B6349-5992-41CF-8C5F-4A67E243C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08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241A5-590A-4894-A4DA-B4234BBE9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BE3AE-8E5A-449B-AC02-C64CFE967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30BEA-D1B3-4003-BF99-0210FF4E2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08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546DF-D8C4-4CEF-8B5F-8A0543FAC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08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50069-1738-4B46-962B-39B0BAC72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08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D988E-A510-4794-A288-B0BDA68B4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3118" r="0" b="315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08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408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17000" indent="-2034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424160" indent="-2034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830960" indent="-2034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830960" indent="-2034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830960" indent="-2034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B5487-9D8C-4F44-82F3-666A62B190E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rcRect l="0" t="3128" r="0" b="314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196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08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408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F1B41-940A-4E8D-AEA4-6CF334C9AE4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71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Business Template</a:t>
            </a:r>
            <a:endParaRPr b="0" lang="en-US" sz="7200" spc="-1" strike="noStrike">
              <a:solidFill>
                <a:srgbClr val="00408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870360" y="17193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4080"/>
                </a:solidFill>
                <a:latin typeface="Arial"/>
              </a:rPr>
              <a:t>Example of a Bullet Point Slide</a:t>
            </a:r>
            <a:endParaRPr b="0" lang="en-US" sz="4400" spc="-1" strike="noStrike">
              <a:solidFill>
                <a:srgbClr val="00408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Bullet Poi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Bullet Poi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ub Bull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4080"/>
                </a:solidFill>
                <a:latin typeface="Arial"/>
              </a:rPr>
              <a:t>Example of a chart</a:t>
            </a:r>
            <a:endParaRPr b="0" lang="en-US" sz="4400" spc="-1" strike="noStrike">
              <a:solidFill>
                <a:srgbClr val="004080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2027160" y="1219320"/>
          <a:ext cx="6062760" cy="3759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27160" y="1219320"/>
                    <a:ext cx="6062760" cy="375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4080"/>
                </a:solidFill>
                <a:latin typeface="Arial"/>
              </a:rPr>
              <a:t>Picture slide</a:t>
            </a:r>
            <a:endParaRPr b="0" lang="en-US" sz="4400" spc="-1" strike="noStrike">
              <a:solidFill>
                <a:srgbClr val="00408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3236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Bullet 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Bullet 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2778120" y="1676520"/>
            <a:ext cx="3586320" cy="268920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4080"/>
                </a:solidFill>
                <a:latin typeface="Arial"/>
              </a:rPr>
              <a:t>Examples of default styles</a:t>
            </a:r>
            <a:endParaRPr b="0" lang="en-US" sz="4400" spc="-1" strike="noStrike">
              <a:solidFill>
                <a:srgbClr val="00408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ext and lines are like th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333333"/>
                </a:solidFill>
                <a:uFillTx/>
                <a:latin typeface="Arial"/>
              </a:rPr>
              <a:t>Hyperlinks like th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66ffff"/>
                </a:solidFill>
                <a:uFillTx/>
                <a:latin typeface="Arial"/>
              </a:rPr>
              <a:t>Visited hyperlinks like th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4994280" y="1701720"/>
          <a:ext cx="3630600" cy="1727280"/>
        </p:xfrm>
        <a:graphic>
          <a:graphicData uri="http://schemas.openxmlformats.org/drawingml/2006/table">
            <a:tbl>
              <a:tblPr/>
              <a:tblGrid>
                <a:gridCol w="1816200"/>
                <a:gridCol w="1814400"/>
              </a:tblGrid>
              <a:tr h="86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ab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6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3497400" y="4114800"/>
            <a:ext cx="2232000" cy="1368360"/>
          </a:xfrm>
          <a:prstGeom prst="rect">
            <a:avLst/>
          </a:prstGeom>
          <a:gradFill rotWithShape="0">
            <a:gsLst>
              <a:gs pos="0">
                <a:srgbClr val="ffffff">
                  <a:alpha val="42352"/>
                </a:srgbClr>
              </a:gs>
              <a:gs pos="100000">
                <a:srgbClr val="ffffff">
                  <a:alpha val="42352"/>
                </a:srgbClr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ext bo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392880" y="4114800"/>
            <a:ext cx="2232000" cy="1368360"/>
          </a:xfrm>
          <a:prstGeom prst="rect">
            <a:avLst/>
          </a:prstGeom>
          <a:solidFill>
            <a:srgbClr val="333333">
              <a:alpha val="42000"/>
            </a:srgbClr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4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ext bo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ith shadow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9T14:52:18Z</dcterms:created>
  <dc:creator>jonty pearce</dc:creator>
  <dc:description/>
  <dc:language>en-US</dc:language>
  <cp:lastModifiedBy>jonty pearce</cp:lastModifiedBy>
  <dcterms:modified xsi:type="dcterms:W3CDTF">2007-05-29T15:15:13Z</dcterms:modified>
  <cp:revision>1</cp:revision>
  <dc:subject/>
  <dc:title>Business Template</dc:title>
</cp:coreProperties>
</file>