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78C-2A7C-410D-9C12-896B6D1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BB9-2AD2-40CD-AD17-4408ACED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72B-4213-4722-AA9B-DE934604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5A7-330E-4F2F-8B1C-EE1099C7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0DC-1108-4426-8F33-DD8B334F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8EFF-6CE6-498D-82BF-F36CB5BA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E8AC-8CCC-4955-B5A8-C5DBB1F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A3C3-71EF-4FAA-B009-1EAC015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BB5-EAF8-49A5-9B06-9C48CA81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A693-BE04-4668-93C0-7B0E9A1C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85A8-F8C1-43D3-9EAE-D9EB768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299-A0D1-4CA3-84CF-498B63A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0F4-1D28-4F96-9F81-7DAE425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FAB1-E78A-4237-BF99-86CD5EC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331-5666-4EDC-B100-0A105B9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861C-1434-4DB7-9068-FA2E8B94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138D-6999-4B8A-A5FE-FCD49CAE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6EC-EAB7-46D4-B26B-816BE02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86A-EF3E-46CB-8DDE-ACBB11E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E4C-BE19-4FE2-BBF3-6E0CCE6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13F-5AC5-45F9-BEC3-0BB3C468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348-597B-4B80-9405-2F883AB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113-1842-445D-B5E0-FE23D543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27A-03F0-43A3-B686-DD8DE57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E59-54B6-4F2F-860E-34273F3772A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9080" y="0"/>
            <a:ext cx="918216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53E-2095-422E-AA97-2CF8AA40094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91919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1654200"/>
            <a:ext cx="3586320" cy="26892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cc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00ff80">
              <a:alpha val="42000"/>
            </a:srgbClr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jonty pearce</dc:creator>
  <dc:description/>
  <dc:language>en-US</dc:language>
  <cp:lastModifiedBy>jonty pearce</cp:lastModifiedBy>
  <dcterms:modified xsi:type="dcterms:W3CDTF">2007-05-29T15:32:53Z</dcterms:modified>
  <cp:revision>1</cp:revision>
  <dc:subject/>
  <dc:title>Business Template</dc:title>
</cp:coreProperties>
</file>