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E1C8-61D2-4C8F-BE0E-E6D9102D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85B-64C8-49A3-9D87-7AC45A1C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9C8-8541-4669-9E3D-49BD0E64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EFFB-5ECD-44A6-99AD-A8D5A93E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C55-A79F-4344-A596-6CD92FDC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99AE-A976-47AB-9799-38C89C05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C57-9305-401C-9B26-2421993D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E470-4795-4976-B9FC-85AF33FE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3656-7897-4995-B6AE-92FD8C65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9C9-C214-4EA3-BA24-819F12FA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136F-51B6-4AA4-A3F4-4CE71D98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253-CCD5-45BE-94F0-43A347D9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ffffcc"/>
              </a:buClr>
              <a:buSzPct val="6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074D-0D1D-4F0E-AD92-A92F4D8949D7}" type="slidenum"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99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ffffcc"/>
              </a:buClr>
              <a:buSzPct val="6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99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55Z</dcterms:created>
  <dc:creator> </dc:creator>
  <dc:description/>
  <dc:language>en-US</dc:language>
  <cp:lastModifiedBy> </cp:lastModifiedBy>
  <dcterms:modified xsi:type="dcterms:W3CDTF">2005-01-17T11:27:12Z</dcterms:modified>
  <cp:revision>2</cp:revision>
  <dc:subject/>
  <dc:title>Slide 1</dc:title>
</cp:coreProperties>
</file>