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BEF3-CF68-4E68-8400-B29829C1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B4F-BE39-4CEC-9D1F-3F57DE0D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9A0-833B-49C3-86F0-9A8ABCBD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220E-DCC4-4093-B464-C894DDAE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F742-456E-4FD0-A2CB-125A29B6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FFA9-D3EC-42D7-95CF-F7582F32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CEB8-188A-437A-9A19-78554EA2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8DD9-1367-44AB-ACFD-1953F267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F946-955C-45BC-A3A7-B2A00F5B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48E3-C3AD-4C47-8A25-AA18CCE4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854C-B282-4C11-8AD1-AA3A0BAD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DCB4-4C69-4269-AE72-A184BDF6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7373-1588-41CF-9FF5-0FE50C52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4647-53B8-4EB3-91B1-5CD7341D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C914-D5F1-47AB-87DC-70206777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4866-9C46-4942-A2A9-8BDD6F99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94CC-2E59-420F-8538-9242DAA6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8E1-A702-4280-89CA-5833EC01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A8AE-47F9-42C6-AAD7-10FC2C8A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7E30-BB28-49E4-BF1E-F9F6B4A1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499-1C84-47FF-BCD7-9C3D2887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0EA5-9D0C-4117-A4B0-AF224588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1B7F-FE2F-4F22-AE78-0B44C20B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3E7-8DA0-4473-8C93-BE3264D0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2847-5A65-4ACC-9D70-BF2F2E449E1A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1359-D476-43B2-82A1-AA7A39F40CE5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Plain Sailing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295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492200" y="1417680"/>
          <a:ext cx="713268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2200" y="1417680"/>
                    <a:ext cx="713268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58080" y="1600200"/>
            <a:ext cx="2628720" cy="3284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994280" y="1887480"/>
          <a:ext cx="3630600" cy="1581120"/>
        </p:xfrm>
        <a:graphic>
          <a:graphicData uri="http://schemas.openxmlformats.org/drawingml/2006/table">
            <a:tbl>
              <a:tblPr/>
              <a:tblGrid>
                <a:gridCol w="1815120"/>
                <a:gridCol w="181548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4056120" y="3824280"/>
            <a:ext cx="2232000" cy="1368360"/>
          </a:xfrm>
          <a:prstGeom prst="rect">
            <a:avLst/>
          </a:prstGeom>
          <a:solidFill>
            <a:srgbClr val="b9b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97720" y="3824280"/>
            <a:ext cx="2232000" cy="1368360"/>
          </a:xfrm>
          <a:prstGeom prst="rect">
            <a:avLst/>
          </a:prstGeom>
          <a:solidFill>
            <a:srgbClr val="b9b9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upplementary Slid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8:46:04Z</dcterms:created>
  <dc:creator>Pearce</dc:creator>
  <dc:description/>
  <dc:language>en-US</dc:language>
  <cp:lastModifiedBy>Pearce</cp:lastModifiedBy>
  <dcterms:modified xsi:type="dcterms:W3CDTF">2006-03-21T10:11:46Z</dcterms:modified>
  <cp:revision>7</cp:revision>
  <dc:subject/>
  <dc:title>Slide 1</dc:title>
</cp:coreProperties>
</file>