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688-DC02-4C0E-80C4-4AD411AE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178-CA04-412E-90EC-2852939C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852-3B4F-49C0-A02E-E06AD80B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B49-5D45-49D6-9763-D9A724E8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427F-36A0-400E-BB4A-B1782FC2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DCD6-7EA5-4C00-8744-C42B17F1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E58B-2947-4D84-B25C-7936AC9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495E-366E-4634-A3D3-57E45CF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38D-8C16-45E2-AA48-9758682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6AD3-2985-4E1E-BFE4-999764B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58E8-66DB-4099-81D6-1EBC55A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5A8-9CF2-4C8F-B024-E65BCB16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10A7-F230-43ED-A327-249E51FF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65B-45E4-491F-BE9A-F0140BA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B0D1-4274-4145-8F4E-D7D12F6B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E0E3-364E-4B8E-85FB-6AE51AD3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3C4-7308-408A-A9FC-96CDF2DD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42A-7354-406E-BF22-D446566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DBE-53C8-4363-9AA3-802647C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AA2-7A76-4FB6-82F6-CE1237B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EB8-127C-47CA-AE18-A2859FC5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CC1-3477-4344-90A1-EFC67546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C5A-0F35-4D42-9D23-6B50068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536-85F1-401F-ABEE-6863092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09B-10A8-4AD2-BE94-70EF747234F3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9080" y="0"/>
            <a:ext cx="9182160" cy="6858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3EC-B381-4E83-A09F-3567B89E11F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91919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8120" y="1654200"/>
            <a:ext cx="3586320" cy="26892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cc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00ff80">
              <a:alpha val="42000"/>
            </a:srgbClr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30:11Z</dcterms:created>
  <dc:creator>jonty pearce</dc:creator>
  <dc:description/>
  <dc:language>en-US</dc:language>
  <cp:lastModifiedBy>jonty pearce</cp:lastModifiedBy>
  <dcterms:modified xsi:type="dcterms:W3CDTF">2007-05-29T15:32:53Z</dcterms:modified>
  <cp:revision>1</cp:revision>
  <dc:subject/>
  <dc:title>Business Template</dc:title>
</cp:coreProperties>
</file>