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A67-B680-4D90-AE48-27D9EDE8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89E-8E40-4DFC-90ED-8ABCE09C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A37-F0EE-4901-9746-7520E501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2B7-B51A-4524-AA87-3B9410C0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4B38-9AAD-4C87-9ECE-1EAA965D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85BE-6B2E-420C-BC36-A5242443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E4F2-B433-466E-88B7-3BFA3F1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5FD0-59F3-46AA-8FE4-2FF55EB7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7C7C-A32F-4B9A-9A92-48AE6785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FFD2-73A1-4388-8C2C-CA74DCCB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0B5A-BA6E-4E5A-B123-CBF85968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9C8-BB79-43F9-A54B-DA34671E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4A99-816A-426D-AF0A-92A8177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D824-813E-4353-91F9-831ADFC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E854-D586-48BC-A814-4DBCA31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41C-82A5-4E55-ABB9-2335F6A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7ECA-0007-48FA-A2FD-8ED118A7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4E6-1730-4F9B-A8D4-8C4CD30A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6AD-76BF-44AA-941A-F24C9231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742-1763-4E93-96BF-B3C9FB57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2F4-85B3-4034-BD54-CFFF761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752-0A1E-4D77-A5C1-CF9C9B5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52C-37E0-4315-8A41-1FC031F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626-BCB7-4BD2-A38F-C4A4EBDF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8894" t="0" r="0" b="20791"/>
          <a:stretch/>
        </p:blipFill>
        <p:spPr>
          <a:xfrm>
            <a:off x="0" y="41911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11319" r="53335" b="0"/>
          <a:stretch/>
        </p:blipFill>
        <p:spPr>
          <a:xfrm>
            <a:off x="7543800" y="0"/>
            <a:ext cx="1600200" cy="29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6046-C8F6-460F-9A59-4B72986F80FF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E3A2-3681-4B27-AA41-E11475BDFD7C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180972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80504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ranges Templa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Bullet Point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Sub Bull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char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2200" y="175752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75752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Pictur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5640" y="2816280"/>
            <a:ext cx="3708360" cy="2473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s of default sty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ext and lines are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3300"/>
                </a:solidFill>
                <a:uFillTx/>
                <a:latin typeface="Tahoma"/>
              </a:rPr>
              <a:t>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00"/>
                </a:solidFill>
                <a:uFillTx/>
                <a:latin typeface="Tahoma"/>
              </a:rPr>
              <a:t>Visited 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70520" y="2300400"/>
          <a:ext cx="3429000" cy="17589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0561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977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8:20Z</dcterms:created>
  <dc:creator>Mark Stevenson</dc:creator>
  <dc:description/>
  <dc:language>en-US</dc:language>
  <cp:lastModifiedBy>Pearce</cp:lastModifiedBy>
  <dcterms:modified xsi:type="dcterms:W3CDTF">2006-05-01T14:31:28Z</dcterms:modified>
  <cp:revision>11</cp:revision>
  <dc:subject/>
  <dc:title>Oranges Template</dc:title>
</cp:coreProperties>
</file>