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9BDBA-E09A-41E7-827E-3F86615BE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5330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29349-21EF-460F-837C-BB8267E58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B586B-1E05-4169-B266-EA6B7326E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0C0F0-D718-4F8F-96E0-538DF4BD6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50656-F79E-43C3-9E5B-AFEE36E08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F773E-7292-49A2-92C4-98E9EFC22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C0DE8-1A60-4D92-98BE-A10E4F2D1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8117D-5355-4123-9BA7-C3207D92C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4A886-D928-4CE5-958B-DEF4E41C7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95568-91F3-4A7C-90C7-CFCB9833E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CE5F0-1194-4430-9222-E194E94E7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7FCD3-96BA-47D1-B47C-27AC9CE2D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A3ECC-9F24-46B0-95B4-B1DD08B67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5473D-5504-4A63-9DF6-3B506D057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5330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D4185-96FD-4E6E-8651-2013D09F9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AF8EF-064E-4D9E-BF5D-4D7E3E769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E0A09-BD3C-448E-AE7A-8956F5C87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92906-04F1-4C0A-9BFE-2F12DA970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0BBAD-EBBA-4872-8E54-92990F688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18249-5561-42BE-8E6D-86BACBC2F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37DC9-D717-4A1A-8E33-2D5E87F0D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10DE2-AF1B-4F98-8D92-3B7154971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B3089-1632-40F6-AA8A-33669515A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AA201-1CDA-476F-8467-AAED13876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660960" indent="-254160">
              <a:spcBef>
                <a:spcPts val="7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017000" indent="-20340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424160" indent="-203400">
              <a:spcBef>
                <a:spcPts val="7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1830960" indent="-203400">
              <a:spcBef>
                <a:spcPts val="799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1830960" indent="-203400">
              <a:spcBef>
                <a:spcPts val="799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1830960" indent="-203400">
              <a:spcBef>
                <a:spcPts val="799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0430A-CADB-4C40-B438-A8F455B80962}" type="slidenum"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196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E4719-0D55-428B-8752-F116E773E631}" type="slidenum"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66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66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196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Arial"/>
              </a:rPr>
              <a:t>Plain Sailing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2952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Arial"/>
              </a:rPr>
              <a:t>Example of a Bullet Point Slide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66"/>
                </a:solidFill>
                <a:latin typeface="Arial"/>
              </a:rPr>
              <a:t>Bullet Poin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66"/>
                </a:solidFill>
                <a:latin typeface="Arial"/>
              </a:rPr>
              <a:t>Bullet Poin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Sub Bulle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Arial"/>
              </a:rPr>
              <a:t>Example of a chart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1492200" y="1417680"/>
          <a:ext cx="7132680" cy="3759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92200" y="1417680"/>
                    <a:ext cx="7132680" cy="375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Arial"/>
              </a:rPr>
              <a:t>Picture slide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3236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Bullet 1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Bullet 1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6058080" y="1600200"/>
            <a:ext cx="2628720" cy="32846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Arial"/>
              </a:rPr>
              <a:t>Examples of default styles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Text and lines are like thi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66"/>
                </a:solidFill>
                <a:uFillTx/>
                <a:latin typeface="Arial"/>
              </a:rPr>
              <a:t>Hyperlinks like thi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3333ff"/>
                </a:solidFill>
                <a:uFillTx/>
                <a:latin typeface="Arial"/>
              </a:rPr>
              <a:t>Visited hyperlinks like thi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4994280" y="1887480"/>
          <a:ext cx="3630600" cy="1581120"/>
        </p:xfrm>
        <a:graphic>
          <a:graphicData uri="http://schemas.openxmlformats.org/drawingml/2006/table">
            <a:tbl>
              <a:tblPr/>
              <a:tblGrid>
                <a:gridCol w="1815120"/>
                <a:gridCol w="1815480"/>
              </a:tblGrid>
              <a:tr h="79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Table</a:t>
                      </a:r>
                      <a:endParaRPr b="0" lang="en-US" sz="2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79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4056120" y="3824280"/>
            <a:ext cx="2232000" cy="1368360"/>
          </a:xfrm>
          <a:prstGeom prst="rect">
            <a:avLst/>
          </a:prstGeom>
          <a:solidFill>
            <a:srgbClr val="b9b9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Text box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597720" y="3824280"/>
            <a:ext cx="2232000" cy="1368360"/>
          </a:xfrm>
          <a:prstGeom prst="rect">
            <a:avLst/>
          </a:prstGeom>
          <a:solidFill>
            <a:srgbClr val="b9b9ff"/>
          </a:solidFill>
          <a:ln w="9360">
            <a:solidFill>
              <a:srgbClr val="000066"/>
            </a:solidFill>
            <a:miter/>
          </a:ln>
          <a:effectLst>
            <a:outerShdw dist="107932" dir="2700000" blurRad="0" rotWithShape="0">
              <a:srgbClr val="5f5f5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Text box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With shadow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3148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Supplementary Slide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Bullet Poin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9T08:46:04Z</dcterms:created>
  <dc:creator>Pearce</dc:creator>
  <dc:description/>
  <dc:language>en-US</dc:language>
  <cp:lastModifiedBy>Pearce</cp:lastModifiedBy>
  <dcterms:modified xsi:type="dcterms:W3CDTF">2006-03-21T10:11:46Z</dcterms:modified>
  <cp:revision>7</cp:revision>
  <dc:subject/>
  <dc:title>Slide 1</dc:title>
</cp:coreProperties>
</file>