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BFE-9AD8-4077-8C87-081DEDD8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CE6-AC88-4135-AD9D-918AC78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BCD-1072-499C-AB59-A3A5A2B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8FC-CD13-4F2F-B205-2CFB8AC9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0D40-144E-43FF-9F5C-D0CC318B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502B-D433-4D63-9B57-482DA25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ACE3-C3D4-4A61-8714-215C469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25A-8214-45B9-8ECE-B4EF21B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E68-D04B-40BD-8360-832AFD5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68C-C83B-48A9-B423-2861819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3F5-B9E8-4614-8286-913A24C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466-513E-4618-95F0-C11F55A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4271-0181-40EE-8F06-AF33474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8BF7-5E37-4521-B805-BA56BDA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CB7B-3E68-4381-AE0A-6FE67654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0F3-44D3-4249-977D-19BD218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BA4-06C0-4280-86B5-3C832349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190-093C-4304-A69A-3C802863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876-77B3-481E-888D-BFA2A684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5E6-3C17-4738-9D55-345E770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77C-1F21-4FE6-8733-E91FC10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B41-5558-4E5E-80A4-A350F26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649-B177-497E-B2CD-23C76A3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692-03D7-4DA0-90F7-B964B15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51C3-19D1-44E3-8156-BF60C6B478E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BC1-4D80-407F-800A-96F7051CBEF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lain Sail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92200" y="141768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1768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887480"/>
          <a:ext cx="3630600" cy="1581120"/>
        </p:xfrm>
        <a:graphic>
          <a:graphicData uri="http://schemas.openxmlformats.org/drawingml/2006/table">
            <a:tbl>
              <a:tblPr/>
              <a:tblGrid>
                <a:gridCol w="1815120"/>
                <a:gridCol w="181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0561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977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pplementary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8:46:04Z</dcterms:created>
  <dc:creator>Pearce</dc:creator>
  <dc:description/>
  <dc:language>en-US</dc:language>
  <cp:lastModifiedBy>Pearce</cp:lastModifiedBy>
  <dcterms:modified xsi:type="dcterms:W3CDTF">2006-03-21T10:11:46Z</dcterms:modified>
  <cp:revision>7</cp:revision>
  <dc:subject/>
  <dc:title>Slide 1</dc:title>
</cp:coreProperties>
</file>