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5571-B346-485E-85E5-B128E3D9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A56C-4DD3-4DB8-8636-A443B7B8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5DE-ACA1-442F-8289-3C283720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C57-42CD-44BC-BAB3-DB3DD50E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DEAA-DCED-4ECD-B372-E3923ACB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558C-0F15-4EF3-9664-4CCFF6DD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50B2-1D06-4F6B-88BE-38C1DEF8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80FE-7596-46FD-9CBD-9F5BB0DB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7044-6416-4414-9B09-78566E19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2224-F785-42AE-8082-FCBA7EDA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1231-285B-4ECF-BA66-98BA4C88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5BC-39F7-4895-97BA-95180FA3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3998-CD1F-4396-A595-C8F5CBDD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D90A-4B86-411B-B3AB-0A4E783A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D55B-4837-4B5D-9116-32E557D4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DED9-54BA-4D7A-B25D-CBF18884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3DA6-8DE1-416A-96F5-1A49B6AB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A8F-A072-4EDF-B620-258D1FC1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B12-1A3C-4A68-818D-CFBC47CA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6AF9-CD49-4D77-A3A7-87E12316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537-5478-43BA-AA99-CD421A34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5F8-06AB-4971-A73C-98BC7F80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3F1A-8C73-4AD5-B29A-20243FBF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EB65-94D9-4D26-B080-3FFE87E1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192" r="0" b="2211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9BC6-E1E2-4AD7-8B1D-A54152AA0DAB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9080" y="0"/>
            <a:ext cx="9182160" cy="6858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2192" r="0" b="2211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6639-3FCB-4D03-B818-DFFD90E2901B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91919"/>
                </a:solidFill>
                <a:latin typeface="Arial"/>
              </a:rPr>
              <a:t>Business Template</a:t>
            </a:r>
            <a:endParaRPr b="0" lang="en-US" sz="7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27160" y="121932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78120" y="1654200"/>
            <a:ext cx="3586320" cy="268920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ff80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ccff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497400" y="4114800"/>
            <a:ext cx="2232000" cy="1368360"/>
          </a:xfrm>
          <a:prstGeom prst="rect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ffffff">
                  <a:alpha val="42352"/>
                </a:srgbClr>
              </a:gs>
            </a:gsLst>
            <a:lin ang="5400000"/>
          </a:gradFill>
          <a:ln w="936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92880" y="4114800"/>
            <a:ext cx="2232000" cy="1368360"/>
          </a:xfrm>
          <a:prstGeom prst="rect">
            <a:avLst/>
          </a:prstGeom>
          <a:solidFill>
            <a:srgbClr val="00ff80">
              <a:alpha val="42000"/>
            </a:srgbClr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cccc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5:30:11Z</dcterms:created>
  <dc:creator>jonty pearce</dc:creator>
  <dc:description/>
  <dc:language>en-US</dc:language>
  <cp:lastModifiedBy>jonty pearce</cp:lastModifiedBy>
  <dcterms:modified xsi:type="dcterms:W3CDTF">2007-05-29T15:32:53Z</dcterms:modified>
  <cp:revision>1</cp:revision>
  <dc:subject/>
  <dc:title>Business Template</dc:title>
</cp:coreProperties>
</file>