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BA2-A1EB-4A76-A1BE-FFD96AA2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86B-AEF0-4569-98B7-250D917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321-CCCD-4D1C-B9CD-D894CC6F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284-CFA8-4C08-BEC5-F24DF3A2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9A6-2CAB-4C01-BD14-067D722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747-4B06-4D21-B4A3-55EF3812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12A-2BD6-45A4-9737-3F041369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180-B83E-463C-A79B-B87B8E0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43B-74F0-40EB-8980-E811387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07C-151F-4BB3-8D7F-D710E77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730-EAC1-4968-B357-B8C28BA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F2C-D7B2-4E36-9A51-FB861B03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2E88-9007-44A0-90D8-22442C65B5A9}" type="slidenum"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 </dc:creator>
  <dc:description/>
  <dc:language>en-US</dc:language>
  <cp:lastModifiedBy> </cp:lastModifiedBy>
  <dcterms:modified xsi:type="dcterms:W3CDTF">2005-01-17T11:27:12Z</dcterms:modified>
  <cp:revision>2</cp:revision>
  <dc:subject/>
  <dc:title>Slide 1</dc:title>
</cp:coreProperties>
</file>