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F64-6EBD-4172-86BF-52900FCB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21E-660A-4361-A6B0-6E8B4E89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4DB-BD0C-4320-80C8-0E2B7D55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BFC-92D0-4912-AA42-7A446B09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F0A-8C09-417F-96D8-3C6525F4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D73F-8D6C-4F19-B125-2F4AE20C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0604-0697-4A00-BAEF-5129B775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D7D-0AD2-4B5F-8591-EFF9B8E0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D42-537C-4036-80D6-0F8E4578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40F-BD88-40C4-A4F3-3CF131ED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549-6744-412E-B7E3-E2B498B8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4A7-9594-4DBB-9EBE-DD099292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93BA-FB2F-4E0F-B08E-BE3DC6596D5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 </dc:creator>
  <dc:description/>
  <dc:language>en-US</dc:language>
  <cp:lastModifiedBy> </cp:lastModifiedBy>
  <dcterms:modified xsi:type="dcterms:W3CDTF">2005-01-17T11:26:22Z</dcterms:modified>
  <cp:revision>2</cp:revision>
  <dc:subject/>
  <dc:title>Slide 1</dc:title>
</cp:coreProperties>
</file>