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ct" ContentType="image/x-pict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79215-9307-4EB4-8ED3-736ABEC94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8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5330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C3D14-A922-4E36-A167-0A679D968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8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6C403-E638-43C3-B35A-63D37CFF3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8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A8514-B8DC-42EB-91FD-CDA1A1947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D3567-8092-42D9-9EC2-61A3AE518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8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4CAFA-7A3A-4DA0-96C4-2404E9530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8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DE6F8-9631-4506-AFA7-B4A73E556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8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AB449-84C8-4AF8-99D7-5D55E8948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E3BCA-AA08-4A95-B858-C973D800E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20D10-6777-4BEB-89C2-BA1062568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8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839F1-371F-4A8A-8523-7689EF045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8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7384E-D81E-4F89-9408-00E20EA65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8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E5EC9-696B-4DF9-B736-C5A348047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8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FD98D-949F-4CE1-A2F4-2B82777E7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8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5330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0D8B3-389E-4C9C-8780-B92DB5FF7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8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2541C-75E3-4209-B7B7-1C570A24E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8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1878A-9E2C-4133-8A2A-48AF61D93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8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BDF5F-D62B-40EE-AC23-5AA5E5380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8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4F885-E53A-48D4-8277-31E0DAD54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8E1BF-0692-4CB5-87DA-75B064819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DDECC-0BBF-44DC-B9A6-47C8BD7E7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8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AB148-912B-473C-93C4-DB97AFCC6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8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7B207-83F0-48FD-B220-11F32C38C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8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DD4EA-4B9F-407E-8921-48309976F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1116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11160"/>
            <a:ext cx="9144000" cy="6846840"/>
          </a:xfrm>
          <a:prstGeom prst="rect">
            <a:avLst/>
          </a:prstGeom>
          <a:solidFill>
            <a:srgbClr val="000000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8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0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17000" indent="-2034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424160" indent="-2034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830960" indent="-2034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830960" indent="-2034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830960" indent="-2034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E4304-5E25-482B-8274-D3A37AAC81F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196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8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008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E92B7-B8EA-4661-9832-0FC79E9F59A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1266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ff0080"/>
                </a:solidFill>
                <a:latin typeface="Arial"/>
              </a:rPr>
              <a:t>Red lights</a:t>
            </a:r>
            <a:endParaRPr b="0" lang="en-US" sz="7200" spc="-1" strike="noStrike">
              <a:solidFill>
                <a:srgbClr val="ff008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870360" y="20019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133720" y="2584440"/>
            <a:ext cx="4952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template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80"/>
                </a:solidFill>
                <a:latin typeface="Arial"/>
              </a:rPr>
              <a:t>Example of a Bullet Point Slide</a:t>
            </a:r>
            <a:endParaRPr b="0" lang="en-US" sz="4400" spc="-1" strike="noStrike">
              <a:solidFill>
                <a:srgbClr val="ff008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Bullet Poi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Bullet Poi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ub Bull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80"/>
                </a:solidFill>
                <a:latin typeface="Arial"/>
              </a:rPr>
              <a:t>Example of a chart</a:t>
            </a:r>
            <a:endParaRPr b="0" lang="en-US" sz="4400" spc="-1" strike="noStrike">
              <a:solidFill>
                <a:srgbClr val="ff0080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2027160" y="1219320"/>
          <a:ext cx="6062760" cy="3759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27160" y="1219320"/>
                    <a:ext cx="6062760" cy="375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80"/>
                </a:solidFill>
                <a:latin typeface="Arial"/>
              </a:rPr>
              <a:t>Picture slide</a:t>
            </a:r>
            <a:endParaRPr b="0" lang="en-US" sz="4400" spc="-1" strike="noStrike">
              <a:solidFill>
                <a:srgbClr val="ff008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3236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Bullet 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Bullet 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6058080" y="1600200"/>
            <a:ext cx="2628720" cy="32846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80"/>
                </a:solidFill>
                <a:latin typeface="Arial"/>
              </a:rPr>
              <a:t>Examples of default styles</a:t>
            </a:r>
            <a:endParaRPr b="0" lang="en-US" sz="4400" spc="-1" strike="noStrike">
              <a:solidFill>
                <a:srgbClr val="ff008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ext and lines are like th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80"/>
                </a:solidFill>
                <a:uFillTx/>
                <a:latin typeface="Arial"/>
              </a:rPr>
              <a:t>Hyperlinks like th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4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4080"/>
                </a:solidFill>
                <a:uFillTx/>
                <a:latin typeface="Arial"/>
              </a:rPr>
              <a:t>Visited hyperlinks like th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4994280" y="1701720"/>
          <a:ext cx="3630600" cy="1727280"/>
        </p:xfrm>
        <a:graphic>
          <a:graphicData uri="http://schemas.openxmlformats.org/drawingml/2006/table">
            <a:tbl>
              <a:tblPr/>
              <a:tblGrid>
                <a:gridCol w="1816200"/>
                <a:gridCol w="1814400"/>
              </a:tblGrid>
              <a:tr h="86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ab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6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838080" y="4114800"/>
            <a:ext cx="2232000" cy="136836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ext bo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733920" y="4114800"/>
            <a:ext cx="2232000" cy="136836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4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ext bo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ith shadow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Office 2004 Test Drive jontypearce</cp:lastModifiedBy>
  <dcterms:modified xsi:type="dcterms:W3CDTF">2006-09-18T11:12:43Z</dcterms:modified>
  <cp:revision>37</cp:revision>
  <dc:subject/>
  <dc:title>Flowers</dc:title>
</cp:coreProperties>
</file>