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6360" y="6191280"/>
            <a:ext cx="9144000" cy="333360"/>
            <a:chOff x="36360" y="6191280"/>
            <a:chExt cx="9144000" cy="333360"/>
          </a:xfrm>
        </p:grpSpPr>
        <p:sp>
          <p:nvSpPr>
            <p:cNvPr id="3" name=""/>
            <p:cNvSpPr/>
            <p:nvPr/>
          </p:nvSpPr>
          <p:spPr>
            <a:xfrm>
              <a:off x="36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23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25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1998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8904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97640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652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52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41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8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30524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9404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0814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702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857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246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0228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1024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9940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8676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75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964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9178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6340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36360" y="123840"/>
            <a:ext cx="9144000" cy="333360"/>
            <a:chOff x="36360" y="123840"/>
            <a:chExt cx="9144000" cy="333360"/>
          </a:xfrm>
        </p:grpSpPr>
        <p:sp>
          <p:nvSpPr>
            <p:cNvPr id="28" name=""/>
            <p:cNvSpPr/>
            <p:nvPr/>
          </p:nvSpPr>
          <p:spPr>
            <a:xfrm>
              <a:off x="36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3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25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1998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58904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97640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3652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752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141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528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430524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69404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0814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4702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857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46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0228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41024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9940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18676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575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964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178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340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800" y="6553080"/>
            <a:ext cx="93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0     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1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2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3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4   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360" y="6191280"/>
            <a:ext cx="9144000" cy="333360"/>
            <a:chOff x="36360" y="6191280"/>
            <a:chExt cx="9144000" cy="333360"/>
          </a:xfrm>
        </p:grpSpPr>
        <p:sp>
          <p:nvSpPr>
            <p:cNvPr id="91" name=""/>
            <p:cNvSpPr/>
            <p:nvPr/>
          </p:nvSpPr>
          <p:spPr>
            <a:xfrm>
              <a:off x="36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3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25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998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904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7640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652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52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41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8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0524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9404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814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02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57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46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228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1024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9940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8676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75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64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78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340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6360" y="123840"/>
            <a:ext cx="9144000" cy="333360"/>
            <a:chOff x="36360" y="123840"/>
            <a:chExt cx="9144000" cy="333360"/>
          </a:xfrm>
        </p:grpSpPr>
        <p:sp>
          <p:nvSpPr>
            <p:cNvPr id="116" name=""/>
            <p:cNvSpPr/>
            <p:nvPr/>
          </p:nvSpPr>
          <p:spPr>
            <a:xfrm>
              <a:off x="36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3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25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998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8904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640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52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52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41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28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524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9404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814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702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57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6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228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1024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9940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8676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75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964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178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340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800" y="6553080"/>
            <a:ext cx="93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0     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1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2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3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4   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Filmstri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20920" y="3905280"/>
            <a:ext cx="628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ease note the countdown timer will only work on the latest XP versions of PowerPoint (2002 and l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025720" y="866880"/>
            <a:ext cx="5084640" cy="5086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43000" y="907920"/>
            <a:ext cx="5038920" cy="503892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73280" y="1436760"/>
            <a:ext cx="3979800" cy="398124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11560" y="1174680"/>
            <a:ext cx="4503600" cy="450540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25720" y="1803240"/>
            <a:ext cx="5056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PICTURE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900" spc="-1" strike="noStrike">
                <a:solidFill>
                  <a:srgbClr val="ffffff"/>
                </a:solidFill>
                <a:latin typeface="Arial Narrow"/>
              </a:rPr>
              <a:t>START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492200" y="2198520"/>
          <a:ext cx="7132680" cy="37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2198520"/>
                    <a:ext cx="7132680" cy="37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323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062760" y="1628640"/>
            <a:ext cx="2093760" cy="35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69696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0c0c0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994280" y="2111400"/>
          <a:ext cx="3630600" cy="18730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1403280" y="4437000"/>
            <a:ext cx="2232000" cy="136836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44880" y="4437000"/>
            <a:ext cx="2232000" cy="136836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67280" y="2421000"/>
            <a:ext cx="57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43000" y="907920"/>
            <a:ext cx="5038920" cy="503892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589120" y="1436760"/>
            <a:ext cx="3948120" cy="3981240"/>
            <a:chOff x="2589120" y="1436760"/>
            <a:chExt cx="3948120" cy="3981240"/>
          </a:xfrm>
        </p:grpSpPr>
        <p:sp>
          <p:nvSpPr>
            <p:cNvPr id="182" name=""/>
            <p:cNvSpPr/>
            <p:nvPr/>
          </p:nvSpPr>
          <p:spPr>
            <a:xfrm>
              <a:off x="2589120" y="1436760"/>
              <a:ext cx="3948120" cy="3981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9640" y="1449000"/>
              <a:ext cx="126720" cy="19785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556160" y="901800"/>
            <a:ext cx="14400" cy="505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042640" y="3424320"/>
            <a:ext cx="50389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73280" y="1436760"/>
            <a:ext cx="3979800" cy="398124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11560" y="1174680"/>
            <a:ext cx="4503600" cy="450540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043000" y="907920"/>
            <a:ext cx="5038920" cy="503892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89120" y="1436760"/>
            <a:ext cx="3948120" cy="3981240"/>
            <a:chOff x="2589120" y="1436760"/>
            <a:chExt cx="3948120" cy="3981240"/>
          </a:xfrm>
        </p:grpSpPr>
        <p:sp>
          <p:nvSpPr>
            <p:cNvPr id="190" name=""/>
            <p:cNvSpPr/>
            <p:nvPr/>
          </p:nvSpPr>
          <p:spPr>
            <a:xfrm>
              <a:off x="2589120" y="1436760"/>
              <a:ext cx="3948120" cy="3981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9640" y="1449000"/>
              <a:ext cx="126720" cy="19785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556160" y="901800"/>
            <a:ext cx="14400" cy="505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42640" y="3424320"/>
            <a:ext cx="50389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73280" y="1436760"/>
            <a:ext cx="3979800" cy="398124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11560" y="1174680"/>
            <a:ext cx="4503600" cy="450540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043000" y="907920"/>
            <a:ext cx="5038920" cy="503892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89120" y="1436760"/>
            <a:ext cx="3948120" cy="3981240"/>
            <a:chOff x="2589120" y="1436760"/>
            <a:chExt cx="3948120" cy="3981240"/>
          </a:xfrm>
        </p:grpSpPr>
        <p:sp>
          <p:nvSpPr>
            <p:cNvPr id="198" name=""/>
            <p:cNvSpPr/>
            <p:nvPr/>
          </p:nvSpPr>
          <p:spPr>
            <a:xfrm>
              <a:off x="2589120" y="1436760"/>
              <a:ext cx="3948120" cy="3981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9640" y="1449000"/>
              <a:ext cx="126720" cy="19785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56160" y="901800"/>
            <a:ext cx="14400" cy="505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042640" y="3424320"/>
            <a:ext cx="50389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73280" y="1436760"/>
            <a:ext cx="3979800" cy="398124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11560" y="1174680"/>
            <a:ext cx="4503600" cy="450540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43000" y="907920"/>
            <a:ext cx="5038920" cy="503892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589120" y="1436760"/>
            <a:ext cx="3948120" cy="3981240"/>
            <a:chOff x="2589120" y="1436760"/>
            <a:chExt cx="3948120" cy="3981240"/>
          </a:xfrm>
        </p:grpSpPr>
        <p:sp>
          <p:nvSpPr>
            <p:cNvPr id="206" name=""/>
            <p:cNvSpPr/>
            <p:nvPr/>
          </p:nvSpPr>
          <p:spPr>
            <a:xfrm>
              <a:off x="2589120" y="1436760"/>
              <a:ext cx="3948120" cy="3981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9640" y="1449000"/>
              <a:ext cx="126720" cy="19785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556160" y="901800"/>
            <a:ext cx="14400" cy="505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042640" y="3424320"/>
            <a:ext cx="50389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73280" y="1436760"/>
            <a:ext cx="3979800" cy="398124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11560" y="1174680"/>
            <a:ext cx="4503600" cy="450540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43000" y="907920"/>
            <a:ext cx="5038920" cy="503892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1436760"/>
            <a:ext cx="3948120" cy="3981240"/>
            <a:chOff x="2589120" y="1436760"/>
            <a:chExt cx="3948120" cy="3981240"/>
          </a:xfrm>
        </p:grpSpPr>
        <p:sp>
          <p:nvSpPr>
            <p:cNvPr id="214" name=""/>
            <p:cNvSpPr/>
            <p:nvPr/>
          </p:nvSpPr>
          <p:spPr>
            <a:xfrm>
              <a:off x="2589120" y="1436760"/>
              <a:ext cx="3948120" cy="3981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9640" y="1449000"/>
              <a:ext cx="126720" cy="19785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56160" y="901800"/>
            <a:ext cx="14400" cy="505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042640" y="3424320"/>
            <a:ext cx="50389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73280" y="1436760"/>
            <a:ext cx="3979800" cy="398124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11560" y="1174680"/>
            <a:ext cx="4503600" cy="450540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43000" y="907920"/>
            <a:ext cx="5038920" cy="503892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89120" y="1436760"/>
            <a:ext cx="3948120" cy="3981240"/>
            <a:chOff x="2589120" y="1436760"/>
            <a:chExt cx="3948120" cy="3981240"/>
          </a:xfrm>
        </p:grpSpPr>
        <p:sp>
          <p:nvSpPr>
            <p:cNvPr id="222" name=""/>
            <p:cNvSpPr/>
            <p:nvPr/>
          </p:nvSpPr>
          <p:spPr>
            <a:xfrm>
              <a:off x="2589120" y="1436760"/>
              <a:ext cx="3948120" cy="3981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99640" y="1449000"/>
              <a:ext cx="126720" cy="19785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556160" y="901800"/>
            <a:ext cx="14400" cy="505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042640" y="3424320"/>
            <a:ext cx="50389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73280" y="1436760"/>
            <a:ext cx="3979800" cy="398124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11560" y="1174680"/>
            <a:ext cx="4503600" cy="450540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043000" y="907920"/>
            <a:ext cx="5038920" cy="503892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1120" y="1268280"/>
            <a:ext cx="228600" cy="431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97520" y="1268280"/>
            <a:ext cx="228600" cy="431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90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043000" y="907920"/>
            <a:ext cx="5038920" cy="503892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21120" y="1268280"/>
            <a:ext cx="228600" cy="17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97520" y="1268280"/>
            <a:ext cx="228600" cy="17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1120" y="3817800"/>
            <a:ext cx="228600" cy="17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97520" y="3817800"/>
            <a:ext cx="228600" cy="17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3161880" y="2003400"/>
            <a:ext cx="228600" cy="174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5744880" y="2014560"/>
            <a:ext cx="228600" cy="17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3161880" y="3058920"/>
            <a:ext cx="228600" cy="174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5744880" y="3070080"/>
            <a:ext cx="228600" cy="17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90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4:19:59Z</dcterms:created>
  <dc:creator/>
  <dc:description/>
  <dc:language>en-US</dc:language>
  <cp:lastModifiedBy>Jonty Pearce</cp:lastModifiedBy>
  <dcterms:modified xsi:type="dcterms:W3CDTF">2005-04-07T15:19:48Z</dcterms:modified>
  <cp:revision>5</cp:revision>
  <dc:subject/>
  <dc:title>Slide 1</dc:title>
</cp:coreProperties>
</file>