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376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6888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9864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376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6888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96720" y="326520"/>
            <a:ext cx="6946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376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6888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79864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376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6888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96720" y="326520"/>
            <a:ext cx="6946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890880"/>
            <a:ext cx="3809880" cy="298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32448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www.company.com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189000"/>
            <a:ext cx="1295280" cy="12952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6880" y="546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 LOGO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413320" y="3938760"/>
            <a:ext cx="3730680" cy="2919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2720" y="2734920"/>
            <a:ext cx="731196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89000"/>
            <a:ext cx="1295280" cy="12952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609588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company.com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546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 LOGO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609588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company.com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99cc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2720" y="2734920"/>
            <a:ext cx="731196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Arial"/>
              </a:rPr>
              <a:t>Blue Bubble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ple of a Bullet Point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ullet Poi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ullet Poi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ub Bulle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711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90920"/>
            <a:ext cx="609840" cy="609480"/>
          </a:xfrm>
          <a:prstGeom prst="ellipse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2720" y="266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ec8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Black"/>
              </a:rPr>
              <a:t>TITLE 1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75160" y="1933560"/>
          <a:ext cx="5343480" cy="35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5160" y="1933560"/>
                    <a:ext cx="534348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21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ullet 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ullet 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72360" y="2060640"/>
            <a:ext cx="2093760" cy="3529080"/>
          </a:xfrm>
          <a:prstGeom prst="rect">
            <a:avLst/>
          </a:prstGeom>
          <a:ln w="38160">
            <a:solidFill>
              <a:srgbClr val="365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98280" y="1538280"/>
            <a:ext cx="302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ext and lines are like thi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65b91"/>
                </a:solidFill>
                <a:uFillTx/>
                <a:latin typeface="Arial"/>
              </a:rPr>
              <a:t>Hyperlinks like thi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7c6e4"/>
                </a:solidFill>
                <a:uFillTx/>
                <a:latin typeface="Arial"/>
              </a:rPr>
              <a:t>Visited hyperlinks like thi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97760" y="1851120"/>
          <a:ext cx="2720880" cy="1727280"/>
        </p:xfrm>
        <a:graphic>
          <a:graphicData uri="http://schemas.openxmlformats.org/drawingml/2006/table">
            <a:tbl>
              <a:tblPr/>
              <a:tblGrid>
                <a:gridCol w="1360440"/>
                <a:gridCol w="1360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bl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4056120" y="4324320"/>
            <a:ext cx="2232000" cy="1368360"/>
          </a:xfrm>
          <a:prstGeom prst="rect">
            <a:avLst/>
          </a:prstGeom>
          <a:solidFill>
            <a:srgbClr val="b4d7eb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97720" y="4324320"/>
            <a:ext cx="2232000" cy="1368360"/>
          </a:xfrm>
          <a:prstGeom prst="rect">
            <a:avLst/>
          </a:prstGeom>
          <a:solidFill>
            <a:srgbClr val="b4d7eb"/>
          </a:solidFill>
          <a:ln w="936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02320" y="2638440"/>
            <a:ext cx="57456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Retina</dc:creator>
  <dc:description/>
  <dc:language>en-US</dc:language>
  <cp:lastModifiedBy>Jonty Pearce</cp:lastModifiedBy>
  <dcterms:modified xsi:type="dcterms:W3CDTF">2005-03-29T15:59:29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