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FF3-93BB-4CB2-A76E-6C494B0C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C2E-7CDF-4EC4-B58F-8645F12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EC8-6D12-4483-95AC-1CB750F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8B2-F3E3-4ED9-B514-1F5FAD7A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3E5-DB57-48C0-B359-255A0EE1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8244-610B-48EA-BA30-7820F65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518-B443-4A9E-B272-1976147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265-8069-4172-8AC6-32A62CF6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CA3-EEA7-4992-84D7-1FE8E0DF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A479-4445-4AAD-9347-18D2C54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FC71-C44D-48EF-A3E2-ADEA29F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F13-C4FA-4B2D-862C-9985AF6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08D-7EE2-418E-80CE-CFD12B4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342-BCD0-4F3D-8E22-574871B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D336-C3BC-4C73-B1F2-63F005D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CD8-E4FF-4E42-B0BD-578E938D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F1B-737A-49EE-A17F-8583200C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F51-38E9-4ECD-A3E7-8F15BFAB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E2C-E4EE-4B70-A271-1F0F6F5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EB6-DB49-4A5B-979A-13B930F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455-3B0E-49FD-961C-4B89FF03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1BA-A973-4716-859B-4056D77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3EC-8D94-47B3-97DD-F53DA857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04B-9DEB-42F1-8233-E9826B5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22D-552A-44B0-8CF1-ABB31A320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7CD-C4FF-45EA-BE40-BE44022DF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jonty pearce</dc:creator>
  <dc:description/>
  <dc:language>en-US</dc:language>
  <cp:lastModifiedBy>jonty pearce</cp:lastModifiedBy>
  <dcterms:modified xsi:type="dcterms:W3CDTF">2007-05-29T15:15:13Z</dcterms:modified>
  <cp:revision>1</cp:revision>
  <dc:subject/>
  <dc:title>Business Template</dc:title>
</cp:coreProperties>
</file>