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17C-5111-4A04-8A57-D7E215D6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00B-FDAF-46F0-A6CB-74D834E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86D-617E-4974-89C2-BDF00F7F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D96-507E-4C40-A60B-FF62E1F2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FF2-4976-4A34-A2C1-3EC4EF07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3AE5-7E89-4E02-A7EB-946E289A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DF8-63D1-40FD-A567-5F62F23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A26E-413D-4773-997F-C004B54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9672-CE11-4793-95C4-6CC9234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6CA4-4B53-445C-ADC7-FF230A4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B9F1-99EC-44CB-B23E-82F2788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22C-4734-4E05-BD04-531DBCF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D0E0-3C99-4F3D-9A6A-ED9FE2A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67F6-C2E7-4DC3-A353-1B303C5C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534-F61B-4D85-84D2-25A171D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3ABC-0486-4581-AF39-54590969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78D3-05B2-464A-ADB4-4D18CADB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31F6-BB3F-45B3-8BFC-C55ABC46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A2F-46F9-4AAB-B0F1-C3A47313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7B5-66DD-4CDC-9FC2-D2B9AA00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48920"/>
            <a:ext cx="691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287-9659-4EB7-8254-7DD2E9F2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0E7-0D3D-4169-9D27-6886325E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9D5-2E6D-4B45-86CF-574662FD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A0C-3E32-4853-8CEF-4AAB66B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48894" t="0" r="0" b="20791"/>
          <a:stretch/>
        </p:blipFill>
        <p:spPr>
          <a:xfrm>
            <a:off x="0" y="41911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11319" r="53335" b="0"/>
          <a:stretch/>
        </p:blipFill>
        <p:spPr>
          <a:xfrm>
            <a:off x="7543800" y="0"/>
            <a:ext cx="160020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B50-8863-48A9-86A2-2ADA8BA4CACE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7D8A-BA26-4286-9F28-1EC3A057AA55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80972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9760" y="1862280"/>
            <a:ext cx="289080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8050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ranges Templa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Bullet Point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ahoma"/>
              </a:rPr>
              <a:t>Bullet Poin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Sub Bull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 of a char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2200" y="1757520"/>
          <a:ext cx="713268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757520"/>
                    <a:ext cx="713268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Pictur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Bullet 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95640" y="2816280"/>
            <a:ext cx="3708360" cy="247320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489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Tahoma"/>
              </a:rPr>
              <a:t>Examples of default style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ahoma"/>
              </a:rPr>
              <a:t>Text and lines are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3300"/>
                </a:solidFill>
                <a:uFillTx/>
                <a:latin typeface="Tahoma"/>
              </a:rPr>
              <a:t>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6600"/>
                </a:solidFill>
                <a:uFillTx/>
                <a:latin typeface="Tahoma"/>
              </a:rPr>
              <a:t>Visited hyperlinks like thi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70520" y="2300400"/>
          <a:ext cx="3429000" cy="17589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</a:tblGrid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0561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7720" y="4905360"/>
            <a:ext cx="2232000" cy="13683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5:48:20Z</dcterms:created>
  <dc:creator>Mark Stevenson</dc:creator>
  <dc:description/>
  <dc:language>en-US</dc:language>
  <cp:lastModifiedBy>Pearce</cp:lastModifiedBy>
  <dcterms:modified xsi:type="dcterms:W3CDTF">2006-05-01T14:31:28Z</dcterms:modified>
  <cp:revision>11</cp:revision>
  <dc:subject/>
  <dc:title>Oranges Template</dc:title>
</cp:coreProperties>
</file>