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D5E-C038-45A3-8C6E-43D126E5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99A-2454-4B39-9C93-AC260EB1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F29-A41E-495D-AA85-73F5FAEE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990-F266-46A2-B392-1251D0BF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8A64-BE6E-4102-A330-0F25BD24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0783-7F1C-4CE4-BEB1-EFDEA940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A51C-6F57-4D57-A6BF-5797A841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ABCB-CE41-4436-B709-A825313B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9EB2-D4AC-45F8-B901-01A45C6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2F1B-F3D0-4A56-81E7-E7ABCD21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B95F-D0FA-4D09-A20D-48E93A1E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E4C-EA40-4636-BB2A-4E037A1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1B5D-DC8A-4537-9FE4-7433EB9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E4B4-9610-4F72-8262-56DC6DC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64F9-1169-4DFA-85B6-13239F8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0F57-70F2-4D4F-9BE9-37270700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604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8800" y="160020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6604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8800" y="3964320"/>
            <a:ext cx="234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54D-2277-4A27-BB4B-7E1BD71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C17-5516-4C75-B5DA-A231779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C49-35CB-44E3-8C3A-77CAE3F8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EF9-8EB0-488B-9703-8A851151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37880"/>
            <a:ext cx="63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534-428E-4771-BCFF-66064CC5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38B-993C-4D16-9A51-EB135B6F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5760" y="396432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A2A-B1C4-4CB0-AAE0-19B7846E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5760" y="1600200"/>
            <a:ext cx="3554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3964320"/>
            <a:ext cx="728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7BE-BE54-431C-A001-D8C87F3B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3F3-FD53-443B-953D-2578E7E5D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763A-7A0D-4EA1-BEF9-41A253941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1795b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1795bb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581360"/>
            <a:ext cx="64753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Example Company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56000" y="5457960"/>
            <a:ext cx="6400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Bullet Point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emplates are for personal use only and must not be distributed, sold or displayed on the web by anyone other than Presentation Help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Example of a char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92360" y="1557360"/>
          <a:ext cx="728352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557360"/>
                    <a:ext cx="728352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55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37880"/>
            <a:ext cx="63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ictur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292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795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lle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21160" y="1697040"/>
            <a:ext cx="2374920" cy="4002120"/>
          </a:xfrm>
          <a:prstGeom prst="rect">
            <a:avLst/>
          </a:prstGeom>
          <a:ln w="38160">
            <a:solidFill>
              <a:srgbClr val="1795b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07:02:15Z</dcterms:created>
  <dc:creator>Paul</dc:creator>
  <dc:description/>
  <dc:language>en-US</dc:language>
  <cp:lastModifiedBy>Jonty Pearce</cp:lastModifiedBy>
  <dcterms:modified xsi:type="dcterms:W3CDTF">2005-03-11T15:20:36Z</dcterms:modified>
  <cp:revision>4</cp:revision>
  <dc:subject/>
  <dc:title>Diapozitivul 1</dc:title>
</cp:coreProperties>
</file>