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DBF-C1DB-4DB2-9A6A-B3B277FA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7AF-BF9A-4270-B6CF-F963BEA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C8F-E826-4004-BE73-3BA93DE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5EA-57A1-4D9F-A45F-CC50BAE7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3EB-DC7F-4400-9215-9384782F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0257-6A5B-4B51-8A27-FCC3E4C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9571-6F3F-4B03-911D-CF773B4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C6F2-5EAA-441F-AA16-CCCF714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053-9DCC-4B3C-949A-B857E7D9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6FE-E14F-4932-895E-849187A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BEC-4FC0-458A-A716-7931DEE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1D2-DB6C-47CD-9A10-C345DEED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8F74-5A32-480C-B58B-3C73D522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1C4A-FDEC-4B40-B4EE-39A0AB2A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1FF-069E-41C2-87B9-D04C199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1B2F-75A5-4266-95B1-EBE4472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72E9-4C87-4CB6-A4F8-0F086E5F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153-BD61-4975-A7B8-4C2E1063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59F-752F-4E86-BFFE-63F2FA7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DB2-266D-43D6-B68E-733C49D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F85-A2B5-4B91-901E-AEC7A53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E4F-7F84-4756-9529-3EB9C1B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FF2-377B-4B8C-B7C1-ECBD117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507-CD76-4DED-AE50-25C6BC8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160"/>
            <a:ext cx="9144000" cy="6846840"/>
          </a:xfrm>
          <a:prstGeom prst="rect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1678-F505-4878-A3FE-5106F5393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6C8C-648B-45F1-854E-40B6CD38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26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80"/>
                </a:solidFill>
                <a:latin typeface="Arial"/>
              </a:rPr>
              <a:t>Red lights</a:t>
            </a:r>
            <a:endParaRPr b="0" lang="en-US" sz="72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5844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0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jontypearce</cp:lastModifiedBy>
  <dcterms:modified xsi:type="dcterms:W3CDTF">2006-09-18T11:12:43Z</dcterms:modified>
  <cp:revision>37</cp:revision>
  <dc:subject/>
  <dc:title>Flowers</dc:title>
</cp:coreProperties>
</file>