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CF1D-3893-4A81-8214-683D33E9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648A-1A58-489B-9844-534D6521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6E0-B61D-4010-B5AE-6755C5B2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C3E-EF4C-43C9-B91A-0C7204EA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6A2E-EEAE-4D53-8C16-D5FE900B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6E5C-D7D2-4B8D-8C2C-4C062ADF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7169-908E-44C3-ABC3-F240170E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F857-D34F-49B1-AED4-06FABFF6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B622-9C10-4C30-909A-7BC5E0F3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03B3-456C-492A-BBAA-B2E15F22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AD7D-3192-476F-89C5-24656BFE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791-F23E-4C33-A04C-B62175A6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ECD8-AE96-42F6-B137-4182F491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E3EF-FA72-489E-A327-E61EAC73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A4A7-931A-430A-8887-CC3ADAF5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B98B-65E8-4B70-992B-5083AE43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1BC7-6356-40BB-BBFD-3818BF7E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F6A-0EBF-41B1-8005-2583FD6E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334-6709-4789-AA4F-44E34B6C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9CE-E4F4-4DF2-AE34-8CA292EF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20C-3114-4AF0-9046-9BDDDE06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ED1-21C2-485C-989D-AA3B6554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2099-8CB5-4818-BAEF-23CC31E4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E2D-F154-44A9-BB4D-B17CEC65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58C5-0A87-46C2-9119-F1609984EB4E}" type="slidenum"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8112-4AC1-4549-8896-2EEC80E81084}" type="slidenum"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Business Templat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78120" y="1676520"/>
            <a:ext cx="3586320" cy="268920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66ff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66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66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3497400" y="4114800"/>
            <a:ext cx="2232000" cy="1368360"/>
          </a:xfrm>
          <a:prstGeom prst="rect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ffffff">
                  <a:alpha val="42352"/>
                </a:srgbClr>
              </a:gs>
            </a:gsLst>
            <a:lin ang="54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4114800"/>
            <a:ext cx="2232000" cy="1368360"/>
          </a:xfrm>
          <a:prstGeom prst="rect">
            <a:avLst/>
          </a:prstGeom>
          <a:solidFill>
            <a:srgbClr val="cc66ff">
              <a:alpha val="42000"/>
            </a:srgbClr>
          </a:solidFill>
          <a:ln w="9360">
            <a:solidFill>
              <a:srgbClr val="66ccff"/>
            </a:solidFill>
            <a:miter/>
          </a:ln>
          <a:effectLst>
            <a:outerShdw dist="107932" dir="2700000" blurRad="0" rotWithShape="0">
              <a:srgbClr val="004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nty pearce</cp:lastModifiedBy>
  <dcterms:modified xsi:type="dcterms:W3CDTF">2007-05-29T15:52:51Z</dcterms:modified>
  <cp:revision>56</cp:revision>
  <dc:subject/>
  <dc:title>Flowers</dc:title>
</cp:coreProperties>
</file>