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182-EC11-4171-B877-3C665006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1A8-3A1F-47E3-B6B4-1D2E8E4C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A4EF-DBDB-4E1E-9103-267AEA9B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77D-F695-441D-B7C1-54986B6C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E6D-0BAE-42BB-AB90-6BB7467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754E-45EB-4521-B9E1-45CE8969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D5F-F4AC-4A3B-BA5A-82F2E72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2E74-4C25-4844-8158-74E392B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3752-519B-485E-89BB-F99E003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C01E-8C95-4265-847F-A06362B5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0B77-DD56-4640-8B74-B7A7A52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145-9984-405D-84A7-C5863E84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F03-5F24-4DF6-ACFB-BB65D2C2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3F9A-8F87-4776-8D54-D419102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E846-2564-4807-8A4F-359E6F00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5C1-0E8E-4316-99C3-89AAC19B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315F-D8A6-4959-AE9A-2F874997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818-A36E-4822-866B-9DCE2859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219-37A0-4E78-BF80-CA8BB0D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3C1-3A4A-4EDB-985A-38FE90FC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788-D001-4F86-A5C0-35778772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FB9-E8EC-40EE-BB07-4D2B207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F0F-EC89-494A-A3D8-6CBBDC9D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740-B4AD-482F-A54D-07FC4CA8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1160"/>
            <a:ext cx="9144000" cy="6846840"/>
          </a:xfrm>
          <a:prstGeom prst="rect">
            <a:avLst/>
          </a:prstGeom>
          <a:solidFill>
            <a:srgbClr val="00000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2124-7212-4D98-9651-2BEEFDCA8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DCA-5735-4996-BD7D-6800308F1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266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80"/>
                </a:solidFill>
                <a:latin typeface="Arial"/>
              </a:rPr>
              <a:t>Red lights</a:t>
            </a:r>
            <a:endParaRPr b="0" lang="en-US" sz="72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2001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258444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mplat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40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83808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4114800"/>
            <a:ext cx="2232000" cy="13683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ffice 2004 Test Drive jontypearce</cp:lastModifiedBy>
  <dcterms:modified xsi:type="dcterms:W3CDTF">2006-09-18T11:12:43Z</dcterms:modified>
  <cp:revision>37</cp:revision>
  <dc:subject/>
  <dc:title>Flowers</dc:title>
</cp:coreProperties>
</file>