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7F1-8151-4B36-9A28-F50DB9A8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B75-7A92-4FC4-818C-CC476E4F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B5B-4A59-4B48-A140-E890759D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EA0-E975-4A43-81A5-B307CAD6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48D1-181F-4200-AAAF-22D69D61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2888-2F29-41DD-B5F6-571BB441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04B0-5AA5-4AC0-A3DA-CDB9BFFD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3901-8B0A-455C-9D1E-EAD98858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E325-8152-4A35-8D7A-AFDBED5A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37880"/>
            <a:ext cx="63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D84B-AFE6-4070-905C-C78D8CC4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8F2F-F842-4DC6-8905-616BB4FF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9E7-4600-46FD-97C0-80A6DE57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E6B0-2944-4CCA-82FD-8CAD3516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16A7-9CD3-48C6-935E-D7F76344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9F41-48FE-41E6-9F75-0AD45F5B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DDB1-65AA-4BDB-8240-EEDBD674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5920-2C6B-4C2C-BD41-E7C478EF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BC0-E0F4-4D02-BD6C-D683C3CF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4AB-E596-4913-8D4B-3F00A503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5F4-95E5-4D5A-B2AA-0167AC43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37880"/>
            <a:ext cx="63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11B-E9B4-42A9-A8F0-9422C776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8CB-8109-4F4F-8C7A-2ACA4204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138-291D-416E-B0CC-DF625596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CF6-B7A3-4CAF-AA32-BA1722A5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795b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9541-BA24-4618-AFBE-523110D0F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84000" y="4581360"/>
            <a:ext cx="6475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5459-A16E-4D76-8595-75446FFFA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1795b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84000" y="4581360"/>
            <a:ext cx="6475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Example Compan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56000" y="5457960"/>
            <a:ext cx="64008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arketing Pla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Example Bullet Point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templates are for personal use only and must not be distributed, sold or displayed on the web by anyone other than Presentation Help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Example of a char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92360" y="1557360"/>
          <a:ext cx="728352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557360"/>
                    <a:ext cx="72835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icture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21160" y="1697040"/>
            <a:ext cx="2374920" cy="4002120"/>
          </a:xfrm>
          <a:prstGeom prst="rect">
            <a:avLst/>
          </a:prstGeom>
          <a:ln w="38160">
            <a:solidFill>
              <a:srgbClr val="1795b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7:02:15Z</dcterms:created>
  <dc:creator>Paul</dc:creator>
  <dc:description/>
  <dc:language>en-US</dc:language>
  <cp:lastModifiedBy>Jonty Pearce</cp:lastModifiedBy>
  <dcterms:modified xsi:type="dcterms:W3CDTF">2005-03-11T15:20:36Z</dcterms:modified>
  <cp:revision>4</cp:revision>
  <dc:subject/>
  <dc:title>Diapozitivul 1</dc:title>
</cp:coreProperties>
</file>