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B2B-77E3-457F-B6E8-027239AB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24C-0BFF-4E82-BBCA-17D93016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183-5E5D-4E54-B918-7567DC68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B8D-4552-43FB-9479-E5EB96FB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4FB-6D99-4784-922B-6B2E2B65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BDE-8EA6-4BF6-8AF6-F872A4B2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4B1-9D38-4EAA-8B30-DD1A0537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C88-BD2D-4FE8-9024-7338819E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E00-9BB3-4D54-8FF1-987EB7D8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D20-F361-4144-989A-013E6868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940-29A8-4220-845E-DC882FD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AC8-60FC-429F-A90A-ACD6DC9B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4D2D-1F46-45E8-AA9F-279384A39DF2}" type="slidenum"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99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99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55Z</dcterms:created>
  <dc:creator> </dc:creator>
  <dc:description/>
  <dc:language>en-US</dc:language>
  <cp:lastModifiedBy> </cp:lastModifiedBy>
  <dcterms:modified xsi:type="dcterms:W3CDTF">2005-01-17T11:27:12Z</dcterms:modified>
  <cp:revision>2</cp:revision>
  <dc:subject/>
  <dc:title>Slide 1</dc:title>
</cp:coreProperties>
</file>