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C1D-8642-4525-9618-4D3A44B6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939-1459-46E8-A1C7-1D29340B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167-8783-4A50-8BDA-935BD6AD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EBB-343B-446F-B35E-62F4C4A1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E820-3EFD-4789-8763-B80FFE57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75DF-7562-4466-B668-F11103A3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AB4D-871E-4092-B74F-5B26A38B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AABF-8991-46E3-A1DB-74E9B4BC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F014-C1F6-4033-A6CB-5041FEA4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87AC-E9F2-4120-8AB4-24D728E5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2EAC-A592-425A-A5A5-970B1457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ED0-B588-4874-B1D3-43C9C41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F5B6-38CA-45D6-BBA6-83AAA95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2B37-D9B6-4859-BCB8-2F6DA05A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6AEA-75A8-4051-BA76-91ACF884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39BC-B6B7-4582-8931-F9C3C99D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5E1F-6452-4E02-A7C7-5E8F1874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92D-A5DD-4544-BF84-8F0B42F2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25C-6A3A-4E07-9A50-6371B00D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980-CCCC-4369-BEA3-291EF6BB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24A-6CF6-42B9-AFC7-4E12AAB9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AFC-5009-4009-ABAE-B57C4EF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047-51DD-4ECB-84BC-A4DC1735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AD1-BE16-487C-B558-365FA746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A483-4324-4E6D-AC4C-C7410F9C6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99BD-6F60-4BA4-BB5C-A721D9BAE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Example Compan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5457960"/>
            <a:ext cx="64008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Bullet Point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of a char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92360" y="1557360"/>
          <a:ext cx="728352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557360"/>
                    <a:ext cx="72835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ictur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21160" y="1697040"/>
            <a:ext cx="2374920" cy="4002120"/>
          </a:xfrm>
          <a:prstGeom prst="rect">
            <a:avLst/>
          </a:prstGeom>
          <a:ln w="38160">
            <a:solidFill>
              <a:srgbClr val="1795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aul</dc:creator>
  <dc:description/>
  <dc:language>en-US</dc:language>
  <cp:lastModifiedBy>Jonty Pearce</cp:lastModifiedBy>
  <dcterms:modified xsi:type="dcterms:W3CDTF">2005-03-11T15:20:36Z</dcterms:modified>
  <cp:revision>4</cp:revision>
  <dc:subject/>
  <dc:title>Diapozitivul 1</dc:title>
</cp:coreProperties>
</file>