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B6E9-3C03-42F9-BA70-0A4242E5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DA15-6E36-49C1-A9DB-5FBEA632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7584-1872-483F-BA77-9E8AD7A5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8871-EB6F-4FD6-8F66-1E3118D5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2828-131B-47C6-8D74-3C9348F2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56A8-1514-4B5C-BCB1-9F55EA9D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4C98-0E16-4E6A-BFF8-A3A42A82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375B-B4E6-4443-AAC2-331C29D2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3147-406E-46C5-A7B3-7C0F12CC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4D12-01E3-4B21-97D0-D9A6DF84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0059-BA64-4FDF-9506-83CB00B0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732-2012-4C29-859E-83AC5EC9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6593-7C0C-4153-914B-F888EC77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28E0-7146-4335-8F8B-3FC67FF1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BB5A-A490-4456-B9D1-D1B0D2D2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DDB2-764B-4400-AA66-3CF913F4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BCE7-6EF5-4F3D-B61B-4C633F59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567B-F97F-40B6-B52A-580653F1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DD15-2553-4738-AEFC-1DA9C048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6D15-96FD-46C9-8177-89BCE419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E84F-6565-4187-873E-8815FA73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D1E6-84FE-47E5-AA54-0AD803CD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9825-835E-4DEE-AFBC-FAE0D6E8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3556-0E6E-48A7-8A1B-086F60F1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3816" t="1056" r="4581" b="18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D71C-3B63-4800-A834-05667DB0FF16}" type="slidenum"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3816" t="1056" r="4581" b="18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C3A5-68EA-4CA9-A6CE-DD4CC39FA977}" type="slidenum"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cc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cc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6cc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71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Business Templat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cc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66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27160" y="1219320"/>
          <a:ext cx="606276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219320"/>
                    <a:ext cx="606276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78120" y="1676520"/>
            <a:ext cx="3586320" cy="2689200"/>
          </a:xfrm>
          <a:prstGeom prst="rect">
            <a:avLst/>
          </a:prstGeom>
          <a:ln w="76320">
            <a:solidFill>
              <a:srgbClr val="66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66ff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66ff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66cc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994280" y="1701720"/>
          <a:ext cx="3630600" cy="172728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66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1368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66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ccff"/>
                      </a:solidFill>
                    </a:lnL>
                    <a:lnR w="1368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13680">
                      <a:solidFill>
                        <a:srgbClr val="66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3497400" y="4114800"/>
            <a:ext cx="2232000" cy="1368360"/>
          </a:xfrm>
          <a:prstGeom prst="rect">
            <a:avLst/>
          </a:prstGeom>
          <a:gradFill rotWithShape="0">
            <a:gsLst>
              <a:gs pos="0">
                <a:srgbClr val="ffffff">
                  <a:alpha val="42352"/>
                </a:srgbClr>
              </a:gs>
              <a:gs pos="100000">
                <a:srgbClr val="ffffff">
                  <a:alpha val="42352"/>
                </a:srgbClr>
              </a:gs>
            </a:gsLst>
            <a:lin ang="5400000"/>
          </a:gra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92880" y="4114800"/>
            <a:ext cx="2232000" cy="1368360"/>
          </a:xfrm>
          <a:prstGeom prst="rect">
            <a:avLst/>
          </a:prstGeom>
          <a:solidFill>
            <a:srgbClr val="cc66ff">
              <a:alpha val="42000"/>
            </a:srgbClr>
          </a:solidFill>
          <a:ln w="9360">
            <a:solidFill>
              <a:srgbClr val="66ccff"/>
            </a:solidFill>
            <a:miter/>
          </a:ln>
          <a:effectLst>
            <a:outerShdw dist="107932" dir="2700000" blurRad="0" rotWithShape="0">
              <a:srgbClr val="004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66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ccff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nty pearce</cp:lastModifiedBy>
  <dcterms:modified xsi:type="dcterms:W3CDTF">2007-05-29T15:52:51Z</dcterms:modified>
  <cp:revision>56</cp:revision>
  <dc:subject/>
  <dc:title>Flowers</dc:title>
</cp:coreProperties>
</file>