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ABC-A1AA-40DD-8998-68A063BD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3CB-CCEB-47E2-974E-FEC38A3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F34-BFFB-4B25-A794-8050DDD6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7BD-C83A-47D8-B1F2-B31C1CB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27C-6882-4947-9371-E5F65D55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D0FE-2B34-455C-9D23-4A66A0EE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11CC-BB88-4527-9FB6-0CA6DA28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F87-243A-4B4B-BDDC-E9E6DC3F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065E-34AE-485D-917D-A8153A61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9154-FF36-4967-A3AB-B7D787D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A9F-EBA4-46D9-91DB-59235A70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3450-494C-4D92-9264-AF763B7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B7FE-15C0-419E-973F-A1E50D84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D568-0FB5-459A-A4B8-AB14D135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D5D0-4D1C-4052-BEF3-94A913FD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4EF-0F3D-462F-9539-26905AC4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DDB-3B32-41B3-AF9B-12FD1C42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90E-E65F-4C04-9EA8-88F39452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90-A15D-46E2-9AEC-A8843B7A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8F9-B6DF-4D12-9D24-67D6E066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170-8248-4EE6-9516-D942526F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B6BB-662C-435F-9BD4-2CE5719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BE6-C85E-4284-9120-D181C65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9687-DEFD-4538-970D-F06B5EE2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7233-8F4B-4B98-859F-E7B14C379C11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9080" y="0"/>
            <a:ext cx="9182160" cy="68580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2192" r="0" b="221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DC5-299E-4ECA-B4AE-46133F942C5D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1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91919"/>
                </a:solidFill>
                <a:latin typeface="Arial"/>
              </a:rPr>
              <a:t>Business Template</a:t>
            </a:r>
            <a:endParaRPr b="0" lang="en-US" sz="7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ample of a Bullet Point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 of a char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27160" y="1219320"/>
          <a:ext cx="606276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219320"/>
                    <a:ext cx="60627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778120" y="1654200"/>
            <a:ext cx="3586320" cy="2689200"/>
          </a:xfrm>
          <a:prstGeom prst="rect">
            <a:avLst/>
          </a:prstGeom>
          <a:ln w="76320">
            <a:solidFill>
              <a:srgbClr val="3333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ccff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ff80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6ccff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994280" y="1701720"/>
          <a:ext cx="3630600" cy="172728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497400" y="4114800"/>
            <a:ext cx="2232000" cy="1368360"/>
          </a:xfrm>
          <a:prstGeom prst="rect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ffff">
                  <a:alpha val="42352"/>
                </a:srgbClr>
              </a:gs>
            </a:gsLst>
            <a:lin ang="5400000"/>
          </a:gradFill>
          <a:ln w="936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92880" y="4114800"/>
            <a:ext cx="2232000" cy="1368360"/>
          </a:xfrm>
          <a:prstGeom prst="rect">
            <a:avLst/>
          </a:prstGeom>
          <a:solidFill>
            <a:srgbClr val="00ff80">
              <a:alpha val="42000"/>
            </a:srgbClr>
          </a:solidFill>
          <a:ln w="9360">
            <a:solidFill>
              <a:srgbClr val="333333"/>
            </a:solidFill>
            <a:miter/>
          </a:ln>
          <a:effectLst>
            <a:outerShdw dist="107932" dir="2700000" blurRad="0" rotWithShape="0">
              <a:srgbClr val="cccc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With shadow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5:30:11Z</dcterms:created>
  <dc:creator>jonty pearce</dc:creator>
  <dc:description/>
  <dc:language>en-US</dc:language>
  <cp:lastModifiedBy>jonty pearce</cp:lastModifiedBy>
  <dcterms:modified xsi:type="dcterms:W3CDTF">2007-05-29T15:32:53Z</dcterms:modified>
  <cp:revision>1</cp:revision>
  <dc:subject/>
  <dc:title>Business Template</dc:title>
</cp:coreProperties>
</file>