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D17-60F7-44DF-B1B7-D8CA9620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6AA-8A01-404F-9AEC-DD7DFDB4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29D-E6F6-4B01-8AA2-FBEEFC78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7C3-D0AE-4548-904D-45B9455A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60F-217B-44D4-9DF7-7E578442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8A0-48D3-4A0A-BDEE-EA2BFFA3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EC8-6483-48F5-BEED-2C6DF3F0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689-4875-40D8-9F7A-98E0F765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AF8-6CFD-4D34-9D72-AF6696D5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951-8AA0-4CCD-8129-C0F3CF94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274-FC0F-4683-9082-06F74385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39E-2B6B-46C0-A24B-F2994913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E7AE-9A09-451E-968A-C76BD312A5B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 </dc:creator>
  <dc:description/>
  <dc:language>en-US</dc:language>
  <cp:lastModifiedBy> </cp:lastModifiedBy>
  <dcterms:modified xsi:type="dcterms:W3CDTF">2005-01-17T11:26:22Z</dcterms:modified>
  <cp:revision>2</cp:revision>
  <dc:subject/>
  <dc:title>Slide 1</dc:title>
</cp:coreProperties>
</file>