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977-9D0A-4A95-95EA-C388568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0A6-310E-4281-9358-8615F278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4D4-3D8C-4DF4-9738-E3C63ACF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A97-F82A-488F-BFA5-C101B8B5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641B-2778-4971-B46F-0DD1CD8C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845-5F01-4C04-AD8D-1325E399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2607-23C2-4EC8-88A0-C07B7073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26A9-BEC8-464E-B3CB-B6C4CE46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782-D176-474C-B711-6D48A55A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68B8-53EF-44DC-AAE8-7712B32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39E-63C1-40F3-89FD-5275CD5A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229-0738-4222-9C56-9D81250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9059-0F5B-4AF1-9368-7492B76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052-761E-46DD-B740-0A79DD7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2BB0-B259-415E-81BE-35AFB2ED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4F7A-7A0F-41FE-A044-653035CA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5F0F-BB7A-48C5-88C9-B2435B89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5A2-B802-4DCD-A39C-E465351E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486-C139-4152-BF3E-F48563A6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34E-EE88-484C-B0D5-3ED33C83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320-854A-43DF-AD3C-C2301CA4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CBF-BB1C-4FEC-870A-398EA73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81A-3908-411B-8B0D-2D93BB4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CFF-D764-42B5-84F4-3E60389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F88F-5BEB-4E41-8F94-BB82B7200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84F-D46A-48AA-A05A-0925A7808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jonty pearce</dc:creator>
  <dc:description/>
  <dc:language>en-US</dc:language>
  <cp:lastModifiedBy>jonty pearce</cp:lastModifiedBy>
  <dcterms:modified xsi:type="dcterms:W3CDTF">2007-05-29T15:15:13Z</dcterms:modified>
  <cp:revision>1</cp:revision>
  <dc:subject/>
  <dc:title>Business Template</dc:title>
</cp:coreProperties>
</file>