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C659-EF51-4A9A-A08B-E5E1166CF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6BF3-AB04-4612-BD20-850DEC25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362D-F599-49A1-93D0-E92218EF3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06EC-AFC3-4939-854B-8BE8D5227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CD10-9913-48EC-90FB-BEF6667A2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0A2D-10A4-4BC3-BBAB-1827C33D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7CCE-B52C-4252-AAF5-58140E74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FDFD-EBD4-4BA8-80AA-1AF0B3EE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F299-E68C-4B17-BA52-F5CC6003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51178-0B62-4AC5-962A-7A7EDCE8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6F31-DAD1-4FB8-AE76-424B06A5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3679-0F4A-498E-9BE4-771F0531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DB0F2-7115-4BEF-8634-5D591113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3E5F-A5AB-4FF6-87E0-00776EB9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BBC3-D3D1-4FD2-9B5D-E2DF4B9C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077C-D5F4-4DFE-8A4C-ABBAF4164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8324-5FFD-4EAA-9652-665D6364A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686D-D17E-423C-BD9D-0A7A28FD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D4AF-2DB2-4C90-A2A1-4DFC121C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DCA5-0EED-4816-AF12-C7287A9E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258F-EADB-4E55-86FF-23EC9AA7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0D5B-A85B-4AE8-AF4B-BC23EFF7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D9DB-A72C-4E43-AE4F-D1679316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E979-441B-4172-8814-3619E448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3118" r="0" b="31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8FFD-D642-4ECF-913F-8E57290C9F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3128" r="0" b="31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BCC7-0D4B-46EF-9B3C-82CEC373D5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71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Business Template</a:t>
            </a:r>
            <a:endParaRPr b="0" lang="en-US" sz="72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70360" y="1719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080"/>
                </a:solidFill>
                <a:latin typeface="Arial"/>
              </a:rPr>
              <a:t>Example of a Bullet Point Slide</a:t>
            </a: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b Bull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080"/>
                </a:solidFill>
                <a:latin typeface="Arial"/>
              </a:rPr>
              <a:t>Example of a chart</a:t>
            </a: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027160" y="1219320"/>
          <a:ext cx="6062760" cy="37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7160" y="1219320"/>
                    <a:ext cx="6062760" cy="37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080"/>
                </a:solidFill>
                <a:latin typeface="Arial"/>
              </a:rPr>
              <a:t>Picture slide</a:t>
            </a: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778120" y="1676520"/>
            <a:ext cx="3586320" cy="2689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080"/>
                </a:solidFill>
                <a:latin typeface="Arial"/>
              </a:rPr>
              <a:t>Examples of default styles</a:t>
            </a:r>
            <a:endParaRPr b="0" lang="en-US" sz="4400" spc="-1" strike="noStrike">
              <a:solidFill>
                <a:srgbClr val="00408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xt and lines are like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333333"/>
                </a:solidFill>
                <a:uFillTx/>
                <a:latin typeface="Arial"/>
              </a:rPr>
              <a:t>Hyperlinks like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66ffff"/>
                </a:solidFill>
                <a:uFillTx/>
                <a:latin typeface="Arial"/>
              </a:rPr>
              <a:t>Visited hyperlinks like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994280" y="1701720"/>
          <a:ext cx="3630600" cy="1727280"/>
        </p:xfrm>
        <a:graphic>
          <a:graphicData uri="http://schemas.openxmlformats.org/drawingml/2006/table">
            <a:tbl>
              <a:tblPr/>
              <a:tblGrid>
                <a:gridCol w="1816200"/>
                <a:gridCol w="181440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3497400" y="4114800"/>
            <a:ext cx="2232000" cy="1368360"/>
          </a:xfrm>
          <a:prstGeom prst="rect">
            <a:avLst/>
          </a:prstGeom>
          <a:gradFill rotWithShape="0">
            <a:gsLst>
              <a:gs pos="0">
                <a:srgbClr val="ffffff">
                  <a:alpha val="42352"/>
                </a:srgbClr>
              </a:gs>
              <a:gs pos="100000">
                <a:srgbClr val="ffffff">
                  <a:alpha val="42352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92880" y="4114800"/>
            <a:ext cx="2232000" cy="1368360"/>
          </a:xfrm>
          <a:prstGeom prst="rect">
            <a:avLst/>
          </a:prstGeom>
          <a:solidFill>
            <a:srgbClr val="333333">
              <a:alpha val="42000"/>
            </a:srgbClr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4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ith shad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14:52:18Z</dcterms:created>
  <dc:creator>jonty pearce</dc:creator>
  <dc:description/>
  <dc:language>en-US</dc:language>
  <cp:lastModifiedBy>jonty pearce</cp:lastModifiedBy>
  <dcterms:modified xsi:type="dcterms:W3CDTF">2007-05-29T15:15:13Z</dcterms:modified>
  <cp:revision>1</cp:revision>
  <dc:subject/>
  <dc:title>Business Template</dc:title>
</cp:coreProperties>
</file>