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8DB-0740-4E53-80A3-61D13933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A2B-B45E-4B28-9DF6-FA799D90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5EB-2520-42FB-8A5B-543A4232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548-5462-4928-B389-EAAA8E9C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FAC-E51E-4F56-973A-6DFA129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586-D1BA-4D60-9AB3-B92F1DB8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C09-397D-4951-9E7C-A9A8DD83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00A-1C9C-4020-B3F6-C7EF1C51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E9E-B163-4F45-A39C-63716073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231-7397-47A1-B70C-2BCA577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CD4-ED55-4DC9-A62D-DFC916FC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7FB-1C27-400A-A042-D59D592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E879-3FAC-4081-918A-B28D405241F3}" type="slidenum"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99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ffffcc"/>
              </a:buClr>
              <a:buSzPct val="6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99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55Z</dcterms:created>
  <dc:creator> </dc:creator>
  <dc:description/>
  <dc:language>en-US</dc:language>
  <cp:lastModifiedBy> </cp:lastModifiedBy>
  <dcterms:modified xsi:type="dcterms:W3CDTF">2005-01-17T11:27:12Z</dcterms:modified>
  <cp:revision>2</cp:revision>
  <dc:subject/>
  <dc:title>Slide 1</dc:title>
</cp:coreProperties>
</file>