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D9E-29FF-4012-9512-0379625C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DBA-41ED-40BB-9079-0828D1E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5DF-AC34-4D79-8C04-AB1BE5B8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F56-07BD-4290-9B4A-91349AB9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985C-B643-478D-897F-FD3979D5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C84E-6196-4E05-ACA4-245031C0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E5D9-1F96-4EDB-AFA3-D5300555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F13-E582-4814-B48A-D602AB22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26FD-EC6B-4676-8B19-2E79F82F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775-34EE-4B02-9FAC-C21A04ED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8F82-21E0-4F33-9C1E-522BBC0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FD8-D693-469A-9361-707782C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45E-4CB0-497E-A2AE-AFA2E95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29B-59D0-4ED7-AD26-8F099BE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F28C-8B5E-4CB3-85B4-2EED2518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EC5-25BA-483D-92BB-F9DA9FB3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D734-2355-464C-99B9-D63F72FD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E70-0F48-4F07-9AA2-8560083B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57E-F0DF-4CB9-8499-7C161D20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D46-2E34-4BC5-94B2-24425D5E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DAD-47FB-4B80-8E1C-4695925C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A77-5480-4A79-BEE4-769BA53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E87-B879-44E6-A158-0CFF1B67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EE8-CCA1-40ED-A7B1-4FDE05E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B21C-FC31-4A14-BED5-3FA51EDEF9BC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A920-2408-4460-852B-F310B30FC97A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ff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cc66ff">
              <a:alpha val="42000"/>
            </a:srgbClr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ty pearce</cp:lastModifiedBy>
  <dcterms:modified xsi:type="dcterms:W3CDTF">2007-05-29T15:52:51Z</dcterms:modified>
  <cp:revision>56</cp:revision>
  <dc:subject/>
  <dc:title>Flowers</dc:title>
</cp:coreProperties>
</file>