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1E22-DE93-44DC-A4A5-F0E09476B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0861-6F55-42C0-B73F-0A49AF4D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442A-BC36-4FD4-9782-2184410F1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0D88-01BD-4B4B-913C-0EC5BBCED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7ABD-5282-4421-ACBA-E4456AD8B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4549-A2D2-4E47-92E2-DF4492BF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405C-8F27-4DB7-8EAC-04BDB13A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6EF3D-53CE-41BD-A9CB-1F781BC7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A271-BC67-4E86-8057-127DF363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448920"/>
            <a:ext cx="691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65A2-F05F-4ACE-8E76-0D771255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6310-88E4-4E8A-ABD5-A56CD310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848B-35BF-43A9-B64B-409682EE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8451-0B01-4009-9C66-46E0D7EB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C99A1-1768-4377-8B1C-901B5A18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8BA69-A0E2-410B-805C-DB26BB5E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4E91-5E1A-4C14-85AA-72499FE0A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224E-E047-4B5F-A0F8-B9437ACD4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CD7A-0047-40FA-87F3-02986529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90B5-23FD-4D07-9F6F-554C5C25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416D-AD9A-45CF-9FFF-DB9CBB1F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448920"/>
            <a:ext cx="691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39C9-E0B1-404A-A0E0-869B3392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3D7D-1175-494D-AF04-50CD4379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6FBE-2ACE-49A2-9ACB-7F8472A8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90EC-821D-41F2-8284-DD217D2D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48894" t="0" r="0" b="20791"/>
          <a:stretch/>
        </p:blipFill>
        <p:spPr>
          <a:xfrm>
            <a:off x="0" y="4191120"/>
            <a:ext cx="1752480" cy="26668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11319" r="53335" b="0"/>
          <a:stretch/>
        </p:blipFill>
        <p:spPr>
          <a:xfrm>
            <a:off x="7543800" y="0"/>
            <a:ext cx="1600200" cy="2986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ED79-E6F2-438D-8E1A-180A88AF3B12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E2374-271D-47FD-A50F-714FAC9CF03B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49760" y="1862280"/>
            <a:ext cx="2890800" cy="2786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828800" y="1809720"/>
            <a:ext cx="2895480" cy="2843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99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99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49760" y="1862280"/>
            <a:ext cx="2890800" cy="2786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828800" y="1805040"/>
            <a:ext cx="2895480" cy="28432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Oranges Templat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ahoma"/>
              </a:rPr>
              <a:t>Example of a Bullet Point Slid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ahoma"/>
              </a:rPr>
              <a:t>Bullet Poin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ahoma"/>
              </a:rPr>
              <a:t>Bullet Poin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ahoma"/>
              </a:rPr>
              <a:t>Sub Bulle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ahoma"/>
              </a:rPr>
              <a:t>Example of a char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492200" y="1757520"/>
          <a:ext cx="7132680" cy="37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2200" y="1757520"/>
                    <a:ext cx="7132680" cy="37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ahoma"/>
              </a:rPr>
              <a:t>Picture slid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ahoma"/>
              </a:rPr>
              <a:t>Bullet 1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ahoma"/>
              </a:rPr>
              <a:t>Bullet 1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95640" y="2816280"/>
            <a:ext cx="3708360" cy="247320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ahoma"/>
              </a:rPr>
              <a:t>Examples of default styles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ahoma"/>
              </a:rPr>
              <a:t>Text and lines are like thi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cc3300"/>
                </a:solidFill>
                <a:uFillTx/>
                <a:latin typeface="Tahoma"/>
              </a:rPr>
              <a:t>Hyperlinks like thi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cc6600"/>
                </a:solidFill>
                <a:uFillTx/>
                <a:latin typeface="Tahoma"/>
              </a:rPr>
              <a:t>Visited hyperlinks like thi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970520" y="2300400"/>
          <a:ext cx="3429000" cy="1758960"/>
        </p:xfrm>
        <a:graphic>
          <a:graphicData uri="http://schemas.openxmlformats.org/drawingml/2006/table">
            <a:tbl>
              <a:tblPr/>
              <a:tblGrid>
                <a:gridCol w="1714320"/>
                <a:gridCol w="1714680"/>
              </a:tblGrid>
              <a:tr h="87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Table</a:t>
                      </a:r>
                      <a:endParaRPr b="0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4056120" y="4905360"/>
            <a:ext cx="2232000" cy="136836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97720" y="4905360"/>
            <a:ext cx="2232000" cy="136836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99"/>
            </a:solidFill>
            <a:miter/>
          </a:ln>
          <a:effectLst>
            <a:outerShdw dist="107932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With shadow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48:20Z</dcterms:created>
  <dc:creator>Mark Stevenson</dc:creator>
  <dc:description/>
  <dc:language>en-US</dc:language>
  <cp:lastModifiedBy>Pearce</cp:lastModifiedBy>
  <dcterms:modified xsi:type="dcterms:W3CDTF">2006-05-01T14:31:28Z</dcterms:modified>
  <cp:revision>11</cp:revision>
  <dc:subject/>
  <dc:title>Oranges Template</dc:title>
</cp:coreProperties>
</file>