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550-539B-4523-B467-43275273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85E-1154-4420-A9BF-CC3FAA1F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0D7-9FD2-43DD-92E2-E8CEC1F0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F31-0ED4-46C2-8AC0-AF2EC1BB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1D32-0BB1-46CF-ABAA-8D10725A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925E-DCAF-42F9-BEC6-443BEE97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08DC-8484-4261-A2EB-47529169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6899-154F-4C9C-8BF2-7A747C15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50A0-3C05-404B-9E3F-937849A5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C638-FA85-4D44-AE80-B5B275C7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AE83-BD45-4F84-8539-1E9D5818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771-CF24-47F0-BC05-EADB9DF7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1843-883C-47F7-BF01-C7A24A40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7507-DE7C-4E36-8FB9-A8418DFC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D5A4-257B-4DB2-8B59-EB87AFB0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6804-70E7-47FC-BC42-C8F0EBF1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70D7-E239-421F-AEA5-26B26CD0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894-3116-4D27-856A-128A60A8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E09-2300-4067-A81A-606A7447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E941-D4B1-4F58-8CB3-4E964AFC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917-F249-4029-B75A-C38D9D3E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7CE-7E17-4783-BA97-C57C60C0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2D2-638D-4BC1-BD8B-6D7F13EB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6FC-5790-4E73-9DBA-C1072D35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7476-CFEE-4D53-BCFA-59843DD573E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7F5B-3EBB-4A12-9E6B-E1F2A1A74D9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Plain Sail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95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92200" y="1417680"/>
          <a:ext cx="713268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1417680"/>
                    <a:ext cx="713268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58080" y="1600200"/>
            <a:ext cx="2628720" cy="328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994280" y="1887480"/>
          <a:ext cx="3630600" cy="1581120"/>
        </p:xfrm>
        <a:graphic>
          <a:graphicData uri="http://schemas.openxmlformats.org/drawingml/2006/table">
            <a:tbl>
              <a:tblPr/>
              <a:tblGrid>
                <a:gridCol w="1815120"/>
                <a:gridCol w="181548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4056120" y="3824280"/>
            <a:ext cx="2232000" cy="1368360"/>
          </a:xfrm>
          <a:prstGeom prst="rect">
            <a:avLst/>
          </a:prstGeom>
          <a:solidFill>
            <a:srgbClr val="b9b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97720" y="3824280"/>
            <a:ext cx="2232000" cy="1368360"/>
          </a:xfrm>
          <a:prstGeom prst="rect">
            <a:avLst/>
          </a:prstGeom>
          <a:solidFill>
            <a:srgbClr val="b9b9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upplementary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8:46:04Z</dcterms:created>
  <dc:creator>Pearce</dc:creator>
  <dc:description/>
  <dc:language>en-US</dc:language>
  <cp:lastModifiedBy>Pearce</cp:lastModifiedBy>
  <dcterms:modified xsi:type="dcterms:W3CDTF">2006-03-21T10:11:46Z</dcterms:modified>
  <cp:revision>7</cp:revision>
  <dc:subject/>
  <dc:title>Slide 1</dc:title>
</cp:coreProperties>
</file>