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4085B-6689-4EB7-897C-F9AA21351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D1FF5-9BCD-4014-86CF-A0547E672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3B7AA-AFAB-4543-9721-81EE4BDA2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28F6D-1867-4DE3-91EF-CED31587E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54E72-172D-4348-AEEB-E2C767C2A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66CA6-18C7-4857-B36B-3F1169B72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A53E3-6A32-4D88-93CF-FC5687F90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73F11-AA85-4787-A143-C00B881E6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8D246-4EA5-49B8-9DE2-EB52B316B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3B922-6194-4A58-8BA7-4D4E3EF00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9D92-5485-44B3-9657-6FF0E5378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B42F4-C9C5-4016-99D9-A72C7C31C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91CF-5E57-4FA2-80A9-63CAE7EBD5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42" name="PlaceHolder 2"/>
          <p:cNvSpPr>
            <a:spLocks noGrp="1"/>
          </p:cNvSpPr>
          <p:nvPr>
            <p:ph type="subTitle"/>
          </p:nvPr>
        </p:nvSpPr>
        <p:spPr>
          <a:xfrm>
            <a:off x="2895120" y="3962520"/>
            <a:ext cx="2667240" cy="838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quản trị chiến lượ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ết kế: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 hoạch định</a:t>
            </a:r>
            <a:endParaRPr b="0" i="1"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ết lập mục tiêu</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ngoài</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trong</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ụ thể hóa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kế hoạch cho toàn bộ quá tr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ự cải tiến và cấu trúc ngà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ạnh tranh như một quá trình được thúc đẩy bằng cải tiế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iến thành công có thể cách mạng hóa cấu trúc ngành</a:t>
            </a:r>
            <a:endParaRPr b="0" lang="en-US" sz="2400" spc="-1" strike="noStrike">
              <a:solidFill>
                <a:srgbClr val="000000"/>
              </a:solidFill>
              <a:latin typeface="Arial"/>
            </a:endParaRPr>
          </a:p>
        </p:txBody>
      </p:sp>
      <p:pic>
        <p:nvPicPr>
          <p:cNvPr id="494" name="" descr=""/>
          <p:cNvPicPr/>
          <p:nvPr/>
        </p:nvPicPr>
        <p:blipFill>
          <a:blip r:embed="rId1"/>
          <a:stretch/>
        </p:blipFill>
        <p:spPr>
          <a:xfrm>
            <a:off x="4648320" y="2666880"/>
            <a:ext cx="4038480" cy="2033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6"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cấu trúc ngành đang bị cách mạng hóa bởi sự cải tiến, giá trị di trú đến các mô hình kinh doanh mới.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hình năm lực lượng cạnh tranh và nhóm chiến lược là tĩnh tại, có thể là công cụ hữu ích cho việc phân tích cấu trúc ngành trong thời kỳ ổn định.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trúc của những ngành như thế bị cách mạng hóa liên tục bởi cải tiến ; không có thời kỳ cân bằng </a:t>
            </a:r>
            <a:r>
              <a:rPr b="0" lang="en-US" sz="2800" spc="-1" strike="noStrike">
                <a:solidFill>
                  <a:srgbClr val="000000"/>
                </a:solidFill>
                <a:latin typeface="Wingdings"/>
                <a:ea typeface="Wingdings"/>
              </a:rPr>
              <a:t></a:t>
            </a:r>
            <a:r>
              <a:rPr b="0" lang="en-US" sz="2800" spc="-1" strike="noStrike">
                <a:solidFill>
                  <a:srgbClr val="000000"/>
                </a:solidFill>
                <a:latin typeface="Arial"/>
              </a:rPr>
              <a:t>mô hình năm lực lượng cạnh tranh và nhóm chiến lược có giá trị bị hạn ch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8"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Cấu trúc ngành và các khác biệt của công 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uồn lực và năng lực khác biệt của một công ty là yếu tố quan trọng hơn nhiều </a:t>
            </a:r>
            <a:r>
              <a:rPr b="0" lang="en-US" sz="2400" spc="-1" strike="noStrike">
                <a:solidFill>
                  <a:srgbClr val="000000"/>
                </a:solidFill>
                <a:latin typeface="Wingdings"/>
                <a:ea typeface="Wingdings"/>
              </a:rPr>
              <a:t></a:t>
            </a:r>
            <a:r>
              <a:rPr b="0" lang="en-US" sz="2400" spc="-1" strike="noStrike">
                <a:solidFill>
                  <a:srgbClr val="000000"/>
                </a:solidFill>
                <a:latin typeface="Arial"/>
              </a:rPr>
              <a:t> mô hình năm lực lượng cạnh tranh và nhóm chiến lược trở nên kém ý nghĩ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công ty không phải là sinh lợi chỉ bởi vì nó ở trong ngành hấp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0"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i tổ ch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ão hòa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oái </a:t>
            </a:r>
            <a:endParaRPr b="0" lang="en-US" sz="2400" spc="-1" strike="noStrike">
              <a:solidFill>
                <a:srgbClr val="000000"/>
              </a:solidFill>
              <a:latin typeface="Arial"/>
            </a:endParaRPr>
          </a:p>
        </p:txBody>
      </p:sp>
      <p:pic>
        <p:nvPicPr>
          <p:cNvPr id="501" name="" descr=""/>
          <p:cNvPicPr/>
          <p:nvPr/>
        </p:nvPicPr>
        <p:blipFill>
          <a:blip r:embed="rId1"/>
          <a:stretch/>
        </p:blipFill>
        <p:spPr>
          <a:xfrm>
            <a:off x="3429000" y="2209680"/>
            <a:ext cx="5715000" cy="3429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à khi ngành mà mới xuất hiện và bắt đầu phát triển </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tăng trưởng chậm:</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ười mua chưa quen với các sản phẩm của ngành,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á cao do công ty không hưởng được tính kinh tế của qui mô,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kênh phân phối chưa phát triển.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dựa trên quyền về bí quyết công nghệ cơ  bản hơn là tiết kiệm chi phí hay sự trung thành nhãn hiệu.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ganh thường không hướng nhiều vào giá mà:</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ịnh hướng vào người tiêu dùng,</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ở rộng kênh phân phối,</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àn thiện thiết kế sản phẩ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ngành tăng trưở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hu cầu về sản phẩm của một ngành bắt đầu cất cánh,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ong một ngành tăng trưởng,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u cầu phát triển rất nhanh vì nhiều khách hàng mới gia nhập thị trường.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soát các bí quyết  công nghệ như là một rào cản nhập đã giảm nhiều.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ào cản nhập cuộc khác có khuynh hướng tương đối thấp,</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tương đối thấ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ành 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ái tổ chức ngàn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u cầu tiến dần tới mức bão hòa, Nhu cầu bị hạn chế bởi sự thay thế.</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i một ngành đi vào giai đoạn tái tổ chức:</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giữa các công ty trở nên mãnh liệ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ăng lực theo tốc độ tăng trưởng quá khứ. </a:t>
            </a:r>
            <a:r>
              <a:rPr b="0" lang="en-US" sz="1800" spc="-1" strike="noStrike">
                <a:solidFill>
                  <a:srgbClr val="000000"/>
                </a:solidFill>
                <a:latin typeface="Wingdings"/>
                <a:ea typeface="Wingdings"/>
              </a:rPr>
              <a:t></a:t>
            </a:r>
            <a:r>
              <a:rPr b="0" lang="en-US" sz="1800" spc="-1" strike="noStrike">
                <a:solidFill>
                  <a:srgbClr val="000000"/>
                </a:solidFill>
                <a:latin typeface="Arial"/>
              </a:rPr>
              <a:t> dư thừa năng lực sản xuất.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ố gắng sử dụng năng lực này, </a:t>
            </a:r>
            <a:r>
              <a:rPr b="0" lang="en-US" sz="1800" spc="-1" strike="noStrike">
                <a:solidFill>
                  <a:srgbClr val="000000"/>
                </a:solidFill>
                <a:latin typeface="Wingdings"/>
                <a:ea typeface="Wingdings"/>
              </a:rPr>
              <a:t></a:t>
            </a:r>
            <a:r>
              <a:rPr b="0" lang="en-US" sz="1800" spc="-1" strike="noStrike">
                <a:solidFill>
                  <a:srgbClr val="000000"/>
                </a:solidFill>
                <a:latin typeface="Arial"/>
              </a:rPr>
              <a:t> giảm giá. </a:t>
            </a:r>
            <a:endParaRPr b="0" lang="en-US" sz="1800" spc="-1" strike="noStrike">
              <a:solidFill>
                <a:srgbClr val="000000"/>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Kết quả là có thể xảy ra cuộc chiến tranh giá, </a:t>
            </a:r>
            <a:endParaRPr b="0" lang="en-US" sz="1800" spc="-1" strike="noStrike">
              <a:solidFill>
                <a:srgbClr val="000000"/>
              </a:solidFill>
              <a:latin typeface="Arial"/>
            </a:endParaRPr>
          </a:p>
        </p:txBody>
      </p:sp>
      <p:grpSp>
        <p:nvGrpSpPr>
          <p:cNvPr id="508" name=""/>
          <p:cNvGrpSpPr/>
          <p:nvPr/>
        </p:nvGrpSpPr>
        <p:grpSpPr>
          <a:xfrm>
            <a:off x="5067720" y="1219320"/>
            <a:ext cx="3683880" cy="2243160"/>
            <a:chOff x="5067720" y="1219320"/>
            <a:chExt cx="3683880" cy="2243160"/>
          </a:xfrm>
        </p:grpSpPr>
        <p:sp>
          <p:nvSpPr>
            <p:cNvPr id="509" name=""/>
            <p:cNvSpPr/>
            <p:nvPr/>
          </p:nvSpPr>
          <p:spPr>
            <a:xfrm>
              <a:off x="7243200" y="1508760"/>
              <a:ext cx="568080" cy="40860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dư thừa</a:t>
              </a:r>
              <a:endParaRPr b="0" lang="en-US" sz="1200" spc="-1" strike="noStrike">
                <a:solidFill>
                  <a:srgbClr val="000000"/>
                </a:solidFill>
                <a:latin typeface="Arial"/>
              </a:endParaRPr>
            </a:p>
          </p:txBody>
        </p:sp>
        <p:sp>
          <p:nvSpPr>
            <p:cNvPr id="510" name=""/>
            <p:cNvSpPr/>
            <p:nvPr/>
          </p:nvSpPr>
          <p:spPr>
            <a:xfrm>
              <a:off x="5067720" y="1436400"/>
              <a:ext cx="3391200" cy="1792080"/>
            </a:xfrm>
            <a:custGeom>
              <a:avLst/>
              <a:gdLst/>
              <a:ahLst/>
              <a:rect l="l" t="t" r="r" b="b"/>
              <a:pathLst>
                <a:path w="5932" h="3738">
                  <a:moveTo>
                    <a:pt x="5" y="0"/>
                  </a:moveTo>
                  <a:lnTo>
                    <a:pt x="0" y="3738"/>
                  </a:lnTo>
                  <a:lnTo>
                    <a:pt x="5932" y="3706"/>
                  </a:lnTo>
                </a:path>
              </a:pathLst>
            </a:custGeom>
            <a:noFill/>
            <a:ln w="9360">
              <a:solidFill>
                <a:srgbClr val="00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1" name=""/>
            <p:cNvSpPr/>
            <p:nvPr/>
          </p:nvSpPr>
          <p:spPr>
            <a:xfrm>
              <a:off x="5071680" y="1689480"/>
              <a:ext cx="2871000" cy="1520280"/>
            </a:xfrm>
            <a:custGeom>
              <a:avLst/>
              <a:gdLst/>
              <a:ahLst/>
              <a:rect l="l" t="t" r="r" b="b"/>
              <a:pathLst>
                <a:path w="5024" h="2891">
                  <a:moveTo>
                    <a:pt x="0" y="2891"/>
                  </a:moveTo>
                  <a:cubicBezTo>
                    <a:pt x="158" y="2807"/>
                    <a:pt x="445" y="2820"/>
                    <a:pt x="951" y="2385"/>
                  </a:cubicBezTo>
                  <a:cubicBezTo>
                    <a:pt x="1457" y="1950"/>
                    <a:pt x="2357" y="549"/>
                    <a:pt x="3036" y="279"/>
                  </a:cubicBezTo>
                  <a:cubicBezTo>
                    <a:pt x="3719" y="0"/>
                    <a:pt x="4610" y="662"/>
                    <a:pt x="5024" y="763"/>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2" name=""/>
            <p:cNvSpPr/>
            <p:nvPr/>
          </p:nvSpPr>
          <p:spPr>
            <a:xfrm>
              <a:off x="5071680" y="1219320"/>
              <a:ext cx="2935800" cy="1990800"/>
            </a:xfrm>
            <a:custGeom>
              <a:avLst/>
              <a:gdLst/>
              <a:ahLst/>
              <a:rect l="l" t="t" r="r" b="b"/>
              <a:pathLst>
                <a:path w="5137" h="3713">
                  <a:moveTo>
                    <a:pt x="0" y="3713"/>
                  </a:moveTo>
                  <a:cubicBezTo>
                    <a:pt x="162" y="3629"/>
                    <a:pt x="644" y="3495"/>
                    <a:pt x="973" y="3207"/>
                  </a:cubicBezTo>
                  <a:cubicBezTo>
                    <a:pt x="1302" y="2919"/>
                    <a:pt x="1585" y="2464"/>
                    <a:pt x="1972" y="1982"/>
                  </a:cubicBezTo>
                  <a:cubicBezTo>
                    <a:pt x="2359" y="1500"/>
                    <a:pt x="2767" y="429"/>
                    <a:pt x="3294" y="316"/>
                  </a:cubicBezTo>
                  <a:cubicBezTo>
                    <a:pt x="3992" y="0"/>
                    <a:pt x="4753" y="1098"/>
                    <a:pt x="5137" y="1304"/>
                  </a:cubicBez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3" name=""/>
            <p:cNvSpPr/>
            <p:nvPr/>
          </p:nvSpPr>
          <p:spPr>
            <a:xfrm>
              <a:off x="6472080" y="1972080"/>
              <a:ext cx="720" cy="12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221600" y="1744200"/>
              <a:ext cx="0" cy="1464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219440" y="1497240"/>
              <a:ext cx="1800" cy="336960"/>
            </a:xfrm>
            <a:custGeom>
              <a:avLst/>
              <a:gdLst/>
              <a:ahLst/>
              <a:rect l="l" t="t" r="r" b="b"/>
              <a:pathLst>
                <a:path w="3" h="531">
                  <a:moveTo>
                    <a:pt x="0" y="0"/>
                  </a:moveTo>
                  <a:lnTo>
                    <a:pt x="3" y="531"/>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410520" y="3281760"/>
              <a:ext cx="144720" cy="1807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1</a:t>
              </a:r>
              <a:endParaRPr b="0" lang="en-US" sz="1200" spc="-1" strike="noStrike">
                <a:solidFill>
                  <a:srgbClr val="000000"/>
                </a:solidFill>
                <a:latin typeface="Arial"/>
              </a:endParaRPr>
            </a:p>
          </p:txBody>
        </p:sp>
        <p:sp>
          <p:nvSpPr>
            <p:cNvPr id="517" name=""/>
            <p:cNvSpPr/>
            <p:nvPr/>
          </p:nvSpPr>
          <p:spPr>
            <a:xfrm>
              <a:off x="7170840" y="3281760"/>
              <a:ext cx="108360" cy="14472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2</a:t>
              </a:r>
              <a:endParaRPr b="0" lang="en-US" sz="1200" spc="-1" strike="noStrike">
                <a:solidFill>
                  <a:srgbClr val="000000"/>
                </a:solidFill>
                <a:latin typeface="Arial"/>
              </a:endParaRPr>
            </a:p>
          </p:txBody>
        </p:sp>
        <p:sp>
          <p:nvSpPr>
            <p:cNvPr id="518" name=""/>
            <p:cNvSpPr/>
            <p:nvPr/>
          </p:nvSpPr>
          <p:spPr>
            <a:xfrm>
              <a:off x="8067960" y="3307320"/>
              <a:ext cx="683640" cy="15516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ời gian</a:t>
              </a:r>
              <a:endParaRPr b="0" lang="en-US" sz="1200" spc="-1" strike="noStrike">
                <a:solidFill>
                  <a:srgbClr val="000000"/>
                </a:solidFill>
                <a:latin typeface="Arial"/>
              </a:endParaRPr>
            </a:p>
          </p:txBody>
        </p:sp>
        <p:sp>
          <p:nvSpPr>
            <p:cNvPr id="519" name=""/>
            <p:cNvSpPr/>
            <p:nvPr/>
          </p:nvSpPr>
          <p:spPr>
            <a:xfrm>
              <a:off x="5103360" y="1508760"/>
              <a:ext cx="628560" cy="21996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ố lượng</a:t>
              </a:r>
              <a:endParaRPr b="0" lang="en-US" sz="1200" spc="-1" strike="noStrike">
                <a:solidFill>
                  <a:srgbClr val="000000"/>
                </a:solidFill>
                <a:latin typeface="Arial"/>
              </a:endParaRPr>
            </a:p>
          </p:txBody>
        </p:sp>
        <p:sp>
          <p:nvSpPr>
            <p:cNvPr id="520" name=""/>
            <p:cNvSpPr/>
            <p:nvPr/>
          </p:nvSpPr>
          <p:spPr>
            <a:xfrm>
              <a:off x="8035560" y="1863000"/>
              <a:ext cx="62856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a:t>
              </a:r>
              <a:endParaRPr b="0" lang="en-US" sz="1200" spc="-1" strike="noStrike">
                <a:solidFill>
                  <a:srgbClr val="000000"/>
                </a:solidFill>
                <a:latin typeface="Arial"/>
              </a:endParaRPr>
            </a:p>
          </p:txBody>
        </p:sp>
        <p:sp>
          <p:nvSpPr>
            <p:cNvPr id="521" name=""/>
            <p:cNvSpPr/>
            <p:nvPr/>
          </p:nvSpPr>
          <p:spPr>
            <a:xfrm>
              <a:off x="7872480" y="2224800"/>
              <a:ext cx="62928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u cầu</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ngành tăng trưở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Arial"/>
              </a:rPr>
              <a:t>Tái tổ chức ngàn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ngành bão hòa</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ị trường hoàn toàn đến mức bão hòa, nhu cầu bị giới hạn bởi sự thay thế.</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ong giai đoạn này:</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ăng trưởng thấp thậm chí  bằng không.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tăng lên, và đe dọa nhập cuộc từ các đối thủ tiềm tàng giảm</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không duy trì tốc độ tăng trưởng quá khứ nữa, mà giữ thị phần của họ.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ạnh tranh vì phát triển thị phần dẫn đến giảm giá.</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hậu quả là một cuộc chiến về giá,</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bắt đầu tập trung vào cả cực tiểu hóa chi phí và tạo sự trung thành nhãn hiệ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 kỳ sống của ngành: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ời kỳ đầu phát triể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tăng trưở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Tái tổ chức ngàn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bão hò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ành suy thoá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ầu hết các ngành đều đi vào giai đoạn suy thoái.</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ong giai đoạn suy thoái:</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ăng trưởng âm, vì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y thế công nghệ,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ác thay đổi xã hội,</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hân khẩu học,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ạnh tranh quốc tế.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ức độ ganh đua giữa các công ty hiện có thường tăng lên, Tùy thuộc:</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ốc độ suy giảm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độ cao của rào cản rời ngành,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ấn đề chính trong giai đoạn suy thoái là năng lực dư thừa. Trong khi cố gắng sử dụng các năng lực dư thừ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i niệm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ế lực là tín hiệu tạo nên những khích lệ hay sức ép cho sự thay đổ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ực lượng dẫn dắt có tác động mạnh nhất đến các thay đổi về môi trường và cấu trúc ngành.</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là tìm ra các nguyên nhân chính của các thay đổi trong ngành, (thường chỉ 3-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gồm hai bướ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 những lực lượng dẫn dắt ngàn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ác động có thể có lên ng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c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WOT</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C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c Kinsey</a:t>
            </a:r>
            <a:endParaRPr b="0" i="1"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lực lượng dẫn dắt phổ biến nhấ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ay đổi về mức tăng trưởng dài hạn của ngà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người mua sản phẩm và cách thức sử dụng chú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ải tiến sản phẩm, thay đổi công nghệ, cải tiến marke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âm nhập hay rời ngành của các hãng lớ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tán các bí quyết công nghệ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chi phí hiệu quả</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sinh những sở thích của người mua về những sản phẩm khác biệt hơn là những hàng hóa thông thườ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thay đổi về quy định và chính sá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àn cầu hóa và cấu trúc ngành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ước hết, ranh giới của một ngành không dừng lại ở biên giới quốc gi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hai, sự dịch chuyển từ các thị trường quốc gia đến toàn cầu làm sâu sắc thêm sự ganh đu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ba, tính khốc liệt cạnh tranh tăng lên, cùng với mức độ cải tiế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uối cùng, sự giảm đều đặn các rào cản thương mại đã mở cửa nhiều thị trường vốn được bảo vệ để cho các công ty bên ngoài tham gia. </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ỘNG THÁI CỦA ĐỐI THỦ</a:t>
            </a: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hiến lược cần để theo sát đối th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ểu được các chiến lược của họ,</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o dõi hành động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o lường sức mạnh và điểm yếu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à cố gắng dự kiến những bước đi tiếp theo của h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NHÂN TỐ THEN CHỐT CHO THÀNH CÔNG (KFS- Key Factor of Competitive Success)</a:t>
            </a:r>
            <a:endParaRPr b="0" lang="en-US" sz="36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những nhân tố tác động mạnh nhất tới khả năng thành đạt trên thị trường của các thành viên trong ngàn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ân tố then chốt thành công trả lời câu hỏ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gì khiến khách hàng lựa chọn giữa các nhãn hiệ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ỗi người bán phải làm gì để thành công, các khả năng và nguồn lực nào cần phải có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người bán phải làm gì để duy trì lợi thế cạnh tranh bền vững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ác nhân tố then chốt thành công tùy theo ngành và  theo từng khoảng thời gian, do các lực lượng dẫn dắt và các điều kiện cạnh tranh thay đổi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ẾT LUẬN VỀ SỨC HẤP DẪN CỦA NGÀNH</a:t>
            </a:r>
            <a:endParaRPr b="0" lang="en-US" sz="36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ối cùng trong phân tích ngành là trả lời câu hỏ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gành có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ển vọng của ngành có thể cho một khả năng sinh lợi trên trung bình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quan trọng cho các nhà quản trị xem xét bao gồ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ềm năng tăng trưởng của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ình trạng cạnh tranh hiện tại có cho phép đạt được khả năng sinh lợi đầy đủ hay không, các lực lượng cạnh tranh trở nên mạnh hơn hay yếu hơ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ị thế cạnh tranh của công ty trong ngành, và nó sẽ trở nên mạnh hơn hay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ủa công ty khai thác các điểm yếu của những đối thủ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ông ty có thể tự bảo vệ, hay phòng thủ với các nhân tố làm cho ngành kém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ạnh tranh của công ty phù hợp với các yếu tố then chốt của thành công trong ngành đến mức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độ rủi ro hay không chắc chắn của tương la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ính khốc liệt của các vấn đề đang đặt ra đối vớ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ếu công ty tiếp tục ở trong ngành có làm tăng khả năng thành công của nó trong các ngành khác mà nó quan tâm hay khô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ý thuyế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ông cụ</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i trường kinh doanh</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ản xuất khối lượng lớn và marketing khối lượng lớn</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ngành bão hòa và suy giảm  trongkhi nền kinh tế Mỹ ổn định và tăng trưởng.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công nghệ mới, cạnh tranh toàn cầu mới và thái độ của người tiêu dùng.</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thay đổi môi trường buộc các doanh nghiệp phải thay đổi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thay đổi nhỏ nên trường phái thiết kế và hoạch định vẫn đủ để xây dựng các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lớn chấp nhận dạng cấu trúc nhiều bộ phận và đa dạng hóa mạnh </a:t>
            </a:r>
            <a:r>
              <a:rPr b="0" lang="en-US" sz="1600" spc="-1" strike="noStrike">
                <a:solidFill>
                  <a:srgbClr val="000000"/>
                </a:solidFill>
                <a:latin typeface="Wingdings"/>
                <a:ea typeface="Wingdings"/>
              </a:rPr>
              <a:t></a:t>
            </a:r>
            <a:r>
              <a:rPr b="0" lang="en-US" sz="1600" spc="-1" strike="noStrike">
                <a:solidFill>
                  <a:srgbClr val="000000"/>
                </a:solidFill>
                <a:latin typeface="Arial"/>
              </a:rPr>
              <a:t>phát triển và sử dụng rộng rãi các kỹ thuật phân tích danh mục, như ma trận BCG.</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Lý thuyết </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y mượn nhiều của kinh tế học, đặc biệt là từ nhánh kinh tế học tổ chức ngà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ô hình năm lực lượng cạnh tra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để giành lợi thế cạnh tranh chủ yếu chỉ là định vị và tự gây khác biệt trong một ngành.N</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chiến lược chung:</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ẫn đạo chi phí.</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ây khác biệt</a:t>
            </a:r>
            <a:endParaRPr b="0" lang="en-US" sz="16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ập tru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ến lược chính có thể sử dụng trong một ngành nào đó.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àm phù hợp giữa chiến lược chung hợp lý với điều kiện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công cụ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 hình năm lực lượng cạnh tra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chiến lược chu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ỗi giá trị</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giữa (1980-1990):Tchức ngàn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ý thuyế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định vị Porter khởi xướ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công cụ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i trường  (</a:t>
            </a:r>
            <a:r>
              <a:rPr b="1" i="1" lang="en-US" sz="2000" spc="-1" strike="noStrike">
                <a:solidFill>
                  <a:srgbClr val="000000"/>
                </a:solidFill>
                <a:latin typeface="Wingdings"/>
                <a:ea typeface="Wingdings"/>
              </a:rPr>
              <a:t></a:t>
            </a:r>
            <a:r>
              <a:rPr b="1" i="1" lang="en-US" sz="2000" spc="-1" strike="noStrike">
                <a:solidFill>
                  <a:srgbClr val="000000"/>
                </a:solidFill>
                <a:latin typeface="Arial"/>
              </a:rPr>
              <a:t>nâng cao vị trí quản trị chiến lược)</a:t>
            </a: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ị trường truyền thống của Mỹ lại bị lấn át bởi các công ty Nhật.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ững phát minh mới có tính đột phá về kỹ thuật công nghệ</a:t>
            </a:r>
            <a:r>
              <a:rPr b="0" i="1" lang="en-US" sz="1800" spc="-1" strike="noStrike">
                <a:solidFill>
                  <a:srgbClr val="000000"/>
                </a:solidFill>
                <a:latin typeface="Arial"/>
              </a:rPr>
              <a:t>,( đặc biệt là điện tử, công nghệ sinh học, Internet</a:t>
            </a:r>
            <a:r>
              <a:rPr b="1"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thay đổi này đã diễn ra trên tầm mức của ngành.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àn cầu hóa và tự do kinh tế đã đem lại nhiều bất ổn mà việc hoạch định chiến lược không thể phát huy tác dụng nữ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át sinh từ  lý thuyết chi phí giao dịch và thuyết đại diện.</a:t>
            </a:r>
            <a:endParaRPr b="0" i="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điểm dựa trên nguồn lực giải quyết câu hỏi cơ bản </a:t>
            </a:r>
            <a:endParaRPr b="0" i="1"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ại sao các doanh nghiệp khác nhau và cách thức nào để tạo dựng và duy trì lợi thế cạnh tranh. </a:t>
            </a:r>
            <a:endParaRPr b="0" lang="en-US" sz="20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ường phá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 học tập</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Ai thực sự là người sáng tạo ra chiến lược, và chiến lược hình thành từ đâu trong tổ chức? Quá trình này có thể cân nhắc và tính toán như thế nà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giữa (1980-1990):Tchức ngàn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phát triển hiện nay: Nguồn lự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lý thuyết hiện đạ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ường phái học tập</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văn hóa</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iến lược như là một quá trình tập thể.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ây dựng chiến lược là một quá trình tương tác xã hội và văn hóa tổ chức </a:t>
            </a:r>
            <a:r>
              <a:rPr b="1" i="1" lang="en-US" sz="1800" spc="-1" strike="noStrike">
                <a:solidFill>
                  <a:srgbClr val="000000"/>
                </a:solidFill>
                <a:latin typeface="Wingdings"/>
                <a:ea typeface="Wingdings"/>
              </a:rPr>
              <a:t></a:t>
            </a:r>
            <a:r>
              <a:rPr b="1" i="1" lang="en-US" sz="1800" spc="-1" strike="noStrike">
                <a:solidFill>
                  <a:srgbClr val="000000"/>
                </a:solidFill>
                <a:latin typeface="Arial"/>
              </a:rPr>
              <a:t> phong cách ra quyết định và khuyến khích sự đề kháng với thay đổ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ân s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ời Alexander (năm 330 trước công nguyê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ỹ năng khai thác các lực lượng và tạo dựng hệ thống thống trị toàn cục </a:t>
            </a:r>
            <a:endParaRPr b="0" i="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ận điểm cơ bả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ó thể đè bẹp đối thủ - thậm chí là đối thủ mạnh hơn, đông hơn – nếu có thể dẫn dắt thế trận và đưa đối thủ vào trận địa thuận lợi cho việc triển khai các khả năng của mình </a:t>
            </a:r>
            <a:endParaRPr b="0" i="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đầu (1960-70): </a:t>
            </a:r>
            <a:r>
              <a:rPr b="0" i="1" lang="en-US" sz="2000" spc="-1" strike="noStrike">
                <a:solidFill>
                  <a:srgbClr val="000000"/>
                </a:solidFill>
                <a:latin typeface="Arial"/>
              </a:rPr>
              <a:t>phát triển nội tạ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giữa (1980-1990):Tchức ngàn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phát triển hiện nay: Nguồn lự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ác lý thuyết hiện đ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ường ph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ôi trường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gày càng phức tạp do;</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á trình toàn cầu hóa và tự do kinh tế ngày mạnh mẽ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ến bộ kỹ thuật liên tục phát triển với nhịp đọ nhanh,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hiều cách tiếp cận </a:t>
            </a:r>
            <a:r>
              <a:rPr b="1" i="1" lang="en-US" sz="1600" spc="-1" strike="noStrike">
                <a:solidFill>
                  <a:srgbClr val="000000"/>
                </a:solidFill>
                <a:latin typeface="Wingdings"/>
                <a:ea typeface="Wingdings"/>
              </a:rPr>
              <a:t></a:t>
            </a:r>
            <a:r>
              <a:rPr b="1" i="1" lang="en-US" sz="1600" spc="-1" strike="noStrike">
                <a:solidFill>
                  <a:srgbClr val="000000"/>
                </a:solidFill>
                <a:latin typeface="Arial"/>
              </a:rPr>
              <a:t> vấn đề chiến lược có thể được soi rọi từ nhiều khía cạnh. </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ía cạnh học tập với tư duy năng lực cốt lõi đưa các công ty tập trung hơn vào hoạt động kinh doanh cốt lõi, và cũng làm tăng quá trình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ghiên cứu về chi phí giao dịch </a:t>
            </a:r>
            <a:r>
              <a:rPr b="1" lang="en-US" sz="1400" spc="-1" strike="noStrike">
                <a:solidFill>
                  <a:srgbClr val="000000"/>
                </a:solidFill>
                <a:latin typeface="Wingdings"/>
                <a:ea typeface="Wingdings"/>
              </a:rPr>
              <a:t></a:t>
            </a:r>
            <a:r>
              <a:rPr b="1" lang="en-US" sz="1400" spc="-1" strike="noStrike">
                <a:solidFill>
                  <a:srgbClr val="000000"/>
                </a:solidFill>
                <a:latin typeface="Arial"/>
              </a:rPr>
              <a:t>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hiều cuộc hợp nhất quốc tế đã làm nổi bật quan niệm xung đột văn hóa của trường phái văn hó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Á TRÌNH TIẾN HÓA </a:t>
            </a:r>
            <a:br>
              <a:rPr sz="4000"/>
            </a:br>
            <a:r>
              <a:rPr b="1" lang="en-US" sz="4000" spc="-1" strike="noStrike">
                <a:solidFill>
                  <a:srgbClr val="000000"/>
                </a:solidFill>
                <a:latin typeface="Arial"/>
              </a:rPr>
              <a:t>TRONG DOANH NGHIỆP</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1- Hoạch định tài chính cơ bản: </a:t>
            </a:r>
            <a:r>
              <a:rPr b="0" lang="en-US" sz="2400" spc="-1" strike="noStrike">
                <a:solidFill>
                  <a:srgbClr val="000000"/>
                </a:solidFill>
                <a:latin typeface="Arial"/>
              </a:rPr>
              <a:t>sơ kha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ra hệ thống ngân sách cho năm sau.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2 - Hoạch định trên cơ sở dự đoá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ế hoạch dài hơi, có thể 5 nă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3- Hoạch định hướng ra bên ngoà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đánh giá và cập nhật kế hoạch chiến lượ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4 - Quản trị chiến lượ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ông tin chiến lượcđược chuyển qua khắp tổ chứ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ảo luận chiến lược theo nhó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có thể vẫn khởi sự quá trình chiến lược, nhưng chiến lược có thể xuất hiện ở mọi nơi trong tổ chứ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Ô HÌNH </a:t>
            </a:r>
            <a:br>
              <a:rPr sz="3200"/>
            </a:br>
            <a:r>
              <a:rPr b="1" lang="en-US" sz="3200" spc="-1" strike="noStrike">
                <a:solidFill>
                  <a:srgbClr val="000000"/>
                </a:solidFill>
                <a:latin typeface="Arial"/>
              </a:rPr>
              <a:t>HOẠCH ĐỊNH CHIẾN LƯỢC CƠ BẢN</a:t>
            </a:r>
            <a:endParaRPr b="0" lang="en-US" sz="3200" spc="-1" strike="noStrike">
              <a:solidFill>
                <a:srgbClr val="000000"/>
              </a:solidFill>
              <a:latin typeface="Arial"/>
            </a:endParaRPr>
          </a:p>
        </p:txBody>
      </p:sp>
      <p:grpSp>
        <p:nvGrpSpPr>
          <p:cNvPr id="158" name=""/>
          <p:cNvGrpSpPr/>
          <p:nvPr/>
        </p:nvGrpSpPr>
        <p:grpSpPr>
          <a:xfrm>
            <a:off x="1792800" y="1737720"/>
            <a:ext cx="5730480" cy="4730400"/>
            <a:chOff x="1792800" y="1737720"/>
            <a:chExt cx="5730480" cy="4730400"/>
          </a:xfrm>
        </p:grpSpPr>
        <p:sp>
          <p:nvSpPr>
            <p:cNvPr id="159" name=""/>
            <p:cNvSpPr/>
            <p:nvPr/>
          </p:nvSpPr>
          <p:spPr>
            <a:xfrm>
              <a:off x="1996200" y="2082600"/>
              <a:ext cx="5486760" cy="26787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96200" y="5195880"/>
              <a:ext cx="5527080" cy="11782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69720" y="1737720"/>
              <a:ext cx="1577880" cy="3099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15480" rIns="15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ứ mện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à mục đích</a:t>
              </a:r>
              <a:endParaRPr b="0" lang="en-US" sz="1000" spc="-1" strike="noStrike">
                <a:solidFill>
                  <a:srgbClr val="000000"/>
                </a:solidFill>
                <a:latin typeface="Arial"/>
              </a:endParaRPr>
            </a:p>
          </p:txBody>
        </p:sp>
        <p:sp>
          <p:nvSpPr>
            <p:cNvPr id="162" name=""/>
            <p:cNvSpPr/>
            <p:nvPr/>
          </p:nvSpPr>
          <p:spPr>
            <a:xfrm>
              <a:off x="2077560" y="2529720"/>
              <a:ext cx="1373760" cy="4874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Phân tích bên ngoài</a:t>
              </a:r>
              <a:br>
                <a:rPr sz="1000"/>
              </a:br>
              <a:r>
                <a:rPr b="0" lang="en-US" sz="1000" spc="-1" strike="noStrike">
                  <a:solidFill>
                    <a:srgbClr val="000080"/>
                  </a:solidFill>
                  <a:latin typeface="Times New Roman"/>
                </a:rPr>
                <a:t>(các cơ hội và đe dọa)</a:t>
              </a:r>
              <a:endParaRPr b="0" lang="en-US" sz="1000" spc="-1" strike="noStrike">
                <a:solidFill>
                  <a:srgbClr val="000000"/>
                </a:solidFill>
                <a:latin typeface="Arial"/>
              </a:endParaRPr>
            </a:p>
          </p:txBody>
        </p:sp>
        <p:sp>
          <p:nvSpPr>
            <p:cNvPr id="163" name=""/>
            <p:cNvSpPr/>
            <p:nvPr/>
          </p:nvSpPr>
          <p:spPr>
            <a:xfrm>
              <a:off x="3865680" y="2599560"/>
              <a:ext cx="1577880" cy="3362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ựa chọn và xây dụng các chiến lược </a:t>
              </a:r>
              <a:endParaRPr b="0" lang="en-US" sz="1000" spc="-1" strike="noStrike">
                <a:solidFill>
                  <a:srgbClr val="000000"/>
                </a:solidFill>
                <a:latin typeface="Arial"/>
              </a:endParaRPr>
            </a:p>
          </p:txBody>
        </p:sp>
        <p:sp>
          <p:nvSpPr>
            <p:cNvPr id="164" name=""/>
            <p:cNvSpPr/>
            <p:nvPr/>
          </p:nvSpPr>
          <p:spPr>
            <a:xfrm>
              <a:off x="5857200" y="2407680"/>
              <a:ext cx="1433880" cy="7833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ân tích bên trong</a:t>
              </a:r>
              <a:br>
                <a:rPr sz="1000"/>
              </a:br>
              <a:r>
                <a:rPr b="0" lang="en-US" sz="1000" spc="-1" strike="noStrike">
                  <a:solidFill>
                    <a:srgbClr val="000080"/>
                  </a:solidFill>
                  <a:latin typeface="Arial"/>
                </a:rPr>
                <a:t>(Tìm các nguồn lực khả n</a:t>
              </a:r>
              <a:r>
                <a:rPr b="0" lang="en-US" sz="1000" spc="-1" strike="noStrike">
                  <a:solidFill>
                    <a:srgbClr val="000080"/>
                  </a:solidFill>
                  <a:latin typeface="Times New Roman"/>
                </a:rPr>
                <a:t>ăng và năng lực cốt l</a:t>
              </a:r>
              <a:r>
                <a:rPr b="0" lang="en-US" sz="1000" spc="-1" strike="noStrike">
                  <a:solidFill>
                    <a:srgbClr val="000080"/>
                  </a:solidFill>
                  <a:latin typeface="Arial"/>
                </a:rPr>
                <a:t>õi)</a:t>
              </a:r>
              <a:endParaRPr b="0" lang="en-US" sz="1000" spc="-1" strike="noStrike">
                <a:solidFill>
                  <a:srgbClr val="000000"/>
                </a:solidFill>
                <a:latin typeface="Arial"/>
              </a:endParaRPr>
            </a:p>
          </p:txBody>
        </p:sp>
        <p:sp>
          <p:nvSpPr>
            <p:cNvPr id="165" name=""/>
            <p:cNvSpPr/>
            <p:nvPr/>
          </p:nvSpPr>
          <p:spPr>
            <a:xfrm>
              <a:off x="3865680" y="354888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kinh doanh</a:t>
              </a:r>
              <a:endParaRPr b="0" lang="en-US" sz="1000" spc="-1" strike="noStrike">
                <a:solidFill>
                  <a:srgbClr val="000000"/>
                </a:solidFill>
                <a:latin typeface="Arial"/>
              </a:endParaRPr>
            </a:p>
          </p:txBody>
        </p:sp>
        <p:sp>
          <p:nvSpPr>
            <p:cNvPr id="166" name=""/>
            <p:cNvSpPr/>
            <p:nvPr/>
          </p:nvSpPr>
          <p:spPr>
            <a:xfrm>
              <a:off x="3865680" y="397260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toàn cầu</a:t>
              </a:r>
              <a:endParaRPr b="0" lang="en-US" sz="1000" spc="-1" strike="noStrike">
                <a:solidFill>
                  <a:srgbClr val="000000"/>
                </a:solidFill>
                <a:latin typeface="Arial"/>
              </a:endParaRPr>
            </a:p>
          </p:txBody>
        </p:sp>
        <p:sp>
          <p:nvSpPr>
            <p:cNvPr id="167" name=""/>
            <p:cNvSpPr/>
            <p:nvPr/>
          </p:nvSpPr>
          <p:spPr>
            <a:xfrm>
              <a:off x="3865680" y="4406760"/>
              <a:ext cx="1577160" cy="3013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ông ty</a:t>
              </a:r>
              <a:endParaRPr b="0" lang="en-US" sz="1000" spc="-1" strike="noStrike">
                <a:solidFill>
                  <a:srgbClr val="000000"/>
                </a:solidFill>
                <a:latin typeface="Arial"/>
              </a:endParaRPr>
            </a:p>
          </p:txBody>
        </p:sp>
        <p:sp>
          <p:nvSpPr>
            <p:cNvPr id="168" name=""/>
            <p:cNvSpPr/>
            <p:nvPr/>
          </p:nvSpPr>
          <p:spPr>
            <a:xfrm>
              <a:off x="3987720" y="5980680"/>
              <a:ext cx="1536480" cy="3448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ay đổi chiến lược</a:t>
              </a:r>
              <a:endParaRPr b="0" lang="en-US" sz="1000" spc="-1" strike="noStrike">
                <a:solidFill>
                  <a:srgbClr val="000000"/>
                </a:solidFill>
                <a:latin typeface="Arial"/>
              </a:endParaRPr>
            </a:p>
          </p:txBody>
        </p:sp>
        <p:grpSp>
          <p:nvGrpSpPr>
            <p:cNvPr id="169" name=""/>
            <p:cNvGrpSpPr/>
            <p:nvPr/>
          </p:nvGrpSpPr>
          <p:grpSpPr>
            <a:xfrm>
              <a:off x="1955520" y="4802400"/>
              <a:ext cx="5486760" cy="1164960"/>
              <a:chOff x="1955520" y="4802400"/>
              <a:chExt cx="5486760" cy="1164960"/>
            </a:xfrm>
          </p:grpSpPr>
          <p:sp>
            <p:nvSpPr>
              <p:cNvPr id="170" name=""/>
              <p:cNvSpPr/>
              <p:nvPr/>
            </p:nvSpPr>
            <p:spPr>
              <a:xfrm>
                <a:off x="3908520" y="5185800"/>
                <a:ext cx="1683360" cy="5058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àm phù hợp chiến lược, cấu trúc và kiểm soát</a:t>
                </a:r>
                <a:endParaRPr b="0" lang="en-US" sz="1000" spc="-1" strike="noStrike">
                  <a:solidFill>
                    <a:srgbClr val="000000"/>
                  </a:solidFill>
                  <a:latin typeface="Arial"/>
                </a:endParaRPr>
              </a:p>
            </p:txBody>
          </p:sp>
          <p:sp>
            <p:nvSpPr>
              <p:cNvPr id="171" name=""/>
              <p:cNvSpPr/>
              <p:nvPr/>
            </p:nvSpPr>
            <p:spPr>
              <a:xfrm>
                <a:off x="1955520" y="5239800"/>
                <a:ext cx="153432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ấu trúc tổ chức</a:t>
                </a:r>
                <a:endParaRPr b="0" lang="en-US" sz="1000" spc="-1" strike="noStrike">
                  <a:solidFill>
                    <a:srgbClr val="000000"/>
                  </a:solidFill>
                  <a:latin typeface="Arial"/>
                </a:endParaRPr>
              </a:p>
            </p:txBody>
          </p:sp>
          <p:sp>
            <p:nvSpPr>
              <p:cNvPr id="172" name=""/>
              <p:cNvSpPr/>
              <p:nvPr/>
            </p:nvSpPr>
            <p:spPr>
              <a:xfrm>
                <a:off x="6047640" y="5228640"/>
                <a:ext cx="139464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Thiết kế kiểm soát</a:t>
                </a:r>
                <a:endParaRPr b="0" lang="en-US" sz="1000" spc="-1" strike="noStrike">
                  <a:solidFill>
                    <a:srgbClr val="000000"/>
                  </a:solidFill>
                  <a:latin typeface="Arial"/>
                </a:endParaRPr>
              </a:p>
            </p:txBody>
          </p:sp>
          <p:grpSp>
            <p:nvGrpSpPr>
              <p:cNvPr id="173" name=""/>
              <p:cNvGrpSpPr/>
              <p:nvPr/>
            </p:nvGrpSpPr>
            <p:grpSpPr>
              <a:xfrm>
                <a:off x="2746080" y="4802400"/>
                <a:ext cx="4212360" cy="317520"/>
                <a:chOff x="2746080" y="4802400"/>
                <a:chExt cx="4212360" cy="317520"/>
              </a:xfrm>
            </p:grpSpPr>
            <p:sp>
              <p:nvSpPr>
                <p:cNvPr id="174" name=""/>
                <p:cNvSpPr/>
                <p:nvPr/>
              </p:nvSpPr>
              <p:spPr>
                <a:xfrm>
                  <a:off x="2746080" y="4878000"/>
                  <a:ext cx="4212360" cy="24192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61080" y="4802400"/>
                  <a:ext cx="2880" cy="289080"/>
                </a:xfrm>
                <a:custGeom>
                  <a:avLst/>
                  <a:gdLst/>
                  <a:ahLst/>
                  <a:rect l="l" t="t" r="r" b="b"/>
                  <a:pathLst>
                    <a:path w="4" h="504">
                      <a:moveTo>
                        <a:pt x="0" y="0"/>
                      </a:moveTo>
                      <a:lnTo>
                        <a:pt x="4" y="504"/>
                      </a:lnTo>
                    </a:path>
                  </a:pathLst>
                </a:custGeom>
                <a:noFill/>
                <a:ln w="19080">
                  <a:solidFill>
                    <a:srgbClr val="1515ff"/>
                  </a:solidFill>
                  <a:round/>
                  <a:tailEnd len="med" type="triangle" w="med"/>
                </a:ln>
                <a:effectLst>
                  <a:outerShdw dist="36147"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flipV="1">
                <a:off x="3582360" y="5459400"/>
                <a:ext cx="291600" cy="1440"/>
              </a:xfrm>
              <a:prstGeom prst="line">
                <a:avLst/>
              </a:prstGeom>
              <a:ln w="28440">
                <a:solidFill>
                  <a:srgbClr val="1515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4881600" y="5750280"/>
                <a:ext cx="1800" cy="21708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628960" y="5459400"/>
                <a:ext cx="221040" cy="2880"/>
              </a:xfrm>
              <a:custGeom>
                <a:avLst/>
                <a:gdLst/>
                <a:ahLst/>
                <a:rect l="l" t="t" r="r" b="b"/>
                <a:pathLst>
                  <a:path w="271" h="3">
                    <a:moveTo>
                      <a:pt x="271" y="3"/>
                    </a:moveTo>
                    <a:lnTo>
                      <a:pt x="0"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79" name=""/>
            <p:cNvSpPr/>
            <p:nvPr/>
          </p:nvSpPr>
          <p:spPr>
            <a:xfrm>
              <a:off x="1792800" y="1940760"/>
              <a:ext cx="3016080" cy="4527360"/>
            </a:xfrm>
            <a:custGeom>
              <a:avLst/>
              <a:gdLst/>
              <a:ahLst/>
              <a:rect l="l" t="t" r="r" b="b"/>
              <a:pathLst>
                <a:path w="4230" h="7092">
                  <a:moveTo>
                    <a:pt x="4230" y="6894"/>
                  </a:moveTo>
                  <a:lnTo>
                    <a:pt x="4220" y="7092"/>
                  </a:lnTo>
                  <a:lnTo>
                    <a:pt x="0" y="7092"/>
                  </a:lnTo>
                  <a:lnTo>
                    <a:pt x="9" y="0"/>
                  </a:lnTo>
                  <a:lnTo>
                    <a:pt x="3122"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65680" y="312552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hức năng</a:t>
              </a:r>
              <a:endParaRPr b="0" lang="en-US" sz="1000" spc="-1" strike="noStrike">
                <a:solidFill>
                  <a:srgbClr val="000000"/>
                </a:solidFill>
                <a:latin typeface="Arial"/>
              </a:endParaRPr>
            </a:p>
          </p:txBody>
        </p:sp>
        <p:sp>
          <p:nvSpPr>
            <p:cNvPr id="181" name=""/>
            <p:cNvSpPr/>
            <p:nvPr/>
          </p:nvSpPr>
          <p:spPr>
            <a:xfrm>
              <a:off x="2727720" y="2204640"/>
              <a:ext cx="3885120" cy="30060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01600" y="2077560"/>
              <a:ext cx="4680" cy="391680"/>
            </a:xfrm>
            <a:custGeom>
              <a:avLst/>
              <a:gdLst/>
              <a:ahLst/>
              <a:rect l="l" t="t" r="r" b="b"/>
              <a:pathLst>
                <a:path w="7" h="550">
                  <a:moveTo>
                    <a:pt x="7" y="0"/>
                  </a:moveTo>
                  <a:lnTo>
                    <a:pt x="0" y="550"/>
                  </a:lnTo>
                </a:path>
              </a:pathLst>
            </a:custGeom>
            <a:noFill/>
            <a:ln w="19080">
              <a:solidFill>
                <a:srgbClr val="1515ff"/>
              </a:solidFill>
              <a:round/>
              <a:tailEnd len="med" type="triangle" w="med"/>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499920" y="2766960"/>
              <a:ext cx="36540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4" name=""/>
            <p:cNvSpPr/>
            <p:nvPr/>
          </p:nvSpPr>
          <p:spPr>
            <a:xfrm flipH="1">
              <a:off x="5491440" y="2766960"/>
              <a:ext cx="32472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5" name=""/>
            <p:cNvSpPr/>
            <p:nvPr/>
          </p:nvSpPr>
          <p:spPr>
            <a:xfrm>
              <a:off x="4658760" y="378648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58040" y="338004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8760" y="423360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58760" y="293292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HÀ QUẢN TRỊ CHIẾN LƯỢC</a:t>
            </a:r>
            <a:endParaRPr b="0" lang="en-US" sz="3200" spc="-1" strike="noStrike">
              <a:solidFill>
                <a:srgbClr val="000000"/>
              </a:solidFill>
              <a:latin typeface="Arial"/>
            </a:endParaRPr>
          </a:p>
        </p:txBody>
      </p:sp>
      <p:grpSp>
        <p:nvGrpSpPr>
          <p:cNvPr id="190" name=""/>
          <p:cNvGrpSpPr/>
          <p:nvPr/>
        </p:nvGrpSpPr>
        <p:grpSpPr>
          <a:xfrm>
            <a:off x="552600" y="1881360"/>
            <a:ext cx="7377120" cy="3877200"/>
            <a:chOff x="552600" y="1881360"/>
            <a:chExt cx="7377120" cy="3877200"/>
          </a:xfrm>
        </p:grpSpPr>
        <p:grpSp>
          <p:nvGrpSpPr>
            <p:cNvPr id="191" name=""/>
            <p:cNvGrpSpPr/>
            <p:nvPr/>
          </p:nvGrpSpPr>
          <p:grpSpPr>
            <a:xfrm>
              <a:off x="4477320" y="2070000"/>
              <a:ext cx="1465920" cy="567360"/>
              <a:chOff x="4477320" y="2070000"/>
              <a:chExt cx="1465920" cy="567360"/>
            </a:xfrm>
          </p:grpSpPr>
          <p:sp>
            <p:nvSpPr>
              <p:cNvPr id="192" name=""/>
              <p:cNvSpPr/>
              <p:nvPr/>
            </p:nvSpPr>
            <p:spPr>
              <a:xfrm>
                <a:off x="4477320" y="2070000"/>
                <a:ext cx="1465920" cy="5673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35280" y="2113200"/>
                <a:ext cx="1349280" cy="480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ăn ph</a:t>
                </a:r>
                <a:r>
                  <a:rPr b="0" lang="en-US" sz="1000" spc="-1" strike="noStrike">
                    <a:solidFill>
                      <a:srgbClr val="000080"/>
                    </a:solidFill>
                    <a:latin typeface="Arial"/>
                  </a:rPr>
                  <a:t>òng</a:t>
                </a:r>
                <a:endParaRPr b="0" lang="en-US" sz="1000" spc="-1" strike="noStrike">
                  <a:solidFill>
                    <a:srgbClr val="000000"/>
                  </a:solidFill>
                  <a:latin typeface="Arial"/>
                </a:endParaRPr>
              </a:p>
            </p:txBody>
          </p:sp>
        </p:grpSp>
        <p:grpSp>
          <p:nvGrpSpPr>
            <p:cNvPr id="194" name=""/>
            <p:cNvGrpSpPr/>
            <p:nvPr/>
          </p:nvGrpSpPr>
          <p:grpSpPr>
            <a:xfrm>
              <a:off x="2490840" y="4008960"/>
              <a:ext cx="1843920" cy="662040"/>
              <a:chOff x="2490840" y="4008960"/>
              <a:chExt cx="1843920" cy="662040"/>
            </a:xfrm>
          </p:grpSpPr>
          <p:sp>
            <p:nvSpPr>
              <p:cNvPr id="195" name=""/>
              <p:cNvSpPr/>
              <p:nvPr/>
            </p:nvSpPr>
            <p:spPr>
              <a:xfrm>
                <a:off x="2490840" y="4008960"/>
                <a:ext cx="184392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63920" y="4059360"/>
                <a:ext cx="1697400" cy="56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197" name=""/>
            <p:cNvGrpSpPr/>
            <p:nvPr/>
          </p:nvGrpSpPr>
          <p:grpSpPr>
            <a:xfrm>
              <a:off x="2727360" y="3015720"/>
              <a:ext cx="1465920" cy="564840"/>
              <a:chOff x="2727360" y="3015720"/>
              <a:chExt cx="1465920" cy="564840"/>
            </a:xfrm>
          </p:grpSpPr>
          <p:sp>
            <p:nvSpPr>
              <p:cNvPr id="198" name=""/>
              <p:cNvSpPr/>
              <p:nvPr/>
            </p:nvSpPr>
            <p:spPr>
              <a:xfrm>
                <a:off x="2727360" y="3015720"/>
                <a:ext cx="146592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785320" y="3058560"/>
                <a:ext cx="1349280" cy="478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A</a:t>
                </a:r>
                <a:endParaRPr b="0" lang="en-US" sz="1000" spc="-1" strike="noStrike">
                  <a:solidFill>
                    <a:srgbClr val="000000"/>
                  </a:solidFill>
                  <a:latin typeface="Arial"/>
                </a:endParaRPr>
              </a:p>
            </p:txBody>
          </p:sp>
        </p:grpSp>
        <p:grpSp>
          <p:nvGrpSpPr>
            <p:cNvPr id="200" name=""/>
            <p:cNvGrpSpPr/>
            <p:nvPr/>
          </p:nvGrpSpPr>
          <p:grpSpPr>
            <a:xfrm>
              <a:off x="4477320" y="3015720"/>
              <a:ext cx="1465920" cy="566640"/>
              <a:chOff x="4477320" y="3015720"/>
              <a:chExt cx="1465920" cy="566640"/>
            </a:xfrm>
          </p:grpSpPr>
          <p:sp>
            <p:nvSpPr>
              <p:cNvPr id="201" name=""/>
              <p:cNvSpPr/>
              <p:nvPr/>
            </p:nvSpPr>
            <p:spPr>
              <a:xfrm>
                <a:off x="4477320" y="3015720"/>
                <a:ext cx="146592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35280" y="3058560"/>
                <a:ext cx="1349280" cy="48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B</a:t>
                </a:r>
                <a:endParaRPr b="0" lang="en-US" sz="1000" spc="-1" strike="noStrike">
                  <a:solidFill>
                    <a:srgbClr val="000000"/>
                  </a:solidFill>
                  <a:latin typeface="Arial"/>
                </a:endParaRPr>
              </a:p>
            </p:txBody>
          </p:sp>
        </p:grpSp>
        <p:grpSp>
          <p:nvGrpSpPr>
            <p:cNvPr id="203" name=""/>
            <p:cNvGrpSpPr/>
            <p:nvPr/>
          </p:nvGrpSpPr>
          <p:grpSpPr>
            <a:xfrm>
              <a:off x="6227280" y="3015720"/>
              <a:ext cx="1418760" cy="564840"/>
              <a:chOff x="6227280" y="3015720"/>
              <a:chExt cx="1418760" cy="564840"/>
            </a:xfrm>
          </p:grpSpPr>
          <p:sp>
            <p:nvSpPr>
              <p:cNvPr id="204" name=""/>
              <p:cNvSpPr/>
              <p:nvPr/>
            </p:nvSpPr>
            <p:spPr>
              <a:xfrm>
                <a:off x="6227280" y="3015720"/>
                <a:ext cx="141876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3440" y="3058560"/>
                <a:ext cx="1305720" cy="478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06" name=""/>
            <p:cNvGrpSpPr/>
            <p:nvPr/>
          </p:nvGrpSpPr>
          <p:grpSpPr>
            <a:xfrm>
              <a:off x="2538000" y="5144040"/>
              <a:ext cx="1607760" cy="566640"/>
              <a:chOff x="2538000" y="5144040"/>
              <a:chExt cx="1607760" cy="566640"/>
            </a:xfrm>
          </p:grpSpPr>
          <p:sp>
            <p:nvSpPr>
              <p:cNvPr id="207" name=""/>
              <p:cNvSpPr/>
              <p:nvPr/>
            </p:nvSpPr>
            <p:spPr>
              <a:xfrm>
                <a:off x="2538000" y="5144040"/>
                <a:ext cx="160776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601720" y="5186880"/>
                <a:ext cx="1479600" cy="48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A</a:t>
                </a:r>
                <a:endParaRPr b="0" lang="en-US" sz="1000" spc="-1" strike="noStrike">
                  <a:solidFill>
                    <a:srgbClr val="000000"/>
                  </a:solidFill>
                  <a:latin typeface="Arial"/>
                </a:endParaRPr>
              </a:p>
            </p:txBody>
          </p:sp>
        </p:grpSp>
        <p:grpSp>
          <p:nvGrpSpPr>
            <p:cNvPr id="209" name=""/>
            <p:cNvGrpSpPr/>
            <p:nvPr/>
          </p:nvGrpSpPr>
          <p:grpSpPr>
            <a:xfrm>
              <a:off x="4335480" y="5144040"/>
              <a:ext cx="1654920" cy="614520"/>
              <a:chOff x="4335480" y="5144040"/>
              <a:chExt cx="1654920" cy="614520"/>
            </a:xfrm>
          </p:grpSpPr>
          <p:sp>
            <p:nvSpPr>
              <p:cNvPr id="210" name=""/>
              <p:cNvSpPr/>
              <p:nvPr/>
            </p:nvSpPr>
            <p:spPr>
              <a:xfrm>
                <a:off x="4335480" y="5144040"/>
                <a:ext cx="1654920" cy="61452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401000" y="5190840"/>
                <a:ext cx="1523520" cy="520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2" name=""/>
            <p:cNvGrpSpPr/>
            <p:nvPr/>
          </p:nvGrpSpPr>
          <p:grpSpPr>
            <a:xfrm>
              <a:off x="6321960" y="5049360"/>
              <a:ext cx="1607760" cy="707760"/>
              <a:chOff x="6321960" y="5049360"/>
              <a:chExt cx="1607760" cy="707760"/>
            </a:xfrm>
          </p:grpSpPr>
          <p:sp>
            <p:nvSpPr>
              <p:cNvPr id="213" name=""/>
              <p:cNvSpPr/>
              <p:nvPr/>
            </p:nvSpPr>
            <p:spPr>
              <a:xfrm>
                <a:off x="6321960" y="5049360"/>
                <a:ext cx="1607760" cy="7077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85680" y="5103000"/>
                <a:ext cx="1479600" cy="599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5" name=""/>
            <p:cNvGrpSpPr/>
            <p:nvPr/>
          </p:nvGrpSpPr>
          <p:grpSpPr>
            <a:xfrm>
              <a:off x="4477320" y="4008960"/>
              <a:ext cx="1607760" cy="662040"/>
              <a:chOff x="4477320" y="4008960"/>
              <a:chExt cx="1607760" cy="662040"/>
            </a:xfrm>
          </p:grpSpPr>
          <p:sp>
            <p:nvSpPr>
              <p:cNvPr id="216" name=""/>
              <p:cNvSpPr/>
              <p:nvPr/>
            </p:nvSpPr>
            <p:spPr>
              <a:xfrm>
                <a:off x="4477320" y="4008960"/>
                <a:ext cx="160776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541040" y="4059360"/>
                <a:ext cx="1479600" cy="561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218" name=""/>
            <p:cNvGrpSpPr/>
            <p:nvPr/>
          </p:nvGrpSpPr>
          <p:grpSpPr>
            <a:xfrm>
              <a:off x="6227280" y="4008960"/>
              <a:ext cx="1702080" cy="662040"/>
              <a:chOff x="6227280" y="4008960"/>
              <a:chExt cx="1702080" cy="662040"/>
            </a:xfrm>
          </p:grpSpPr>
          <p:sp>
            <p:nvSpPr>
              <p:cNvPr id="219" name=""/>
              <p:cNvSpPr/>
              <p:nvPr/>
            </p:nvSpPr>
            <p:spPr>
              <a:xfrm>
                <a:off x="6227280" y="4008960"/>
                <a:ext cx="170208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94960" y="4059360"/>
                <a:ext cx="1566720" cy="5612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sp>
          <p:nvSpPr>
            <p:cNvPr id="221" name=""/>
            <p:cNvSpPr/>
            <p:nvPr/>
          </p:nvSpPr>
          <p:spPr>
            <a:xfrm>
              <a:off x="599040" y="2827440"/>
              <a:ext cx="6480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2" name=""/>
            <p:cNvSpPr/>
            <p:nvPr/>
          </p:nvSpPr>
          <p:spPr>
            <a:xfrm>
              <a:off x="646200" y="3772440"/>
              <a:ext cx="6386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52600" y="1881360"/>
              <a:ext cx="2221920" cy="89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 công ty</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ổng giám đốc,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cấp cao</a:t>
              </a:r>
              <a:endParaRPr b="0" lang="en-US" sz="1000" spc="-1" strike="noStrike">
                <a:solidFill>
                  <a:srgbClr val="000000"/>
                </a:solidFill>
                <a:latin typeface="Arial"/>
              </a:endParaRPr>
            </a:p>
          </p:txBody>
        </p:sp>
        <p:sp>
          <p:nvSpPr>
            <p:cNvPr id="224" name=""/>
            <p:cNvSpPr/>
            <p:nvPr/>
          </p:nvSpPr>
          <p:spPr>
            <a:xfrm>
              <a:off x="599040" y="2873880"/>
              <a:ext cx="2128320" cy="104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Cấp đơn vị kinh doanh</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bộ phận  </a:t>
              </a:r>
              <a:endParaRPr b="0" lang="en-US" sz="1000" spc="-1" strike="noStrike">
                <a:solidFill>
                  <a:srgbClr val="000000"/>
                </a:solidFill>
                <a:latin typeface="Arial"/>
              </a:endParaRPr>
            </a:p>
          </p:txBody>
        </p:sp>
        <p:sp>
          <p:nvSpPr>
            <p:cNvPr id="225" name=""/>
            <p:cNvSpPr/>
            <p:nvPr/>
          </p:nvSpPr>
          <p:spPr>
            <a:xfrm>
              <a:off x="599040" y="4387320"/>
              <a:ext cx="1560600" cy="1324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a:t>
              </a:r>
              <a:r>
                <a:rPr b="1" lang="en-US" sz="1000" spc="-1" strike="noStrike">
                  <a:solidFill>
                    <a:srgbClr val="000080"/>
                  </a:solidFill>
                  <a:latin typeface="Times New Roman"/>
                </a:rPr>
                <a:t> chức năng</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nhà quản trị chức năng</a:t>
              </a:r>
              <a:endParaRPr b="0" lang="en-US" sz="1000" spc="-1" strike="noStrike">
                <a:solidFill>
                  <a:srgbClr val="000000"/>
                </a:solidFill>
                <a:latin typeface="Arial"/>
              </a:endParaRPr>
            </a:p>
          </p:txBody>
        </p:sp>
        <p:sp>
          <p:nvSpPr>
            <p:cNvPr id="226" name=""/>
            <p:cNvSpPr/>
            <p:nvPr/>
          </p:nvSpPr>
          <p:spPr>
            <a:xfrm>
              <a:off x="693720" y="4860360"/>
              <a:ext cx="633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ẾN LƯỢC DỰ ĐỊNH VÀ PHÁT SINH</a:t>
            </a:r>
            <a:endParaRPr b="0" lang="en-US" sz="3200" spc="-1" strike="noStrike">
              <a:solidFill>
                <a:srgbClr val="000000"/>
              </a:solidFill>
              <a:latin typeface="Arial"/>
            </a:endParaRPr>
          </a:p>
        </p:txBody>
      </p:sp>
      <p:grpSp>
        <p:nvGrpSpPr>
          <p:cNvPr id="228" name=""/>
          <p:cNvGrpSpPr/>
          <p:nvPr/>
        </p:nvGrpSpPr>
        <p:grpSpPr>
          <a:xfrm>
            <a:off x="918360" y="2445840"/>
            <a:ext cx="7685280" cy="2548800"/>
            <a:chOff x="918360" y="2445840"/>
            <a:chExt cx="7685280" cy="2548800"/>
          </a:xfrm>
        </p:grpSpPr>
        <p:sp>
          <p:nvSpPr>
            <p:cNvPr id="229" name=""/>
            <p:cNvSpPr/>
            <p:nvPr/>
          </p:nvSpPr>
          <p:spPr>
            <a:xfrm>
              <a:off x="918360" y="2728440"/>
              <a:ext cx="141192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dự </a:t>
              </a:r>
              <a:r>
                <a:rPr b="0" lang="en-US" sz="1000" spc="-1" strike="noStrike">
                  <a:solidFill>
                    <a:srgbClr val="000080"/>
                  </a:solidFill>
                  <a:latin typeface="Times New Roman"/>
                </a:rPr>
                <a:t>định</a:t>
              </a:r>
              <a:endParaRPr b="0" lang="en-US" sz="1000" spc="-1" strike="noStrike">
                <a:solidFill>
                  <a:srgbClr val="000000"/>
                </a:solidFill>
                <a:latin typeface="Arial"/>
              </a:endParaRPr>
            </a:p>
          </p:txBody>
        </p:sp>
        <p:sp>
          <p:nvSpPr>
            <p:cNvPr id="230" name=""/>
            <p:cNvSpPr/>
            <p:nvPr/>
          </p:nvSpPr>
          <p:spPr>
            <a:xfrm>
              <a:off x="2486520" y="2602440"/>
              <a:ext cx="1410840" cy="630000"/>
            </a:xfrm>
            <a:prstGeom prst="rightArrow">
              <a:avLst>
                <a:gd name="adj1" fmla="val 50000"/>
                <a:gd name="adj2" fmla="val 55986"/>
              </a:avLst>
            </a:prstGeom>
            <a:gradFill rotWithShape="0">
              <a:gsLst>
                <a:gs pos="0">
                  <a:srgbClr val="ff9900">
                    <a:alpha val="99215"/>
                  </a:srgbClr>
                </a:gs>
                <a:gs pos="100000">
                  <a:srgbClr val="7546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rot="7800">
              <a:off x="2647080" y="3385440"/>
              <a:ext cx="1292040" cy="880920"/>
            </a:xfrm>
            <a:custGeom>
              <a:avLst/>
              <a:gdLst>
                <a:gd name="textAreaLeft" fmla="*/ 458280 w 1292040"/>
                <a:gd name="textAreaRight" fmla="*/ 1029600 w 1292040"/>
                <a:gd name="textAreaTop" fmla="*/ 540360 h 880920"/>
                <a:gd name="textAreaBottom" fmla="*/ 701640 h 880920"/>
              </a:gdLst>
              <a:ahLst/>
              <a:rect l="textAreaLeft" t="textAreaTop" r="textAreaRight" b="textAreaBottom"/>
              <a:pathLst>
                <a:path w="21600" h="21600">
                  <a:moveTo>
                    <a:pt x="0" y="17651"/>
                  </a:moveTo>
                  <a:lnTo>
                    <a:pt x="13259" y="17651"/>
                  </a:lnTo>
                  <a:lnTo>
                    <a:pt x="13259" y="7662"/>
                  </a:lnTo>
                  <a:lnTo>
                    <a:pt x="8867" y="7662"/>
                  </a:lnTo>
                  <a:lnTo>
                    <a:pt x="15234" y="0"/>
                  </a:lnTo>
                  <a:lnTo>
                    <a:pt x="21600" y="7662"/>
                  </a:lnTo>
                  <a:lnTo>
                    <a:pt x="17208" y="7662"/>
                  </a:lnTo>
                  <a:lnTo>
                    <a:pt x="17208" y="21600"/>
                  </a:lnTo>
                  <a:lnTo>
                    <a:pt x="0" y="21600"/>
                  </a:lnTo>
                  <a:close/>
                </a:path>
              </a:pathLst>
            </a:custGeom>
            <a:gradFill rotWithShape="0">
              <a:gsLst>
                <a:gs pos="0">
                  <a:srgbClr val="99cc00"/>
                </a:gs>
                <a:gs pos="100000">
                  <a:srgbClr val="465e00"/>
                </a:gs>
              </a:gsLst>
              <a:lin ang="13506000"/>
            </a:gradFill>
            <a:ln w="9360">
              <a:solidFill>
                <a:srgbClr val="ffff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55040" y="2445840"/>
              <a:ext cx="1410840" cy="109692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r>
                <a:rPr b="0" lang="en-US" sz="1000" spc="-1" strike="noStrike">
                  <a:solidFill>
                    <a:srgbClr val="000080"/>
                  </a:solidFill>
                  <a:latin typeface="Times New Roman"/>
                </a:rPr>
                <a:t>được</a:t>
              </a:r>
              <a:r>
                <a:rPr b="0" lang="en-US" sz="1000" spc="-1" strike="noStrike">
                  <a:solidFill>
                    <a:srgbClr val="000080"/>
                  </a:solidFill>
                  <a:latin typeface="Arial"/>
                </a:rPr>
                <a:t> cân nhắc</a:t>
              </a:r>
              <a:endParaRPr b="0" lang="en-US" sz="1000" spc="-1" strike="noStrike">
                <a:solidFill>
                  <a:srgbClr val="000000"/>
                </a:solidFill>
                <a:latin typeface="Arial"/>
              </a:endParaRPr>
            </a:p>
          </p:txBody>
        </p:sp>
        <p:sp>
          <p:nvSpPr>
            <p:cNvPr id="233" name=""/>
            <p:cNvSpPr/>
            <p:nvPr/>
          </p:nvSpPr>
          <p:spPr>
            <a:xfrm>
              <a:off x="5622480" y="2602440"/>
              <a:ext cx="1410840" cy="630000"/>
            </a:xfrm>
            <a:prstGeom prst="rightArrow">
              <a:avLst>
                <a:gd name="adj1" fmla="val 50000"/>
                <a:gd name="adj2" fmla="val 55986"/>
              </a:avLst>
            </a:prstGeom>
            <a:gradFill rotWithShape="0">
              <a:gsLst>
                <a:gs pos="0">
                  <a:srgbClr val="ffcc00"/>
                </a:gs>
                <a:gs pos="100000">
                  <a:srgbClr val="755e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6213200">
              <a:off x="5696280" y="2997360"/>
              <a:ext cx="946440" cy="1094760"/>
            </a:xfrm>
            <a:custGeom>
              <a:avLst/>
              <a:gdLst>
                <a:gd name="textAreaLeft" fmla="*/ 326880 w 946440"/>
                <a:gd name="textAreaRight" fmla="*/ 749160 w 946440"/>
                <a:gd name="textAreaTop" fmla="*/ 677520 h 1094760"/>
                <a:gd name="textAreaBottom" fmla="*/ 866520 h 1094760"/>
              </a:gdLst>
              <a:ahLst/>
              <a:rect l="textAreaLeft" t="textAreaTop" r="textAreaRight" b="textAreaBottom"/>
              <a:pathLst>
                <a:path w="21600" h="21600">
                  <a:moveTo>
                    <a:pt x="0" y="17873"/>
                  </a:moveTo>
                  <a:lnTo>
                    <a:pt x="13370" y="17873"/>
                  </a:lnTo>
                  <a:lnTo>
                    <a:pt x="13370" y="7464"/>
                  </a:lnTo>
                  <a:lnTo>
                    <a:pt x="8867" y="7464"/>
                  </a:lnTo>
                  <a:lnTo>
                    <a:pt x="15234" y="0"/>
                  </a:lnTo>
                  <a:lnTo>
                    <a:pt x="21600" y="7464"/>
                  </a:lnTo>
                  <a:lnTo>
                    <a:pt x="17097" y="7464"/>
                  </a:lnTo>
                  <a:lnTo>
                    <a:pt x="17097" y="21600"/>
                  </a:lnTo>
                  <a:lnTo>
                    <a:pt x="0" y="21600"/>
                  </a:lnTo>
                  <a:close/>
                </a:path>
              </a:pathLst>
            </a:custGeom>
            <a:gradFill rotWithShape="0">
              <a:gsLst>
                <a:gs pos="0">
                  <a:srgbClr val="755e00"/>
                </a:gs>
                <a:gs pos="100000">
                  <a:srgbClr val="ffcc00"/>
                </a:gs>
              </a:gsLst>
              <a:lin ang="8112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896560" y="4366800"/>
              <a:ext cx="1413360" cy="62784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không thực tế</a:t>
              </a:r>
              <a:endParaRPr b="0" lang="en-US" sz="1000" spc="-1" strike="noStrike">
                <a:solidFill>
                  <a:srgbClr val="000000"/>
                </a:solidFill>
                <a:latin typeface="Arial"/>
              </a:endParaRPr>
            </a:p>
          </p:txBody>
        </p:sp>
        <p:sp>
          <p:nvSpPr>
            <p:cNvPr id="236" name=""/>
            <p:cNvSpPr/>
            <p:nvPr/>
          </p:nvSpPr>
          <p:spPr>
            <a:xfrm>
              <a:off x="5130720" y="4267800"/>
              <a:ext cx="1414440" cy="56916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át sinh</a:t>
              </a:r>
              <a:endParaRPr b="0" lang="en-US" sz="1000" spc="-1" strike="noStrike">
                <a:solidFill>
                  <a:srgbClr val="000000"/>
                </a:solidFill>
                <a:latin typeface="Arial"/>
              </a:endParaRPr>
            </a:p>
          </p:txBody>
        </p:sp>
        <p:sp>
          <p:nvSpPr>
            <p:cNvPr id="237" name=""/>
            <p:cNvSpPr/>
            <p:nvPr/>
          </p:nvSpPr>
          <p:spPr>
            <a:xfrm>
              <a:off x="7190640" y="2728440"/>
              <a:ext cx="141300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hiện thực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239" name="PlaceHolder 2"/>
          <p:cNvSpPr>
            <a:spLocks noGrp="1"/>
          </p:cNvSpPr>
          <p:nvPr>
            <p:ph type="subTitle"/>
          </p:nvPr>
        </p:nvSpPr>
        <p:spPr>
          <a:xfrm>
            <a:off x="3276720" y="2971440"/>
            <a:ext cx="50292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ỄN CẢNH &amp; SỨ MỆNH</a:t>
            </a:r>
            <a:endParaRPr b="0" lang="en-US" sz="3200" spc="-1" strike="noStrike">
              <a:solidFill>
                <a:srgbClr val="000000"/>
              </a:solidFill>
              <a:latin typeface="Arial"/>
            </a:endParaRPr>
          </a:p>
        </p:txBody>
      </p:sp>
      <p:sp>
        <p:nvSpPr>
          <p:cNvPr id="240" name=""/>
          <p:cNvSpPr/>
          <p:nvPr/>
        </p:nvSpPr>
        <p:spPr>
          <a:xfrm>
            <a:off x="838080" y="4495680"/>
            <a:ext cx="6934320" cy="1410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Các công ty cần có một dự định chiến lược- có một khát vọng được chia sẻ rộng rãi, có một mục tiêu rõ ràng và có một nỗi ám ảnh về chiến thắng – Đó là nhiên liệu để chạy cỗ máy</a:t>
            </a:r>
            <a:endParaRPr b="0" lang="en-US" sz="1800" spc="-1" strike="noStrike">
              <a:solidFill>
                <a:srgbClr val="000000"/>
              </a:solidFill>
              <a:latin typeface="Arial"/>
            </a:endParaRPr>
          </a:p>
        </p:txBody>
      </p:sp>
      <p:grpSp>
        <p:nvGrpSpPr>
          <p:cNvPr id="241" name=""/>
          <p:cNvGrpSpPr/>
          <p:nvPr/>
        </p:nvGrpSpPr>
        <p:grpSpPr>
          <a:xfrm>
            <a:off x="1219320" y="4449600"/>
            <a:ext cx="5790960" cy="46080"/>
            <a:chOff x="1219320" y="4449600"/>
            <a:chExt cx="5790960" cy="46080"/>
          </a:xfrm>
        </p:grpSpPr>
        <p:sp>
          <p:nvSpPr>
            <p:cNvPr id="242" name=""/>
            <p:cNvSpPr/>
            <p:nvPr/>
          </p:nvSpPr>
          <p:spPr>
            <a:xfrm>
              <a:off x="1219320" y="44956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219320" y="444960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1295280" y="5867280"/>
            <a:ext cx="5790960" cy="46080"/>
            <a:chOff x="1295280" y="5867280"/>
            <a:chExt cx="5790960" cy="46080"/>
          </a:xfrm>
        </p:grpSpPr>
        <p:sp>
          <p:nvSpPr>
            <p:cNvPr id="245" name=""/>
            <p:cNvSpPr/>
            <p:nvPr/>
          </p:nvSpPr>
          <p:spPr>
            <a:xfrm>
              <a:off x="1295280" y="591336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95280" y="58672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ác cá nhân hay nhóm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ó tác động, và chịu tác động của các kết cục chiến lượ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họ có quyền đòi hỏi đối với thành tích của doanh nghiệ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grpSp>
        <p:nvGrpSpPr>
          <p:cNvPr id="250" name=""/>
          <p:cNvGrpSpPr/>
          <p:nvPr/>
        </p:nvGrpSpPr>
        <p:grpSpPr>
          <a:xfrm>
            <a:off x="1332360" y="1752480"/>
            <a:ext cx="6410880" cy="3863880"/>
            <a:chOff x="1332360" y="1752480"/>
            <a:chExt cx="6410880" cy="3863880"/>
          </a:xfrm>
        </p:grpSpPr>
        <p:sp>
          <p:nvSpPr>
            <p:cNvPr id="251" name=""/>
            <p:cNvSpPr/>
            <p:nvPr/>
          </p:nvSpPr>
          <p:spPr>
            <a:xfrm>
              <a:off x="4898520" y="3974040"/>
              <a:ext cx="2844720" cy="1642320"/>
            </a:xfrm>
            <a:prstGeom prst="rect">
              <a:avLst/>
            </a:prstGeom>
            <a:solidFill>
              <a:srgbClr val="ffcc99"/>
            </a:solidFill>
            <a:ln w="0">
              <a:noFill/>
            </a:ln>
            <a:effectLst>
              <a:outerShdw dist="153753"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trong:</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ổ </a:t>
              </a:r>
              <a:r>
                <a:rPr b="0" lang="en-US" sz="1200" spc="-1" strike="noStrike">
                  <a:solidFill>
                    <a:srgbClr val="000000"/>
                  </a:solidFill>
                  <a:latin typeface="Times New Roman"/>
                </a:rPr>
                <a:t>đ</a:t>
              </a:r>
              <a:r>
                <a:rPr b="0" lang="en-US" sz="1200" spc="-1" strike="noStrike">
                  <a:solidFill>
                    <a:srgbClr val="000000"/>
                  </a:solidFill>
                  <a:latin typeface="Arial"/>
                </a:rPr>
                <a:t>ô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ân viê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quản tr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ành viên ban quản trị</a:t>
              </a:r>
              <a:endParaRPr b="0" lang="en-US" sz="1200" spc="-1" strike="noStrike">
                <a:solidFill>
                  <a:srgbClr val="000000"/>
                </a:solidFill>
                <a:latin typeface="Arial"/>
              </a:endParaRPr>
            </a:p>
          </p:txBody>
        </p:sp>
        <p:sp>
          <p:nvSpPr>
            <p:cNvPr id="252" name=""/>
            <p:cNvSpPr/>
            <p:nvPr/>
          </p:nvSpPr>
          <p:spPr>
            <a:xfrm>
              <a:off x="5777640" y="2521440"/>
              <a:ext cx="470160" cy="1581120"/>
            </a:xfrm>
            <a:prstGeom prst="downArrow">
              <a:avLst>
                <a:gd name="adj1" fmla="val 50000"/>
                <a:gd name="adj2" fmla="val 84074"/>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endParaRPr b="0" lang="en-US" sz="1800" spc="-1" strike="noStrike">
                <a:solidFill>
                  <a:srgbClr val="000000"/>
                </a:solidFill>
                <a:latin typeface="Arial"/>
              </a:endParaRPr>
            </a:p>
          </p:txBody>
        </p:sp>
        <p:sp>
          <p:nvSpPr>
            <p:cNvPr id="253" name=""/>
            <p:cNvSpPr/>
            <p:nvPr/>
          </p:nvSpPr>
          <p:spPr>
            <a:xfrm>
              <a:off x="1332360" y="1752480"/>
              <a:ext cx="2436120" cy="230112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ngoài:</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ách hà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cung cấ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ính phủ</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a:t>
              </a:r>
              <a:r>
                <a:rPr b="0" lang="en-US" sz="1200" spc="-1" strike="noStrike">
                  <a:solidFill>
                    <a:srgbClr val="000000"/>
                  </a:solidFill>
                  <a:latin typeface="Times New Roman"/>
                </a:rPr>
                <a:t>đ</a:t>
              </a:r>
              <a:r>
                <a:rPr b="0" lang="en-US" sz="1200" spc="-1" strike="noStrike">
                  <a:solidFill>
                    <a:srgbClr val="000000"/>
                  </a:solidFill>
                  <a:latin typeface="Arial"/>
                </a:rPr>
                <a:t>oàn</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ộng </a:t>
              </a:r>
              <a:r>
                <a:rPr b="0" lang="en-US" sz="1200" spc="-1" strike="noStrike">
                  <a:solidFill>
                    <a:srgbClr val="000000"/>
                  </a:solidFill>
                  <a:latin typeface="Times New Roman"/>
                </a:rPr>
                <a:t>đồng</a:t>
              </a:r>
              <a:r>
                <a:rPr b="0" lang="en-US" sz="1200" spc="-1" strike="noStrike">
                  <a:solidFill>
                    <a:srgbClr val="000000"/>
                  </a:solidFill>
                  <a:latin typeface="Arial"/>
                </a:rPr>
                <a:t> </a:t>
              </a:r>
              <a:r>
                <a:rPr b="0" lang="en-US" sz="1200" spc="-1" strike="noStrike">
                  <a:solidFill>
                    <a:srgbClr val="000000"/>
                  </a:solidFill>
                  <a:latin typeface="Times New Roman"/>
                </a:rPr>
                <a:t>địa</a:t>
              </a:r>
              <a:r>
                <a:rPr b="0" lang="en-US" sz="1200" spc="-1" strike="noStrike">
                  <a:solidFill>
                    <a:srgbClr val="000000"/>
                  </a:solidFill>
                  <a:latin typeface="Arial"/>
                </a:rPr>
                <a:t> ph</a:t>
              </a:r>
              <a:r>
                <a:rPr b="0" lang="en-US" sz="1200" spc="-1" strike="noStrike">
                  <a:solidFill>
                    <a:srgbClr val="000000"/>
                  </a:solidFill>
                  <a:latin typeface="Times New Roman"/>
                </a:rPr>
                <a:t>ươ</a:t>
              </a:r>
              <a:r>
                <a:rPr b="0" lang="en-US" sz="1200" spc="-1" strike="noStrike">
                  <a:solidFill>
                    <a:srgbClr val="000000"/>
                  </a:solidFill>
                  <a:latin typeface="Arial"/>
                </a:rPr>
                <a:t>ng</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chúng</a:t>
              </a:r>
              <a:endParaRPr b="0" lang="en-US" sz="1200" spc="-1" strike="noStrike">
                <a:solidFill>
                  <a:srgbClr val="000000"/>
                </a:solidFill>
                <a:latin typeface="Arial"/>
              </a:endParaRPr>
            </a:p>
          </p:txBody>
        </p:sp>
        <p:sp>
          <p:nvSpPr>
            <p:cNvPr id="254" name=""/>
            <p:cNvSpPr/>
            <p:nvPr/>
          </p:nvSpPr>
          <p:spPr>
            <a:xfrm>
              <a:off x="3640680" y="2222280"/>
              <a:ext cx="1709280" cy="427320"/>
            </a:xfrm>
            <a:prstGeom prst="leftArrow">
              <a:avLst>
                <a:gd name="adj1" fmla="val 50000"/>
                <a:gd name="adj2" fmla="val 100000"/>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ự khích lệ</a:t>
              </a:r>
              <a:endParaRPr b="0" lang="en-US" sz="1000" spc="-1" strike="noStrike">
                <a:solidFill>
                  <a:srgbClr val="000000"/>
                </a:solidFill>
                <a:latin typeface="Arial"/>
              </a:endParaRPr>
            </a:p>
          </p:txBody>
        </p:sp>
        <p:sp>
          <p:nvSpPr>
            <p:cNvPr id="255" name=""/>
            <p:cNvSpPr/>
            <p:nvPr/>
          </p:nvSpPr>
          <p:spPr>
            <a:xfrm>
              <a:off x="5179320" y="1794960"/>
              <a:ext cx="1025640" cy="982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ông ty</a:t>
              </a:r>
              <a:endParaRPr b="0" lang="en-US" sz="1000" spc="-1" strike="noStrike">
                <a:solidFill>
                  <a:srgbClr val="000000"/>
                </a:solidFill>
                <a:latin typeface="Arial"/>
              </a:endParaRPr>
            </a:p>
          </p:txBody>
        </p:sp>
        <p:sp>
          <p:nvSpPr>
            <p:cNvPr id="256" name=""/>
            <p:cNvSpPr/>
            <p:nvPr/>
          </p:nvSpPr>
          <p:spPr>
            <a:xfrm>
              <a:off x="3768840" y="1794960"/>
              <a:ext cx="1794240" cy="384480"/>
            </a:xfrm>
            <a:prstGeom prst="rightArrow">
              <a:avLst>
                <a:gd name="adj1" fmla="val 50000"/>
                <a:gd name="adj2" fmla="val 116667"/>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a:t>
              </a:r>
              <a:endParaRPr b="0" lang="en-US" sz="1000" spc="-1" strike="noStrike">
                <a:solidFill>
                  <a:srgbClr val="000000"/>
                </a:solidFill>
                <a:latin typeface="Arial"/>
              </a:endParaRPr>
            </a:p>
          </p:txBody>
        </p:sp>
        <p:sp>
          <p:nvSpPr>
            <p:cNvPr id="257" name=""/>
            <p:cNvSpPr/>
            <p:nvPr/>
          </p:nvSpPr>
          <p:spPr>
            <a:xfrm>
              <a:off x="5392800" y="2564280"/>
              <a:ext cx="384480" cy="1366920"/>
            </a:xfrm>
            <a:prstGeom prst="upArrow">
              <a:avLst>
                <a:gd name="adj1" fmla="val 50000"/>
                <a:gd name="adj2" fmla="val 88881"/>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 </a:t>
              </a:r>
              <a:endParaRPr b="0" lang="en-US" sz="1000" spc="-1" strike="noStrike">
                <a:solidFill>
                  <a:srgbClr val="000000"/>
                </a:solidFill>
                <a:latin typeface="Arial"/>
              </a:endParaRPr>
            </a:p>
          </p:txBody>
        </p:sp>
      </p:grpSp>
      <p:sp>
        <p:nvSpPr>
          <p:cNvPr id="258" name="PlaceHolder 2"/>
          <p:cNvSpPr>
            <a:spLocks noGrp="1"/>
          </p:cNvSpPr>
          <p:nvPr>
            <p:ph/>
          </p:nvPr>
        </p:nvSpPr>
        <p:spPr>
          <a:xfrm>
            <a:off x="1066680" y="4419720"/>
            <a:ext cx="3276720" cy="213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hệ trao đổi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ng cấp cho cty các nguồn lực quan trọng (sự đóng gó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ua trao đổi họ kỳ vọng thỏa mãn các lợi ích của m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0"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ỗi công 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ây dựng chiến lược  để thực hiện các đòi hỏi của bên hữu qua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ành sự quan tâm và nguồn lực để quản trị tất cả các bên hữu qua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61" name=""/>
          <p:cNvSpPr/>
          <p:nvPr/>
        </p:nvSpPr>
        <p:spPr>
          <a:xfrm>
            <a:off x="1600200" y="5029200"/>
            <a:ext cx="6629400" cy="82332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ầncố gắng nhận dạng các bên hữu quan quan trọng nhất và đặt ưu tiên cho các chiến lược có thể thỏa mãn các nhu cầu của họ </a:t>
            </a:r>
            <a:endParaRPr b="0" lang="en-US" sz="1800" spc="-1" strike="noStrike">
              <a:solidFill>
                <a:srgbClr val="000000"/>
              </a:solidFill>
              <a:latin typeface="Arial"/>
            </a:endParaRPr>
          </a:p>
        </p:txBody>
      </p:sp>
      <p:sp>
        <p:nvSpPr>
          <p:cNvPr id="262"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52480" y="58672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5"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ân tích tác động của các bên hữu quan, gồ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bên hữu qu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lợi ích và liên quan của mỗi bê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những yêu cầu tác động lên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bên hữu quan quan trọng nhất với triển vọng của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thách thức chiến lược gây r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1600200" y="5029200"/>
            <a:ext cx="6629400" cy="109764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ất kỳ công ty nào thất bại trong việc thỏa mãn nhu cầu của các khách hàng thì sớm muộn gì cũng sẽ thấy thu nhập của nó giảm sút và cuối cùng phải rút ra khỏi kinh doanh </a:t>
            </a:r>
            <a:endParaRPr b="0" lang="en-US" sz="1800" spc="-1" strike="noStrike">
              <a:solidFill>
                <a:srgbClr val="000000"/>
              </a:solidFill>
              <a:latin typeface="Arial"/>
            </a:endParaRPr>
          </a:p>
        </p:txBody>
      </p:sp>
      <p:sp>
        <p:nvSpPr>
          <p:cNvPr id="267"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752480" y="60958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 điểm kinh doa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hù hợp các năng lực tạo sự khác biệt và môi trường bên ngoà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andler (196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các mục tiêu, mục đích cơ bản dài hạn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p dụng một chuỗi các hành độ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ân bổ các nguồn lực cần thiế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 VÀ SỨ MÊNH </a:t>
            </a:r>
            <a:endParaRPr b="0" lang="en-US" sz="4400" spc="-1" strike="noStrike">
              <a:solidFill>
                <a:srgbClr val="000000"/>
              </a:solidFill>
              <a:latin typeface="Arial"/>
            </a:endParaRPr>
          </a:p>
        </p:txBody>
      </p:sp>
      <p:sp>
        <p:nvSpPr>
          <p:cNvPr id="270" name="PlaceHolder 2"/>
          <p:cNvSpPr>
            <a:spLocks noGrp="1"/>
          </p:cNvSpPr>
          <p:nvPr>
            <p:ph/>
          </p:nvPr>
        </p:nvSpPr>
        <p:spPr>
          <a:xfrm>
            <a:off x="457200" y="3276720"/>
            <a:ext cx="8229600" cy="307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Ý nghĩ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ói lên điều quan trọng sống còn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ịnh hình và </a:t>
            </a:r>
            <a:r>
              <a:rPr b="0" i="1" lang="en-US" sz="2400" spc="-1" strike="noStrike">
                <a:solidFill>
                  <a:srgbClr val="000000"/>
                </a:solidFill>
                <a:latin typeface="Arial"/>
              </a:rPr>
              <a:t>phác họa nên tương lai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i="1" lang="vi-VN" sz="2400" spc="-1" strike="noStrike">
                <a:solidFill>
                  <a:srgbClr val="000000"/>
                </a:solidFill>
                <a:latin typeface="Arial"/>
              </a:rPr>
              <a:t>ướng dẫn về điều cốt lõi phải bảo toàn, và tương lai</a:t>
            </a:r>
            <a:r>
              <a:rPr b="0" i="1" lang="en-US" sz="2400" spc="-1" strike="noStrike">
                <a:solidFill>
                  <a:srgbClr val="000000"/>
                </a:solidFill>
                <a:latin typeface="Arial"/>
              </a:rPr>
              <a:t> </a:t>
            </a:r>
            <a:r>
              <a:rPr b="0" i="1" lang="vi-VN" sz="2400" spc="-1" strike="noStrike">
                <a:solidFill>
                  <a:srgbClr val="000000"/>
                </a:solidFill>
                <a:latin typeface="Arial"/>
              </a:rPr>
              <a:t>thôi thúc tổ chức hướng tới</a:t>
            </a:r>
            <a:r>
              <a:rPr b="0" lang="vi-VN"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giúp tổ chức làm sáng tỏ mục đích và ý nghĩa tồn tại của nó.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533520" y="144792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Bản tuyên bố viễn cảnh và sứ mệnh như lời hiệu triệu, một bức tranh, một giấc mơ về tương lai của doanh nghiệp</a:t>
            </a:r>
            <a:endParaRPr b="0" lang="en-US" sz="1800" spc="-1" strike="noStrike">
              <a:solidFill>
                <a:srgbClr val="000000"/>
              </a:solidFill>
              <a:latin typeface="Arial"/>
            </a:endParaRPr>
          </a:p>
        </p:txBody>
      </p:sp>
      <p:sp>
        <p:nvSpPr>
          <p:cNvPr id="272" name=""/>
          <p:cNvSpPr/>
          <p:nvPr/>
        </p:nvSpPr>
        <p:spPr>
          <a:xfrm>
            <a:off x="914400" y="205740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75" name="PlaceHolder 2"/>
          <p:cNvSpPr>
            <a:spLocks noGrp="1"/>
          </p:cNvSpPr>
          <p:nvPr>
            <p:ph/>
          </p:nvPr>
        </p:nvSpPr>
        <p:spPr>
          <a:xfrm>
            <a:off x="609480" y="3429000"/>
            <a:ext cx="8229600" cy="2362320"/>
          </a:xfrm>
          <a:prstGeom prst="rect">
            <a:avLst/>
          </a:prstGeom>
          <a:solidFill>
            <a:srgbClr val="ffff00"/>
          </a:solidFill>
          <a:ln w="28440">
            <a:solidFill>
              <a:srgbClr val="ff66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	</a:t>
            </a:r>
            <a:r>
              <a:rPr b="0" i="1" lang="vi-VN" sz="2800" spc="-1" strike="noStrike">
                <a:solidFill>
                  <a:srgbClr val="0000cc"/>
                </a:solidFill>
                <a:latin typeface="Arial"/>
              </a:rPr>
              <a:t>Viễn cảnh cần có một sự cuốn hút đầy xúc cảm, khuyến khích </a:t>
            </a:r>
            <a:r>
              <a:rPr b="0" i="1" lang="en-US" sz="2800" spc="-1" strike="noStrike">
                <a:solidFill>
                  <a:srgbClr val="0000cc"/>
                </a:solidFill>
                <a:latin typeface="Arial"/>
              </a:rPr>
              <a:t>tổ chức </a:t>
            </a:r>
            <a:r>
              <a:rPr b="0" i="1" lang="vi-VN" sz="2800" spc="-1" strike="noStrike">
                <a:solidFill>
                  <a:srgbClr val="0000cc"/>
                </a:solidFill>
                <a:latin typeface="Arial"/>
              </a:rPr>
              <a:t>dốc toàn tâm toàn lực của mình để đạt được lý tưởng.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0" i="1" lang="vi-VN" sz="2800" spc="-1" strike="noStrike">
                <a:solidFill>
                  <a:srgbClr val="0000cc"/>
                </a:solidFill>
                <a:latin typeface="Arial"/>
              </a:rPr>
              <a:t>Mỗi viễn cảnh nêu lên một ý nghĩa tồn tại độc đáo</a:t>
            </a:r>
            <a:r>
              <a:rPr b="0" lang="en-US" sz="3200" spc="-1" strike="noStrike">
                <a:solidFill>
                  <a:srgbClr val="0000cc"/>
                </a:solidFill>
                <a:latin typeface="Arial"/>
              </a:rPr>
              <a:t> </a:t>
            </a:r>
            <a:endParaRPr b="0" lang="en-US" sz="3200" spc="-1" strike="noStrike">
              <a:solidFill>
                <a:srgbClr val="000000"/>
              </a:solidFill>
              <a:latin typeface="Arial"/>
            </a:endParaRPr>
          </a:p>
        </p:txBody>
      </p:sp>
      <p:sp>
        <p:nvSpPr>
          <p:cNvPr id="276" name=""/>
          <p:cNvSpPr/>
          <p:nvPr/>
        </p:nvSpPr>
        <p:spPr>
          <a:xfrm>
            <a:off x="533520" y="147636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Diễn tả  các mục đích mong muốn cao nhất và khái quát nhất của tổ chức. Bày tỏ khát vọng về những gì mà nó muốn vươn tới</a:t>
            </a:r>
            <a:endParaRPr b="0" lang="en-US" sz="1800" spc="-1" strike="noStrike">
              <a:solidFill>
                <a:srgbClr val="000000"/>
              </a:solidFill>
              <a:latin typeface="Arial"/>
            </a:endParaRPr>
          </a:p>
        </p:txBody>
      </p:sp>
      <p:sp>
        <p:nvSpPr>
          <p:cNvPr id="277" name=""/>
          <p:cNvSpPr/>
          <p:nvPr/>
        </p:nvSpPr>
        <p:spPr>
          <a:xfrm>
            <a:off x="914400" y="21337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1911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vi-VN" sz="3200" spc="-1" strike="noStrike">
                <a:solidFill>
                  <a:srgbClr val="000000"/>
                </a:solidFill>
                <a:latin typeface="Arial"/>
              </a:rPr>
              <a:t>ấu trúc của viễn cảnh</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Tư tưởng cốt lõi</a:t>
            </a:r>
            <a:r>
              <a:rPr b="0" lang="en-US" sz="2800" spc="-1" strike="noStrike">
                <a:solidFill>
                  <a:srgbClr val="000000"/>
                </a:solidFill>
                <a:latin typeface="Arial"/>
              </a:rPr>
              <a:t> (Core ide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ình dung về tương lai</a:t>
            </a:r>
            <a:r>
              <a:rPr b="0" lang="en-US" sz="2800" spc="-1" strike="noStrike">
                <a:solidFill>
                  <a:srgbClr val="000000"/>
                </a:solidFill>
                <a:latin typeface="Arial"/>
              </a:rPr>
              <a:t> (Envisioned future)</a:t>
            </a:r>
            <a:endParaRPr b="0" lang="en-US" sz="2800" spc="-1" strike="noStrike">
              <a:solidFill>
                <a:srgbClr val="000000"/>
              </a:solidFill>
              <a:latin typeface="Arial"/>
            </a:endParaRPr>
          </a:p>
        </p:txBody>
      </p:sp>
      <p:grpSp>
        <p:nvGrpSpPr>
          <p:cNvPr id="281" name=""/>
          <p:cNvGrpSpPr/>
          <p:nvPr/>
        </p:nvGrpSpPr>
        <p:grpSpPr>
          <a:xfrm>
            <a:off x="4876920" y="1752480"/>
            <a:ext cx="3848040" cy="3848400"/>
            <a:chOff x="4876920" y="1752480"/>
            <a:chExt cx="3848040" cy="3848400"/>
          </a:xfrm>
        </p:grpSpPr>
        <p:pic>
          <p:nvPicPr>
            <p:cNvPr id="282" name="" descr=""/>
            <p:cNvPicPr/>
            <p:nvPr/>
          </p:nvPicPr>
          <p:blipFill>
            <a:blip r:embed="rId1"/>
            <a:stretch/>
          </p:blipFill>
          <p:spPr>
            <a:xfrm>
              <a:off x="4876920" y="1752480"/>
              <a:ext cx="3848040" cy="3848400"/>
            </a:xfrm>
            <a:prstGeom prst="rect">
              <a:avLst/>
            </a:prstGeom>
            <a:ln w="0">
              <a:noFill/>
            </a:ln>
          </p:spPr>
        </p:pic>
        <p:sp>
          <p:nvSpPr>
            <p:cNvPr id="283" name=""/>
            <p:cNvSpPr/>
            <p:nvPr/>
          </p:nvSpPr>
          <p:spPr>
            <a:xfrm>
              <a:off x="5448240" y="3809880"/>
              <a:ext cx="1828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Tư tưởng cốt l</a:t>
              </a:r>
              <a:r>
                <a:rPr b="0" lang="en-US" sz="1200" spc="-1" strike="noStrike">
                  <a:solidFill>
                    <a:srgbClr val="ff9900"/>
                  </a:solidFill>
                  <a:latin typeface="Arial"/>
                </a:rPr>
                <a:t>õi:</a:t>
              </a:r>
              <a:endParaRPr b="0" lang="en-US" sz="1200" spc="-1" strike="noStrike">
                <a:solidFill>
                  <a:srgbClr val="000000"/>
                </a:solidFill>
                <a:latin typeface="Arial"/>
              </a:endParaRPr>
            </a:p>
            <a:p>
              <a:pPr lvl="1" marL="457200" algn="just">
                <a:lnSpc>
                  <a:spcPct val="12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Các giá trị cốt lõi</a:t>
              </a:r>
              <a:endParaRPr b="0" lang="en-US" sz="1200" spc="-1" strike="noStrike">
                <a:solidFill>
                  <a:srgbClr val="000000"/>
                </a:solidFill>
                <a:latin typeface="Arial"/>
              </a:endParaRPr>
            </a:p>
            <a:p>
              <a:pPr>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Các mục đích cốt l</a:t>
              </a:r>
              <a:r>
                <a:rPr b="0" lang="en-US" sz="1200" spc="-1" strike="noStrike">
                  <a:solidFill>
                    <a:srgbClr val="ff9900"/>
                  </a:solidFill>
                  <a:latin typeface="Arial"/>
                </a:rPr>
                <a:t>õ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
            <p:cNvSpPr/>
            <p:nvPr/>
          </p:nvSpPr>
          <p:spPr>
            <a:xfrm>
              <a:off x="6134040" y="2095200"/>
              <a:ext cx="1485720" cy="1143000"/>
            </a:xfrm>
            <a:prstGeom prst="rect">
              <a:avLst/>
            </a:prstGeom>
            <a:solidFill>
              <a:srgbClr val="ffffff">
                <a:alpha val="8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dung t</a:t>
              </a:r>
              <a:r>
                <a:rPr b="0" lang="en-US" sz="1200" spc="-1" strike="noStrike">
                  <a:solidFill>
                    <a:srgbClr val="000000"/>
                  </a:solidFill>
                  <a:latin typeface="Times New Roman"/>
                </a:rPr>
                <a:t>ương lai</a:t>
              </a:r>
              <a:endParaRPr b="0" lang="en-US" sz="1200" spc="-1" strike="noStrike">
                <a:solidFill>
                  <a:srgbClr val="000000"/>
                </a:solidFill>
                <a:latin typeface="Arial"/>
              </a:endParaRPr>
            </a:p>
            <a:p>
              <a:pPr lvl="1" marL="457200"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ục tiêu lớn, thách thức và táo bạo BHA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ô tả tương la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
            <p:cNvSpPr/>
            <p:nvPr/>
          </p:nvSpPr>
          <p:spPr>
            <a:xfrm>
              <a:off x="5105160" y="2552400"/>
              <a:ext cx="457200" cy="2286000"/>
            </a:xfrm>
            <a:prstGeom prst="rect">
              <a:avLst/>
            </a:prstGeom>
            <a:noFill/>
            <a:ln w="0">
              <a:noFill/>
            </a:ln>
          </p:spPr>
          <p:style>
            <a:lnRef idx="0"/>
            <a:fillRef idx="0"/>
            <a:effectRef idx="0"/>
            <a:fontRef idx="minor"/>
          </p:style>
          <p:txBody>
            <a:bodyPr lIns="90000" rIns="90000" tIns="46800" bIns="46800" anchor="t" rot="-5400000">
              <a:noAutofit/>
            </a:bodyPr>
            <a:p>
              <a:endParaRPr b="0" lang="en-US" sz="1800" spc="-1" strike="noStrike">
                <a:solidFill>
                  <a:srgbClr val="000000"/>
                </a:solidFill>
                <a:latin typeface="Arial"/>
              </a:endParaRPr>
            </a:p>
          </p:txBody>
        </p:sp>
        <p:sp>
          <p:nvSpPr>
            <p:cNvPr id="286" name=""/>
            <p:cNvSpPr/>
            <p:nvPr/>
          </p:nvSpPr>
          <p:spPr>
            <a:xfrm>
              <a:off x="7391520" y="2438280"/>
              <a:ext cx="1028520" cy="24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88" name="PlaceHolder 2"/>
          <p:cNvSpPr>
            <a:spLocks noGrp="1"/>
          </p:cNvSpPr>
          <p:nvPr>
            <p:ph/>
          </p:nvPr>
        </p:nvSpPr>
        <p:spPr>
          <a:xfrm>
            <a:off x="914400" y="1828800"/>
            <a:ext cx="8229600" cy="2743200"/>
          </a:xfrm>
          <a:prstGeom prst="rect">
            <a:avLst/>
          </a:prstGeom>
          <a:noFill/>
          <a:ln w="0">
            <a:noFill/>
          </a:ln>
        </p:spPr>
        <p:txBody>
          <a:bodyPr lIns="90000" rIns="90000" tIns="46800" bIns="46800" anchor="t">
            <a:normAutofit fontScale="99000"/>
          </a:bodyPr>
          <a:p>
            <a:pPr marL="603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ư tưởng cốt lõi</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đặc tính lâu dài của một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ấp chất kết dính cố kết toàn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o gồm hai phần phân biệt: </a:t>
            </a:r>
            <a:endParaRPr b="0"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giá trị cốt lõi</a:t>
            </a:r>
            <a:r>
              <a:rPr b="0" lang="en-US" sz="2000" spc="-1" strike="noStrike">
                <a:solidFill>
                  <a:srgbClr val="000000"/>
                </a:solidFill>
                <a:latin typeface="Arial"/>
              </a:rPr>
              <a:t>, một hệ thống các nguyên tắc và nguyên lý hướng dẫn; </a:t>
            </a:r>
            <a:endParaRPr b="0" i="1"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ục đích cốt lõi</a:t>
            </a:r>
            <a:r>
              <a:rPr b="0" lang="en-US" sz="2000" spc="-1" strike="noStrike">
                <a:solidFill>
                  <a:srgbClr val="000000"/>
                </a:solidFill>
                <a:latin typeface="Arial"/>
              </a:rPr>
              <a:t> là lý do cơ bản nhất để tổ chức tồn tại </a:t>
            </a:r>
            <a:endParaRPr b="0" i="1" lang="en-US" sz="2000" spc="-1" strike="noStrike">
              <a:solidFill>
                <a:srgbClr val="000000"/>
              </a:solidFill>
              <a:latin typeface="Arial"/>
            </a:endParaRPr>
          </a:p>
        </p:txBody>
      </p:sp>
      <p:sp>
        <p:nvSpPr>
          <p:cNvPr id="289" name=""/>
          <p:cNvSpPr/>
          <p:nvPr/>
        </p:nvSpPr>
        <p:spPr>
          <a:xfrm>
            <a:off x="2057400" y="5334120"/>
            <a:ext cx="6629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Biết bạn là ai quan trọng hơn là bạn sẽ đi đâu, vì bạn sẽ đi đâu - điều đó sẽ thay đổi khi thế giới xung quanh bạn thay đổ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 name=""/>
          <p:cNvSpPr/>
          <p:nvPr/>
        </p:nvSpPr>
        <p:spPr>
          <a:xfrm>
            <a:off x="2362320" y="60199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62320" y="53341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 các nguyên tắc, nguyên lý nền tảng và bền vững của tổ chức. </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những nguyên tắc tồn tại không phụ thuộc vào thời gian.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thân, không cần sự biện hộ bên ngoài,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giá trị và tầm quan trọng với bên trong tổ chức.</a:t>
            </a:r>
            <a:endParaRPr b="0" i="1"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sàng lọc tính chân thực, </a:t>
            </a:r>
            <a:endParaRPr b="0" i="1" lang="en-US" sz="2000" spc="-1" strike="noStrike">
              <a:solidFill>
                <a:srgbClr val="000000"/>
              </a:solidFill>
              <a:latin typeface="Arial"/>
            </a:endParaRPr>
          </a:p>
          <a:p>
            <a:pPr lvl="3" marL="1584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Arial"/>
              </a:rPr>
              <a:t> </a:t>
            </a:r>
            <a:r>
              <a:rPr b="0" i="1" lang="en-US" sz="1800" spc="-1" strike="noStrike">
                <a:solidFill>
                  <a:srgbClr val="000000"/>
                </a:solidFill>
                <a:latin typeface="Arial"/>
              </a:rPr>
              <a:t>xác định giá trị nào thực sự là trung tâm</a:t>
            </a:r>
            <a:r>
              <a:rPr b="0" lang="en-US" sz="1800" spc="-1" strike="noStrike">
                <a:solidFill>
                  <a:srgbClr val="000000"/>
                </a:solidFill>
                <a:latin typeface="Arial"/>
              </a:rPr>
              <a:t> </a:t>
            </a:r>
            <a:endParaRPr b="0" lang="en-US" sz="18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á trị phải đứng vững trước kiểm định của thời gian</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294"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công ty lớn cần xác định cho chính mình những giá trị được giữ làm cốt lõi, độc lập với môi trường hiện tại, với yêu cầu cạnh tranh và cách thức quản trị</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295"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RỊ CỐT LÕI </a:t>
            </a:r>
            <a:br>
              <a:rPr sz="4000"/>
            </a:br>
            <a:r>
              <a:rPr b="0" lang="en-US" sz="4000" spc="-1" strike="noStrike">
                <a:solidFill>
                  <a:srgbClr val="000000"/>
                </a:solidFill>
                <a:latin typeface="Arial"/>
              </a:rPr>
              <a:t>(ví dụ)</a:t>
            </a:r>
            <a:endParaRPr b="0" lang="en-US" sz="40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dstro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hục vụ khách hàng – thậm chí hướng tới dịch vụ phụ</a:t>
            </a:r>
            <a:r>
              <a:rPr b="0" lang="en-US" sz="2000" spc="-1" strike="noStrike">
                <a:solidFill>
                  <a:srgbClr val="000000"/>
                </a:solidFill>
                <a:latin typeface="Arial"/>
              </a:rPr>
              <a:t> - là các thức sống của mà có thể thấy gốc rễ của nó từ 1901</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Hewlett &amp; David Packard (H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ôn trọng cá nhân sâu sắc, cống hiến vì chất lượng và độ tin cậy chấp nhận được, gắn bó trách nhiệm cộng đồng, và xem công ty tồn tại là để đóng góp kỹ thuật cho sự tiến bộ và thịnh vượng của nhân loại</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Procter và James Gamble: văn  hóa của P&amp;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uyệt hảo của sản phẩm như một chiến lược cho thành công mà hầu như đó là một nguyên lý có tính tín ngưỡ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1"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lý do để tổ chức tồn t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à động cơ thúc đẩy có trong tâm trí mọi người</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ó không chỉ mô tả kết quả hay khách hàng mục tiêu của tổ chức, </a:t>
            </a:r>
            <a:r>
              <a:rPr b="0" lang="en-US" sz="2000" spc="-1" strike="noStrike">
                <a:solidFill>
                  <a:srgbClr val="000000"/>
                </a:solidFill>
                <a:latin typeface="Arial"/>
              </a:rPr>
              <a:t>nó giữ sức sống của tổ chức</a:t>
            </a:r>
            <a:r>
              <a:rPr b="0" i="1" lang="en-US" sz="2000" spc="-1" strike="noStrike">
                <a:solidFill>
                  <a:srgbClr val="000000"/>
                </a:solidFill>
                <a:latin typeface="Arial"/>
              </a:rPr>
              <a:t> </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 trò chủ yếu của mục đích cốt lõi là để dẫn dắt và thôi thúc, truyền cảm hứng (</a:t>
            </a:r>
            <a:r>
              <a:rPr b="0" i="1" lang="en-US" sz="2000" spc="-1" strike="noStrike">
                <a:solidFill>
                  <a:srgbClr val="000000"/>
                </a:solidFill>
                <a:latin typeface="Arial"/>
              </a:rPr>
              <a:t>chứ không phải để gây khác biệt</a:t>
            </a:r>
            <a:r>
              <a:rPr b="0" lang="en-US" sz="2000" spc="-1" strike="noStrike">
                <a:solidFill>
                  <a:srgbClr val="000000"/>
                </a:solidFill>
                <a:latin typeface="Arial"/>
              </a:rPr>
              <a:t>)</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02"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ục đích (mà nên là 100 năm sau) không được nhầm lẫn với các mục tiêu và các chiến lược kinh doanh (có thể thay đổi nhiều lần trong 100 năm đó)</a:t>
            </a:r>
            <a:endParaRPr b="0" lang="en-US" sz="1800" spc="-1" strike="noStrike">
              <a:solidFill>
                <a:srgbClr val="000000"/>
              </a:solidFill>
              <a:latin typeface="Arial"/>
            </a:endParaRPr>
          </a:p>
        </p:txBody>
      </p:sp>
      <p:sp>
        <p:nvSpPr>
          <p:cNvPr id="303"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 L</a:t>
            </a:r>
            <a:r>
              <a:rPr b="0" i="1" lang="en-US" sz="2800" spc="-1" strike="noStrike">
                <a:solidFill>
                  <a:srgbClr val="000000"/>
                </a:solidFill>
                <a:latin typeface="Arial"/>
              </a:rPr>
              <a:t>ý do tồn tại</a:t>
            </a:r>
            <a:r>
              <a:rPr b="0" lang="en-US" sz="2800" spc="-1" strike="noStrike">
                <a:solidFill>
                  <a:srgbClr val="000000"/>
                </a:solidFill>
                <a:latin typeface="Arial"/>
              </a:rPr>
              <a:t> </a:t>
            </a:r>
            <a:r>
              <a:rPr b="0" i="1" lang="en-US" sz="2800" spc="-1" strike="noStrike">
                <a:solidFill>
                  <a:srgbClr val="000000"/>
                </a:solidFill>
                <a:latin typeface="Arial"/>
              </a:rPr>
              <a:t>của tổ chứ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m phá tư tưởng cốt lõi</a:t>
            </a:r>
            <a:r>
              <a:rPr b="1" i="1"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sáng tạo, hay thiết lập tư tưởng cốt lõi</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chúng ta chỉ khám phá tư tưởng cốt lõi.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thể suy luận ra tư tưởng cốt lõi nó, tìm kiếm nó từ môi trường bên ngoài</a:t>
            </a:r>
            <a:r>
              <a:rPr b="0" lang="en-US" sz="2000" spc="-1" strike="noStrike">
                <a:solidFill>
                  <a:srgbClr val="000000"/>
                </a:solidFill>
                <a:latin typeface="Arial"/>
              </a:rPr>
              <a:t>. </a:t>
            </a:r>
            <a:r>
              <a:rPr b="0" i="1" lang="en-US" sz="2000" spc="-1" strike="noStrike">
                <a:solidFill>
                  <a:srgbClr val="000000"/>
                </a:solidFill>
                <a:latin typeface="Arial"/>
              </a:rPr>
              <a:t>Tư tưởng cốt lõi</a:t>
            </a:r>
            <a:r>
              <a:rPr b="0" lang="en-US" sz="2000" spc="-1" strike="noStrike">
                <a:solidFill>
                  <a:srgbClr val="000000"/>
                </a:solidFill>
                <a:latin typeface="Arial"/>
              </a:rPr>
              <a:t> </a:t>
            </a:r>
            <a:r>
              <a:rPr b="0" i="1" lang="en-US" sz="2000" spc="-1" strike="noStrike">
                <a:solidFill>
                  <a:srgbClr val="000000"/>
                </a:solidFill>
                <a:latin typeface="Arial"/>
              </a:rPr>
              <a:t>bộc lộ bởi sự </a:t>
            </a:r>
            <a:r>
              <a:rPr b="0" lang="en-US" sz="2000" spc="-1" strike="noStrike">
                <a:solidFill>
                  <a:srgbClr val="000000"/>
                </a:solidFill>
                <a:latin typeface="Arial"/>
              </a:rPr>
              <a:t>khám phá bằng quan sát tinh tế từ bên trong</a:t>
            </a:r>
            <a:r>
              <a:rPr b="0" i="1" lang="en-US" sz="2000" spc="-1" strike="noStrike">
                <a:solidFill>
                  <a:srgbClr val="000000"/>
                </a:solidFill>
                <a:latin typeface="Arial"/>
              </a:rPr>
              <a:t>.</a:t>
            </a:r>
            <a:r>
              <a:rPr b="0"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ư tưởng phải đích thực</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308" name=""/>
          <p:cNvSpPr/>
          <p:nvPr/>
        </p:nvSpPr>
        <p:spPr>
          <a:xfrm>
            <a:off x="1066680" y="5521320"/>
            <a:ext cx="77724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khi bạn đã hiểu rõ về tư tưởng cốt lõi, bạn sẽ cảm thấy tự do khi thay đổi bất cứ điều gì thuộc về nó</a:t>
            </a:r>
            <a:endParaRPr b="0" lang="en-US" sz="1800" spc="-1" strike="noStrike">
              <a:solidFill>
                <a:srgbClr val="000000"/>
              </a:solidFill>
              <a:latin typeface="Arial"/>
            </a:endParaRPr>
          </a:p>
        </p:txBody>
      </p:sp>
      <p:sp>
        <p:nvSpPr>
          <p:cNvPr id="309"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uyền đạt  ở dạng cụ thể - những gì rõ ràng, sống động, và hiện thự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ó bao trùm một thời gian chưa hiện thực hóa với khát vọng, hy vọng, mơ ướ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ồm:</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tiêu thách thức (BHAG)</a:t>
            </a:r>
            <a:endParaRPr b="0" lang="en-US" sz="2800" spc="-1" strike="noStrike">
              <a:solidFill>
                <a:srgbClr val="000000"/>
              </a:solidFill>
              <a:latin typeface="Arial"/>
            </a:endParaRPr>
          </a:p>
          <a:p>
            <a:pPr lvl="1" marL="990720" indent="-53352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tả sống động</a:t>
            </a:r>
            <a:r>
              <a:rPr b="1"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đó là mục tiếu:</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t>
            </a:r>
            <a:r>
              <a:rPr b="0" lang="en-US" sz="2000" spc="-1" strike="noStrike">
                <a:solidFill>
                  <a:srgbClr val="000000"/>
                </a:solidFill>
                <a:latin typeface="Arial"/>
              </a:rPr>
              <a:t>ớn (Big)</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ch thức (Hairy)</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áo bạo (Audacious)</a:t>
            </a:r>
            <a:endParaRPr b="0" i="1" lang="en-US" sz="20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ổ vũ mọi người – cuốn hút họ. Nó hữu hình, tiếp sức mạnh và tập trung cao độ.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không cần giải thích.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áp dụng cho toàn bộ tổ chức với nỗ lực 10 – 30 năm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cần cố gắng vượt bậc và có lẽ một chút may mắ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nn(198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mô thức hay kế hoạch tích hợp các mục tiêu chính yếu, các chính sách, và chuỗi hành động vào một tổng thể được cố kết một cách chặt chẽ”</a:t>
            </a:r>
            <a:endParaRPr b="0" i="1"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và Schole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định hướng và phạm vi của một tổ chức về dài hạn nhằm giành lợi thế cạnh tranh cho tổ chức thông qua việc định dạng các nguồn lực của nó trong môi trường thay đổi, để đáp ứng nhu cầu thị trường và thỏa mãn mong đợi của các bên hữu quan”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ô tả sống động </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một bản mô tả cụ thể, hấp dẫn và rung động mạnh mẽ về điều BHAG muốn đạt được</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i thích viễn cảnh bằng từ ngữ của bạn vào bức tranh, nghĩ về việc tạo ra một bức tranh mà con người có thể nhớ trong đầu họ.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ộ phận chủ yếu của bản mô tả sinh động: là nỗi đam mê, xúc cảm, và sức thuyết phục là</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ễn cảnh – Mục tiêu thách thức (BHA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 tả sống độ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lưu ý</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ột vài điểm lưu ý</a:t>
            </a:r>
            <a:r>
              <a:rPr b="0"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ừng lẫn lộn tư tưởng cốt lõi và hình dung tương lai. Đặc biệt, đừng lẫn lộn tư tưởng cốt lõi và BHAG. </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 không phải là một vài mục tiêu cụ thể - đó là  lý do tồn tại.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HAG là mục tiêu được khớp nối rõ ràng.</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có thể không bao giờ hoàn thành &lt;&gt; BHAG có thể đạt được trong khoảng 10 đến 30.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ục đích cốt lõi như ngôi sao chỉ phương và mãi theo đuổi.&lt;&gt; BHAG là ngon núi phải leo..</a:t>
            </a:r>
            <a:endParaRPr b="0" i="1" lang="en-US" sz="16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ới sự sáng tạo – và nhiệm vụ là sáng tạo ra tương lai, không dự kiến trước được – không có câu trả lời đúng.</a:t>
            </a:r>
            <a:endParaRPr b="0" i="1" lang="en-US" sz="12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i="1" lang="en-US" sz="1200" spc="-1" strike="noStrike">
                <a:solidFill>
                  <a:srgbClr val="000000"/>
                </a:solidFill>
                <a:latin typeface="Arial"/>
              </a:rPr>
              <a:t>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một mệnh lệnh then chốt về cách thức mà một tổ chức nhìn nhận về các đòi hỏi của các bên hữu qua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một cơ sở để đáp ứng cho viễn cả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ập trung vào sự thay đổi mong muốn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tiêu điểm và là hiệu lệnh nhằm giải phóng tiềm năng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 nó vẫn là những gì có khả năng đạt được trong một khoảng thời gian.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yên bố sứ mệnh phục vụ cho nhiều người ngh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a:t>
            </a:r>
            <a:r>
              <a:rPr b="0" lang="vi-VN" sz="1800" spc="-1" strike="noStrike">
                <a:solidFill>
                  <a:srgbClr val="000000"/>
                </a:solidFill>
                <a:latin typeface="Arial"/>
              </a:rPr>
              <a:t> trong, nó cung cấp tâm điểm và </a:t>
            </a:r>
            <a:r>
              <a:rPr b="0" lang="en-US" sz="1800" spc="-1" strike="noStrike">
                <a:solidFill>
                  <a:srgbClr val="000000"/>
                </a:solidFill>
                <a:latin typeface="Arial"/>
              </a:rPr>
              <a:t>xung lượng cho các hoạt động của tổ chứ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n ngoài (những người cấp vốn, nhà cung cấp, cộng đồng…) họ có thể xác định mong muốn thiết lập và phát triển các quan hệ với tổ chức hay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ản tuyên bố sứ mệnh tạo ra nền tảng cho toàn bộ công tác hoạch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ỗi tuyên bố sứ mệnh</a:t>
            </a:r>
            <a:r>
              <a:rPr b="0" lang="en-US" sz="2400" spc="-1" strike="noStrike">
                <a:solidFill>
                  <a:srgbClr val="000000"/>
                </a:solidFill>
                <a:latin typeface="Arial"/>
              </a:rPr>
              <a:t> có thể có các cụm từ gợi l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vi-VN" sz="2400" spc="-1" strike="noStrike">
                <a:solidFill>
                  <a:srgbClr val="000000"/>
                </a:solidFill>
                <a:latin typeface="Arial"/>
              </a:rPr>
              <a:t>hách hà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ản phẩ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ách thức phục vụ…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không thể thiếu một tham vọng </a:t>
            </a:r>
            <a:r>
              <a:rPr b="0" lang="vi-VN" sz="2400" spc="-1" strike="noStrike">
                <a:solidFill>
                  <a:srgbClr val="000000"/>
                </a:solidFill>
                <a:latin typeface="Arial"/>
              </a:rPr>
              <a:t>“trở thành số 1”; “Tốt nhất”; </a:t>
            </a:r>
            <a:r>
              <a:rPr b="0" lang="en-US" sz="2400" spc="-1" strike="noStrike">
                <a:solidFill>
                  <a:srgbClr val="000000"/>
                </a:solidFill>
                <a:latin typeface="Arial"/>
              </a:rPr>
              <a:t>hay </a:t>
            </a:r>
            <a:r>
              <a:rPr b="0" lang="vi-VN" sz="2400" spc="-1" strike="noStrike">
                <a:solidFill>
                  <a:srgbClr val="000000"/>
                </a:solidFill>
                <a:latin typeface="Arial"/>
              </a:rPr>
              <a:t>“ Người cung cấp hàng đầu…”. Ý </a:t>
            </a:r>
            <a:r>
              <a:rPr b="0" i="1" lang="vi-VN" sz="2400" spc="-1" strike="noStrike">
                <a:solidFill>
                  <a:srgbClr val="000000"/>
                </a:solidFill>
                <a:latin typeface="Arial"/>
              </a:rPr>
              <a:t>đồ chiến lượ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987480" y="5076720"/>
            <a:ext cx="7086600" cy="549000"/>
          </a:xfrm>
          <a:prstGeom prst="rect">
            <a:avLst/>
          </a:prstGeom>
          <a:solidFill>
            <a:srgbClr val="0000cc"/>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a:t>
            </a:r>
            <a:r>
              <a:rPr b="0" lang="vi-VN" sz="1800" spc="-1" strike="noStrike">
                <a:solidFill>
                  <a:srgbClr val="ffff63"/>
                </a:solidFill>
                <a:latin typeface="Arial"/>
              </a:rPr>
              <a:t>Nếu bạn không yêu cầu điều gì đó khác thường, bạn sẽ không có bất cứ gì ngoài những kết quả bình thường...</a:t>
            </a:r>
            <a:r>
              <a:rPr b="0" lang="en-US" sz="1800" spc="-1" strike="noStrike">
                <a:solidFill>
                  <a:srgbClr val="ffff63"/>
                </a:solidFill>
                <a:latin typeface="Arial"/>
              </a:rPr>
              <a:t>”</a:t>
            </a:r>
            <a:r>
              <a:rPr b="0" lang="vi-VN" sz="1800" spc="-1" strike="noStrike">
                <a:solidFill>
                  <a:srgbClr val="ffff63"/>
                </a:solidFill>
                <a:latin typeface="Arial"/>
              </a:rPr>
              <a:t> </a:t>
            </a:r>
            <a:endParaRPr b="0" lang="en-US" sz="1800" spc="-1" strike="noStrike">
              <a:solidFill>
                <a:srgbClr val="000000"/>
              </a:solidFill>
              <a:latin typeface="Arial"/>
            </a:endParaRPr>
          </a:p>
        </p:txBody>
      </p:sp>
      <p:sp>
        <p:nvSpPr>
          <p:cNvPr id="329" name=""/>
          <p:cNvSpPr/>
          <p:nvPr/>
        </p:nvSpPr>
        <p:spPr>
          <a:xfrm>
            <a:off x="1654200" y="57150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52480" y="510552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676520" y="5638680"/>
            <a:ext cx="60195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774800" y="50292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8320" y="58672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200" spc="-1" strike="noStrike">
                <a:solidFill>
                  <a:srgbClr val="000000"/>
                </a:solidFill>
                <a:latin typeface="Arial"/>
              </a:rPr>
              <a:t>Jack Welch </a:t>
            </a:r>
            <a:r>
              <a:rPr b="0" i="1" lang="en-US" sz="1200" spc="-1" strike="noStrike">
                <a:solidFill>
                  <a:srgbClr val="000000"/>
                </a:solidFill>
                <a:latin typeface="Arial"/>
              </a:rPr>
              <a:t>– CEO  </a:t>
            </a:r>
            <a:r>
              <a:rPr b="0" i="1" lang="vi-VN" sz="1200" spc="-1" strike="noStrike">
                <a:solidFill>
                  <a:srgbClr val="000000"/>
                </a:solidFill>
                <a:latin typeface="Arial"/>
              </a:rPr>
              <a:t>General Electr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Ý </a:t>
            </a:r>
            <a:r>
              <a:rPr b="0" i="1" lang="vi-VN" sz="2800" spc="-1" strike="noStrike">
                <a:solidFill>
                  <a:srgbClr val="000000"/>
                </a:solidFill>
                <a:latin typeface="Arial"/>
              </a:rPr>
              <a:t>đồ chiến lược</a:t>
            </a:r>
            <a:r>
              <a:rPr b="0" i="1" lang="en-US" sz="2800" spc="-1" strike="noStrike">
                <a:solidFill>
                  <a:srgbClr val="000000"/>
                </a:solidFill>
                <a:latin typeface="Arial"/>
              </a:rPr>
              <a:t> - </a:t>
            </a:r>
            <a:r>
              <a:rPr b="0" i="1" lang="vi-VN" sz="2800" spc="-1" strike="noStrike">
                <a:solidFill>
                  <a:srgbClr val="000000"/>
                </a:solidFill>
                <a:latin typeface="Arial"/>
              </a:rPr>
              <a:t>mục tiêu bao quát đầy tham vọng để thách thức một tổ chức</a:t>
            </a:r>
            <a:r>
              <a:rPr b="0" lang="vi-V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ho một ý nghĩa định hướng hay mục đích đối với công 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hỉ dẫn việc ra các quyết định chiến lược và phân bổ nguồn lự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úc ép các nhà quản trị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tìm ra những điều quan trọng để cải thiện cách thức tiến hành kinh doanh,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và với những cách thức đó mới đạt đến mục tiêu thách thức.</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bước đầu tiên khi xây dựng sứ mệ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sẽ là gì?</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nên là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9"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00"/>
                </a:solidFill>
                <a:latin typeface="Arial"/>
              </a:rPr>
              <a:t>Hoạt động kinh doanh của chúng ta là gì</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Derek F. Abell đã gợi ý trả lời </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vi-VN" sz="2400" spc="-1" strike="noStrike">
                <a:solidFill>
                  <a:srgbClr val="000000"/>
                </a:solidFill>
                <a:latin typeface="Arial"/>
              </a:rPr>
              <a:t>ên xác định hoạt động kinh doanh trên ba phương diệ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Ai sẽ được thỏa mãn (Nhóm khách hàng nào?),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Họ sẽ được thỏa mãn về điều gì (Khách hàng cần gì?),</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Cách thức thỏa mãn nhu cầu khách hàng (bằng các kỹ năng hay năng lực khác biệt nào?).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42" name=""/>
          <p:cNvGrpSpPr/>
          <p:nvPr/>
        </p:nvGrpSpPr>
        <p:grpSpPr>
          <a:xfrm>
            <a:off x="2057400" y="2286000"/>
            <a:ext cx="5105520" cy="4114800"/>
            <a:chOff x="2057400" y="2286000"/>
            <a:chExt cx="5105520" cy="4114800"/>
          </a:xfrm>
        </p:grpSpPr>
        <p:sp>
          <p:nvSpPr>
            <p:cNvPr id="343" name=""/>
            <p:cNvSpPr/>
            <p:nvPr/>
          </p:nvSpPr>
          <p:spPr>
            <a:xfrm>
              <a:off x="2057400" y="2286000"/>
              <a:ext cx="5105520" cy="4114800"/>
            </a:xfrm>
            <a:custGeom>
              <a:avLst/>
              <a:gdLst/>
              <a:ahLst/>
              <a:rect l="l" t="t" r="r" b="b"/>
              <a:pathLst>
                <a:path w="6103" h="6083">
                  <a:moveTo>
                    <a:pt x="130" y="647"/>
                  </a:moveTo>
                  <a:cubicBezTo>
                    <a:pt x="0" y="1036"/>
                    <a:pt x="321" y="2343"/>
                    <a:pt x="1772" y="2825"/>
                  </a:cubicBezTo>
                  <a:cubicBezTo>
                    <a:pt x="3222" y="3304"/>
                    <a:pt x="3525" y="3114"/>
                    <a:pt x="4629" y="2836"/>
                  </a:cubicBezTo>
                  <a:cubicBezTo>
                    <a:pt x="5733" y="2555"/>
                    <a:pt x="6103" y="1293"/>
                    <a:pt x="5913" y="959"/>
                  </a:cubicBezTo>
                  <a:cubicBezTo>
                    <a:pt x="5723" y="625"/>
                    <a:pt x="3187" y="175"/>
                    <a:pt x="2206" y="1772"/>
                  </a:cubicBezTo>
                  <a:cubicBezTo>
                    <a:pt x="1224" y="3369"/>
                    <a:pt x="1271" y="5211"/>
                    <a:pt x="2487" y="5647"/>
                  </a:cubicBezTo>
                  <a:cubicBezTo>
                    <a:pt x="3703" y="6083"/>
                    <a:pt x="4406" y="3771"/>
                    <a:pt x="4105" y="2587"/>
                  </a:cubicBezTo>
                  <a:cubicBezTo>
                    <a:pt x="3804" y="1404"/>
                    <a:pt x="3424" y="870"/>
                    <a:pt x="2240" y="335"/>
                  </a:cubicBezTo>
                  <a:cubicBezTo>
                    <a:pt x="1403" y="0"/>
                    <a:pt x="275" y="278"/>
                    <a:pt x="130" y="647"/>
                  </a:cubicBez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
            <p:cNvSpPr/>
            <p:nvPr/>
          </p:nvSpPr>
          <p:spPr>
            <a:xfrm>
              <a:off x="4022640" y="3465360"/>
              <a:ext cx="1176480" cy="84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ỐT LÕI BẢO TOÀN </a:t>
              </a:r>
              <a:endParaRPr b="0" lang="en-US" sz="1600" spc="-1" strike="noStrike">
                <a:solidFill>
                  <a:srgbClr val="000000"/>
                </a:solidFill>
                <a:latin typeface="Arial"/>
              </a:endParaRPr>
            </a:p>
          </p:txBody>
        </p:sp>
        <p:sp>
          <p:nvSpPr>
            <p:cNvPr id="345" name=""/>
            <p:cNvSpPr/>
            <p:nvPr/>
          </p:nvSpPr>
          <p:spPr>
            <a:xfrm>
              <a:off x="5302080" y="2819520"/>
              <a:ext cx="1479600" cy="129528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ẽ thỏa mãn </a:t>
              </a:r>
              <a:r>
                <a:rPr b="0" lang="en-US" sz="1600" spc="-1" strike="noStrike">
                  <a:solidFill>
                    <a:srgbClr val="003366"/>
                  </a:solidFill>
                  <a:latin typeface="Times New Roman"/>
                </a:rPr>
                <a:t>điều g</a:t>
              </a:r>
              <a:r>
                <a:rPr b="0" lang="en-US" sz="1600" spc="-1" strike="noStrike">
                  <a:solidFill>
                    <a:srgbClr val="003366"/>
                  </a:solidFill>
                  <a:latin typeface="Arial"/>
                </a:rPr>
                <a:t>ì?</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hu cầu của khách hàng</a:t>
              </a:r>
              <a:endParaRPr b="0" lang="en-US" sz="1600" spc="-1" strike="noStrike">
                <a:solidFill>
                  <a:srgbClr val="000000"/>
                </a:solidFill>
                <a:latin typeface="Arial"/>
              </a:endParaRPr>
            </a:p>
          </p:txBody>
        </p:sp>
        <p:sp>
          <p:nvSpPr>
            <p:cNvPr id="346" name=""/>
            <p:cNvSpPr/>
            <p:nvPr/>
          </p:nvSpPr>
          <p:spPr>
            <a:xfrm>
              <a:off x="2362320" y="2514600"/>
              <a:ext cx="1450800" cy="112536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i sẽ được thỏa m</a:t>
              </a:r>
              <a:r>
                <a:rPr b="0" lang="en-US" sz="1600" spc="-1" strike="noStrike">
                  <a:solidFill>
                    <a:srgbClr val="003366"/>
                  </a:solidFill>
                  <a:latin typeface="Arial"/>
                </a:rPr>
                <a:t>ã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ác nhóm khách hàng)</a:t>
              </a:r>
              <a:endParaRPr b="0" lang="en-US" sz="1600" spc="-1" strike="noStrike">
                <a:solidFill>
                  <a:srgbClr val="000000"/>
                </a:solidFill>
                <a:latin typeface="Arial"/>
              </a:endParaRPr>
            </a:p>
          </p:txBody>
        </p:sp>
        <p:sp>
          <p:nvSpPr>
            <p:cNvPr id="347" name=""/>
            <p:cNvSpPr/>
            <p:nvPr/>
          </p:nvSpPr>
          <p:spPr>
            <a:xfrm>
              <a:off x="3581280" y="4572000"/>
              <a:ext cx="1752840" cy="145404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ách hàng sẽ được thỏa m</a:t>
              </a:r>
              <a:r>
                <a:rPr b="0" lang="en-US" sz="1800" spc="-1" strike="noStrike">
                  <a:solidFill>
                    <a:srgbClr val="003366"/>
                  </a:solidFill>
                  <a:latin typeface="Arial"/>
                </a:rPr>
                <a:t>ãn </a:t>
              </a:r>
              <a:r>
                <a:rPr b="0" lang="en-US" sz="1800" spc="-1" strike="noStrike">
                  <a:solidFill>
                    <a:srgbClr val="003366"/>
                  </a:solidFill>
                  <a:latin typeface="Times New Roman"/>
                </a:rPr>
                <a:t>bằng cách nà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ăng lực gây khác biệ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tzberg: 5 chữ 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ế hoạch (Plan): chuỗi nhất quán hành động dự định</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ô thức (Partern): sự kiên định về hành vi.</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ị thế (Position): Phù hợp giữa tổ chức và môi trường của nó.</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niệm (Perspective): Cách thức nhận thứ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ủ thuật (Ploy): cách thức hành xử với đối thủ.</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9"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r>
              <a:rPr b="0" lang="vi-VN"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i="1" lang="vi-VN" sz="2400" spc="-1" strike="noStrike">
                <a:solidFill>
                  <a:srgbClr val="000000"/>
                </a:solidFill>
                <a:latin typeface="Arial"/>
              </a:rPr>
              <a:t>huôn mẫu của Abell </a:t>
            </a:r>
            <a:r>
              <a:rPr b="0" i="1" lang="en-US" sz="2400" spc="-1" strike="noStrike">
                <a:solidFill>
                  <a:srgbClr val="000000"/>
                </a:solidFill>
                <a:latin typeface="Arial"/>
              </a:rPr>
              <a:t>cho phép</a:t>
            </a:r>
            <a:r>
              <a:rPr b="0" i="1" lang="vi-VN" sz="2400" spc="-1" strike="noStrike">
                <a:solidFill>
                  <a:srgbClr val="000000"/>
                </a:solidFill>
                <a:latin typeface="Arial"/>
              </a:rPr>
              <a:t> lợi dụng được những sự thay đổi của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51"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ũng có thể được trả lời bằng mô hình của Abel.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GIÁ TRỊ</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ẳng định cách thức của các nhà quản tr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ự kiểm soá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ến hành kinh doanh,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ốn tạo dựng đặc tính của tổ chức.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iều khiển hành vi trong tổ chứ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nền tảng văn hóa tổ chức của công 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ư một người dẫn dắt lợi thế cạnh tran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ĐẶC TÍNH MỤC TIÊU</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Để có ý nghĩa mục tiêu phải có bốn đặc tín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hất, một mục tiêu được coi là thiết lập tốt nếu nó chính xác và có thể đo lườ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hai, một mục tiêu được thiết lập tốt phải hướng đến các vấn đề quan trọ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ba, một mục tiêu được thiết lập tốt phải mang tính thách thức nhưng có thể thực hiện (thực t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ư, một mục tiêu được xây dựng tốt nên xác định với một khoảng thời gi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à cuối cùng,  điểm cần nhấn mạnh ở đây là các mục tiêu tốt cung cấp các công cụ để đánh giá sự thực thi của các nhà quản tr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Ề MỤC TIÊU DÀI HẠN </a:t>
            </a:r>
            <a:br>
              <a:rPr sz="4000"/>
            </a:br>
            <a:r>
              <a:rPr b="1" lang="en-US" sz="4000" spc="-1" strike="noStrike">
                <a:solidFill>
                  <a:srgbClr val="000000"/>
                </a:solidFill>
                <a:latin typeface="Arial"/>
              </a:rPr>
              <a:t>&amp; NGẮN HẠN</a:t>
            </a:r>
            <a:endParaRPr b="0" lang="en-US" sz="40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ục tiêu cực đại hóa thu nhập cho cổ đô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ềm ẩn về các vấn đề ngắn hạ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ác mục tiêu dài hạ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Để chống lại hành vi định hướng ngắn hạn, các nhà quản trị cần bảo đảm rằng họ chấp nhận các mục tiêu mà nếu đạt được sẽ tăng hiệu suất dài hạn và năng lực cạnh tranh của doanh nghiệ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MỤC TIÊU</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mục tiêu dài hạ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thỏa mãn của khách hà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quả, năng suất của nhân vi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ất lượng sản phẩm và sự cải tiế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ện pháp Cần đầu tư dài hạn vào nhà xưởng, máy móc thiết bị, R&amp;D, con người và các quá trình.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ục đích: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cường vị thế cạnh tranh của công ty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úc đẩy khả năng sinh lợi dài hạ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ực đại hóa thu nhập cho những người đang giữ cổ phiếu của công ty</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ọi hành động chiến lược đều tác động đến sự thịnh vượng của các bên hữu qu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âng cao sự thịnh vượng cho một số nhóm hữu quan, nó lại có thể làm tổn hại đến các nhóm khá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Như vậy một quyết định như thế nào là đạo đứ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ủa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cụ để đối phó với sự phức tạp mang tí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nhận diện và suy nghĩ thông qua việc thực hiện các quyết định chiến lược một cách có đạo đức.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quyết định kinh doanh phải có cấu thà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à quản trị phải cân nhắc các hàm ý đạo đức trong quyết định chiến l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ịnh hướng phát triển môi trường đạo đức của tổ chức </a:t>
            </a:r>
            <a:endParaRPr b="0" lang="en-US" sz="4000" spc="-1" strike="noStrike">
              <a:solidFill>
                <a:srgbClr val="000000"/>
              </a:solidFill>
              <a:latin typeface="Arial"/>
            </a:endParaRPr>
          </a:p>
        </p:txBody>
      </p:sp>
      <p:grpSp>
        <p:nvGrpSpPr>
          <p:cNvPr id="365" name=""/>
          <p:cNvGrpSpPr/>
          <p:nvPr/>
        </p:nvGrpSpPr>
        <p:grpSpPr>
          <a:xfrm>
            <a:off x="533880" y="1934640"/>
            <a:ext cx="7773120" cy="4041360"/>
            <a:chOff x="533880" y="1934640"/>
            <a:chExt cx="7773120" cy="4041360"/>
          </a:xfrm>
        </p:grpSpPr>
        <p:grpSp>
          <p:nvGrpSpPr>
            <p:cNvPr id="366" name=""/>
            <p:cNvGrpSpPr/>
            <p:nvPr/>
          </p:nvGrpSpPr>
          <p:grpSpPr>
            <a:xfrm>
              <a:off x="4952880" y="2838240"/>
              <a:ext cx="1218240" cy="2235240"/>
              <a:chOff x="4952880" y="2838240"/>
              <a:chExt cx="1218240" cy="2235240"/>
            </a:xfrm>
          </p:grpSpPr>
          <p:sp>
            <p:nvSpPr>
              <p:cNvPr id="367" name=""/>
              <p:cNvSpPr/>
              <p:nvPr/>
            </p:nvSpPr>
            <p:spPr>
              <a:xfrm>
                <a:off x="4952880" y="2838240"/>
                <a:ext cx="1218240" cy="22352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95360" y="2923920"/>
                <a:ext cx="1131840" cy="2110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ết lập các dự định đạo đức</a:t>
                </a:r>
                <a:endParaRPr b="0" lang="en-US" sz="1800" spc="-1" strike="noStrike">
                  <a:solidFill>
                    <a:srgbClr val="000000"/>
                  </a:solidFill>
                  <a:latin typeface="Arial"/>
                </a:endParaRPr>
              </a:p>
            </p:txBody>
          </p:sp>
        </p:grpSp>
        <p:grpSp>
          <p:nvGrpSpPr>
            <p:cNvPr id="369" name=""/>
            <p:cNvGrpSpPr/>
            <p:nvPr/>
          </p:nvGrpSpPr>
          <p:grpSpPr>
            <a:xfrm>
              <a:off x="6883560" y="3008880"/>
              <a:ext cx="1423440" cy="1891440"/>
              <a:chOff x="6883560" y="3008880"/>
              <a:chExt cx="1423440" cy="1891440"/>
            </a:xfrm>
          </p:grpSpPr>
          <p:sp>
            <p:nvSpPr>
              <p:cNvPr id="370" name=""/>
              <p:cNvSpPr/>
              <p:nvPr/>
            </p:nvSpPr>
            <p:spPr>
              <a:xfrm>
                <a:off x="6883560" y="3008880"/>
                <a:ext cx="1423440" cy="18914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33240" y="3060000"/>
                <a:ext cx="1322640" cy="17874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uyến khích các hành vi đạo đức</a:t>
                </a:r>
                <a:endParaRPr b="0" lang="en-US" sz="1800" spc="-1" strike="noStrike">
                  <a:solidFill>
                    <a:srgbClr val="000000"/>
                  </a:solidFill>
                  <a:latin typeface="Arial"/>
                </a:endParaRPr>
              </a:p>
            </p:txBody>
          </p:sp>
        </p:grpSp>
        <p:grpSp>
          <p:nvGrpSpPr>
            <p:cNvPr id="372" name=""/>
            <p:cNvGrpSpPr/>
            <p:nvPr/>
          </p:nvGrpSpPr>
          <p:grpSpPr>
            <a:xfrm>
              <a:off x="2750400" y="2494440"/>
              <a:ext cx="1322640" cy="2923560"/>
              <a:chOff x="2750400" y="2494440"/>
              <a:chExt cx="1322640" cy="2923560"/>
            </a:xfrm>
          </p:grpSpPr>
          <p:sp>
            <p:nvSpPr>
              <p:cNvPr id="373" name=""/>
              <p:cNvSpPr/>
              <p:nvPr/>
            </p:nvSpPr>
            <p:spPr>
              <a:xfrm>
                <a:off x="2750400" y="2494440"/>
                <a:ext cx="1322640" cy="29235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8800" y="2622600"/>
                <a:ext cx="1206720" cy="2713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ánh giá các quyết định trên quan điểm đạo đức trong bối cảnh các nguyên tắc đạo đức</a:t>
                </a:r>
                <a:endParaRPr b="0" lang="en-US" sz="1800" spc="-1" strike="noStrike">
                  <a:solidFill>
                    <a:srgbClr val="000000"/>
                  </a:solidFill>
                  <a:latin typeface="Arial"/>
                </a:endParaRPr>
              </a:p>
            </p:txBody>
          </p:sp>
        </p:grpSp>
        <p:grpSp>
          <p:nvGrpSpPr>
            <p:cNvPr id="375" name=""/>
            <p:cNvGrpSpPr/>
            <p:nvPr/>
          </p:nvGrpSpPr>
          <p:grpSpPr>
            <a:xfrm>
              <a:off x="533880" y="1934640"/>
              <a:ext cx="1421640" cy="4041360"/>
              <a:chOff x="533880" y="1934640"/>
              <a:chExt cx="1421640" cy="4041360"/>
            </a:xfrm>
          </p:grpSpPr>
          <p:sp>
            <p:nvSpPr>
              <p:cNvPr id="376" name=""/>
              <p:cNvSpPr/>
              <p:nvPr/>
            </p:nvSpPr>
            <p:spPr>
              <a:xfrm>
                <a:off x="533880" y="1934640"/>
                <a:ext cx="1421640" cy="40413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3560" y="2044440"/>
                <a:ext cx="1320840" cy="38178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Đánh giá các </a:t>
                </a:r>
                <a:r>
                  <a:rPr b="0" lang="en-US" sz="1800" spc="-1" strike="noStrike">
                    <a:solidFill>
                      <a:srgbClr val="003366"/>
                    </a:solidFill>
                    <a:latin typeface="Times New Roman"/>
                  </a:rPr>
                  <a:t>quyết định trên quan điểm đạo đức. Nhận diện các bên hữu quan bị tác đ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quyền những bên hữu quan có bị vi phạm khô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2099160" y="3268440"/>
              <a:ext cx="507600" cy="1375200"/>
              <a:chOff x="2099160" y="3268440"/>
              <a:chExt cx="507600" cy="1375200"/>
            </a:xfrm>
          </p:grpSpPr>
          <p:sp>
            <p:nvSpPr>
              <p:cNvPr id="379" name=""/>
              <p:cNvSpPr/>
              <p:nvPr/>
            </p:nvSpPr>
            <p:spPr>
              <a:xfrm>
                <a:off x="20991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531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4217760" y="3268440"/>
              <a:ext cx="507600" cy="1375200"/>
              <a:chOff x="4217760" y="3268440"/>
              <a:chExt cx="507600" cy="1375200"/>
            </a:xfrm>
          </p:grpSpPr>
          <p:sp>
            <p:nvSpPr>
              <p:cNvPr id="382" name=""/>
              <p:cNvSpPr/>
              <p:nvPr/>
            </p:nvSpPr>
            <p:spPr>
              <a:xfrm>
                <a:off x="42177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2717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
            <p:cNvGrpSpPr/>
            <p:nvPr/>
          </p:nvGrpSpPr>
          <p:grpSpPr>
            <a:xfrm>
              <a:off x="6230880" y="3268440"/>
              <a:ext cx="507960" cy="1375200"/>
              <a:chOff x="6230880" y="3268440"/>
              <a:chExt cx="507960" cy="1375200"/>
            </a:xfrm>
          </p:grpSpPr>
          <p:sp>
            <p:nvSpPr>
              <p:cNvPr id="385" name=""/>
              <p:cNvSpPr/>
              <p:nvPr/>
            </p:nvSpPr>
            <p:spPr>
              <a:xfrm>
                <a:off x="6230880" y="3268440"/>
                <a:ext cx="50796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285240" y="3449160"/>
                <a:ext cx="41076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ư duy </a:t>
            </a:r>
            <a:br>
              <a:rPr sz="3600"/>
            </a:br>
            <a:r>
              <a:rPr b="1" lang="en-US" sz="3600" spc="-1" strike="noStrike">
                <a:solidFill>
                  <a:srgbClr val="000000"/>
                </a:solidFill>
                <a:latin typeface="Arial"/>
              </a:rPr>
              <a:t>trên cơ sở các vấn đề đạo đức</a:t>
            </a:r>
            <a:br>
              <a:rPr sz="4000"/>
            </a:br>
            <a:endParaRPr b="0" lang="en-US" sz="36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1: </a:t>
            </a:r>
            <a:r>
              <a:rPr b="0" i="1" lang="en-US" sz="1800" spc="-1" strike="noStrike">
                <a:solidFill>
                  <a:srgbClr val="000000"/>
                </a:solidFill>
                <a:latin typeface="Arial"/>
              </a:rPr>
              <a:t>Đánh giá một quyết định chiến lược đã đề ra trên quan điểm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hận dạng các bên hữu quan mà quyết định sẽ tác động tới và tác động bằng cách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m xét quyết định chiến lược có vi phạm quyền của bên hữu quan nào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2: </a:t>
            </a:r>
            <a:r>
              <a:rPr b="0" i="1" lang="en-US" sz="1800" spc="-1" strike="noStrike">
                <a:solidFill>
                  <a:srgbClr val="000000"/>
                </a:solidFill>
                <a:latin typeface="Arial"/>
              </a:rPr>
              <a:t>Đánh giá khía đạo đức của quyết định chiến lược đã đề ra, với những thông tin có được từ bước 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ựa trên các nguyên tắc đạo đức mà dễ bị vi phạm.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ó thể được chiếu theo bản tuyên bố sứ mệnh hoặc các tài liệu khác của công ty</a:t>
            </a:r>
            <a:endParaRPr b="0" i="1"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ác nguyên tắc chắc chắn mà chúng ta phải chấp nhận nó với tư cách là các thành viên trong xã hội -</a:t>
            </a:r>
            <a:endParaRPr b="0" i="1"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3: </a:t>
            </a:r>
            <a:r>
              <a:rPr b="0" i="1" lang="en-US" sz="1800" spc="-1" strike="noStrike">
                <a:solidFill>
                  <a:srgbClr val="000000"/>
                </a:solidFill>
                <a:latin typeface="Arial"/>
              </a:rPr>
              <a:t>Thiết lập một ý định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ặt các quan tâm đạo đức lên trên các quan tâm khác khi quyền của các bên hữu quan hay các nguyên tắc đạo đức then chốt bị vi phạm.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4: </a:t>
            </a:r>
            <a:r>
              <a:rPr b="0" i="1" lang="en-US" sz="1800" spc="-1" strike="noStrike">
                <a:solidFill>
                  <a:srgbClr val="000000"/>
                </a:solidFill>
                <a:latin typeface="Arial"/>
              </a:rPr>
              <a:t>yêu cầu công ty tham gia vào hành vi đạo đức</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hái niệm</a:t>
            </a: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ản trị chiến lược là một bộ các quyết định quản trị và các hành động xác định hiệu suất dài hạ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o lập một viễn cả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t lập các mục tiêu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chiến lược</a:t>
            </a:r>
            <a:r>
              <a:rPr b="0" i="1" lang="en-US" sz="2400" spc="-1" strike="noStrike">
                <a:solidFill>
                  <a:srgbClr val="000000"/>
                </a:solidFill>
                <a:latin typeface="Arial"/>
              </a:rPr>
              <a:t>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thi và điều hành các chiến lượ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amp; điều chỉnh</a:t>
            </a:r>
            <a:r>
              <a:rPr b="0" i="1" lang="en-US"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ÁCH NHIỆM XÃ HỘI CỦA CÔNG TY</a:t>
            </a:r>
            <a:endParaRPr b="0" lang="en-US" sz="3200" spc="-1" strike="noStrike">
              <a:solidFill>
                <a:srgbClr val="000000"/>
              </a:solidFill>
              <a:latin typeface="Arial"/>
            </a:endParaRPr>
          </a:p>
        </p:txBody>
      </p:sp>
      <p:sp>
        <p:nvSpPr>
          <p:cNvPr id="39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ắt buộc để tạo ra chuẩn mực xã hội trong quá trình ra quyết định chiến lược.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đánh giá các quyết định từ một triển vọng đạo đức nên có giả định hướng nâng cao sự thịnh vượng của toàn xã hội.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mục tiêu cụ thể gồm:</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âng cao sự thịnh vượng của các cộng đồng mà công ty đang hoạt độ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hiện môi trườ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o quyền hợp pháp cho người lao động để cho họ một cảm giác về giá trị bản th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ẢN TRỊ CHIẾN LƯỢC</a:t>
            </a:r>
            <a:endParaRPr b="0" lang="en-US" sz="3600" spc="-1" strike="noStrike">
              <a:solidFill>
                <a:srgbClr val="000000"/>
              </a:solidFill>
              <a:latin typeface="Arial"/>
            </a:endParaRPr>
          </a:p>
        </p:txBody>
      </p:sp>
      <p:sp>
        <p:nvSpPr>
          <p:cNvPr id="392" name="PlaceHolder 2"/>
          <p:cNvSpPr>
            <a:spLocks noGrp="1"/>
          </p:cNvSpPr>
          <p:nvPr>
            <p:ph type="subTitle"/>
          </p:nvPr>
        </p:nvSpPr>
        <p:spPr>
          <a:xfrm>
            <a:off x="4114800" y="3048120"/>
            <a:ext cx="449568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ÂN TÍCH MÔI TRƯỜNG BÊN NGOÀ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ánh giá (Ass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òi hỏi nghiên cứu tổng quát tất cả các yếu tố của môi trường bên ngoài</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ằm nhận ra dấu hiệu thay đổi tiềm ẩn trong môi trườ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ó khăn đối với rà soát môi trường là sự mơ hồ, không đầy đủ các dữ liệu và thông tin rời rạ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t động rà soát phải định hướng phù hợp với bối cảnh của tổ chứ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 soát (Scan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 dõi (Monitoring),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ận ra các khuynh hướng quan trọng nảy sinh từ những dấu hiệu từ rà soát môi trườ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a:t>
            </a:r>
            <a:r>
              <a:rPr b="0" i="1" lang="en-US" sz="2000" spc="-1" strike="noStrike">
                <a:solidFill>
                  <a:srgbClr val="000000"/>
                </a:solidFill>
                <a:latin typeface="Arial"/>
              </a:rPr>
              <a:t> phát hiện  ý nghĩa của các sự kiện cũng như khuynh hướng thay đổi khác nha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ốn theo dõi hữu hiệu, doanh nghiệp cần phải nhận rõ các bên hữu quan trọng yế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đặc biệt quan trọng trong ngành đang có sự thay đổi về công nghệ nhanh, khó dự kiế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là công cụ nhận thức những điều mới, quan trọng đang diễn ra trên thị trường, và cách thức thương mại hóa các công nghệ mà doanh nghiệp đang phát triển.</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ự kiến về các sự kiện tiềm ẩn, cách thức và tốc độ xuất hiện của nó như là kết quả lô gic của các thay đổi và khuynh hướng đã được phát hiện qua rà soát và theo dõ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Scann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 dõi (Monitor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ự đoán (Forecast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ánh giá</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ác định thời hạn và tầm quan trọng của các tác động mà những thay đổi khuynh hướng môi trường có thể tác động lên quản trị chiến lược của công 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đánh giá xác định các hàm ý theo cách hiểu của tổ chức</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có đánh giá,  doanh nghiệp sẽ nằm trên đống dữ liệu có thể là rất hữu ích nhưng không hiểu về những gì liên quan đến cạnh tra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pic>
        <p:nvPicPr>
          <p:cNvPr id="404" name="" descr=""/>
          <p:cNvPicPr/>
          <p:nvPr/>
        </p:nvPicPr>
        <p:blipFill>
          <a:blip r:embed="rId1"/>
          <a:stretch/>
        </p:blipFill>
        <p:spPr>
          <a:xfrm>
            <a:off x="609480" y="1676520"/>
            <a:ext cx="8077320" cy="3678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 </a:t>
            </a:r>
            <a:endParaRPr b="0" lang="en-US" sz="4400" spc="-1" strike="noStrike">
              <a:solidFill>
                <a:srgbClr val="000000"/>
              </a:solidFill>
              <a:latin typeface="Arial"/>
            </a:endParaRPr>
          </a:p>
        </p:txBody>
      </p:sp>
      <p:grpSp>
        <p:nvGrpSpPr>
          <p:cNvPr id="406" name=""/>
          <p:cNvGrpSpPr/>
          <p:nvPr/>
        </p:nvGrpSpPr>
        <p:grpSpPr>
          <a:xfrm>
            <a:off x="626760" y="2231640"/>
            <a:ext cx="6789960" cy="3316680"/>
            <a:chOff x="626760" y="2231640"/>
            <a:chExt cx="6789960" cy="3316680"/>
          </a:xfrm>
        </p:grpSpPr>
        <p:sp>
          <p:nvSpPr>
            <p:cNvPr id="407" name=""/>
            <p:cNvSpPr/>
            <p:nvPr/>
          </p:nvSpPr>
          <p:spPr>
            <a:xfrm>
              <a:off x="1000440" y="5268240"/>
              <a:ext cx="1073880" cy="2800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ông nghệ</a:t>
              </a:r>
              <a:endParaRPr b="0" lang="en-US" sz="1200" spc="-1" strike="noStrike">
                <a:solidFill>
                  <a:srgbClr val="000000"/>
                </a:solidFill>
                <a:latin typeface="Arial"/>
              </a:endParaRPr>
            </a:p>
          </p:txBody>
        </p:sp>
        <p:grpSp>
          <p:nvGrpSpPr>
            <p:cNvPr id="408" name=""/>
            <p:cNvGrpSpPr/>
            <p:nvPr/>
          </p:nvGrpSpPr>
          <p:grpSpPr>
            <a:xfrm>
              <a:off x="1607400" y="2231640"/>
              <a:ext cx="5510880" cy="2802600"/>
              <a:chOff x="1607400" y="2231640"/>
              <a:chExt cx="5510880" cy="2802600"/>
            </a:xfrm>
          </p:grpSpPr>
          <p:sp>
            <p:nvSpPr>
              <p:cNvPr id="409" name=""/>
              <p:cNvSpPr/>
              <p:nvPr/>
            </p:nvSpPr>
            <p:spPr>
              <a:xfrm>
                <a:off x="1607400" y="2231640"/>
                <a:ext cx="5510880" cy="28026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382200" y="2337840"/>
                <a:ext cx="1634400" cy="638280"/>
              </a:xfrm>
              <a:prstGeom prst="downArrowCallout">
                <a:avLst>
                  <a:gd name="adj1" fmla="val 64022"/>
                  <a:gd name="adj2" fmla="val 64016"/>
                  <a:gd name="adj3" fmla="val 16667"/>
                  <a:gd name="adj4" fmla="val 66667"/>
                </a:avLst>
              </a:prstGeom>
              <a:gradFill rotWithShape="0">
                <a:gsLst>
                  <a:gs pos="0">
                    <a:srgbClr val="ffff99"/>
                  </a:gs>
                  <a:gs pos="100000">
                    <a:srgbClr val="ffd525">
                      <a:alpha val="98039"/>
                    </a:srgbClr>
                  </a:gs>
                </a:gsLst>
                <a:lin ang="54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guy c</a:t>
                </a:r>
                <a:r>
                  <a:rPr b="0" lang="en-US" sz="1200" spc="-1" strike="noStrike">
                    <a:solidFill>
                      <a:srgbClr val="003366"/>
                    </a:solidFill>
                    <a:latin typeface="Times New Roman"/>
                  </a:rPr>
                  <a:t>ơ</a:t>
                </a:r>
                <a:r>
                  <a:rPr b="0" lang="en-US" sz="1200" spc="-1" strike="noStrike">
                    <a:solidFill>
                      <a:srgbClr val="003366"/>
                    </a:solidFill>
                    <a:latin typeface="Arial"/>
                  </a:rPr>
                  <a:t> của các </a:t>
                </a:r>
                <a:r>
                  <a:rPr b="0" lang="en-US" sz="1200" spc="-1" strike="noStrike">
                    <a:solidFill>
                      <a:srgbClr val="003366"/>
                    </a:solidFill>
                    <a:latin typeface="Times New Roman"/>
                  </a:rPr>
                  <a:t>đối</a:t>
                </a:r>
                <a:r>
                  <a:rPr b="0" lang="en-US" sz="1200" spc="-1" strike="noStrike">
                    <a:solidFill>
                      <a:srgbClr val="003366"/>
                    </a:solidFill>
                    <a:latin typeface="Arial"/>
                  </a:rPr>
                  <a:t> thủ tiềm tàng</a:t>
                </a:r>
                <a:endParaRPr b="0" lang="en-US" sz="1200" spc="-1" strike="noStrike">
                  <a:solidFill>
                    <a:srgbClr val="000000"/>
                  </a:solidFill>
                  <a:latin typeface="Arial"/>
                </a:endParaRPr>
              </a:p>
            </p:txBody>
          </p:sp>
          <p:sp>
            <p:nvSpPr>
              <p:cNvPr id="411" name=""/>
              <p:cNvSpPr/>
              <p:nvPr/>
            </p:nvSpPr>
            <p:spPr>
              <a:xfrm rot="10800000">
                <a:off x="3475080" y="3866040"/>
                <a:ext cx="1541160" cy="815400"/>
              </a:xfrm>
              <a:prstGeom prst="downArrowCallout">
                <a:avLst>
                  <a:gd name="adj1" fmla="val 47256"/>
                  <a:gd name="adj2" fmla="val 47252"/>
                  <a:gd name="adj3" fmla="val 16667"/>
                  <a:gd name="adj4" fmla="val 66667"/>
                </a:avLst>
              </a:prstGeom>
              <a:gradFill rotWithShape="0">
                <a:gsLst>
                  <a:gs pos="0">
                    <a:srgbClr val="ffff99"/>
                  </a:gs>
                  <a:gs pos="100000">
                    <a:srgbClr val="ffd525">
                      <a:alpha val="98039"/>
                    </a:srgbClr>
                  </a:gs>
                </a:gsLst>
                <a:lin ang="16200000"/>
              </a:gradFill>
              <a:ln w="1260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Đ</a:t>
                </a:r>
                <a:r>
                  <a:rPr b="0" lang="en-US" sz="1200" spc="-1" strike="noStrike">
                    <a:solidFill>
                      <a:srgbClr val="003366"/>
                    </a:solidFill>
                    <a:latin typeface="Arial"/>
                  </a:rPr>
                  <a:t>e dọa của sản phẩm thay thế</a:t>
                </a:r>
                <a:endParaRPr b="0" lang="en-US" sz="1200" spc="-1" strike="noStrike">
                  <a:solidFill>
                    <a:srgbClr val="000000"/>
                  </a:solidFill>
                  <a:latin typeface="Arial"/>
                </a:endParaRPr>
              </a:p>
            </p:txBody>
          </p:sp>
          <p:sp>
            <p:nvSpPr>
              <p:cNvPr id="412" name=""/>
              <p:cNvSpPr/>
              <p:nvPr/>
            </p:nvSpPr>
            <p:spPr>
              <a:xfrm rot="16200000">
                <a:off x="2067840" y="2855520"/>
                <a:ext cx="992880" cy="1447560"/>
              </a:xfrm>
              <a:prstGeom prst="downArrowCallout">
                <a:avLst>
                  <a:gd name="adj1" fmla="val 25002"/>
                  <a:gd name="adj2" fmla="val 25000"/>
                  <a:gd name="adj3" fmla="val 24299"/>
                  <a:gd name="adj4" fmla="val 66667"/>
                </a:avLst>
              </a:prstGeom>
              <a:gradFill rotWithShape="0">
                <a:gsLst>
                  <a:gs pos="0">
                    <a:srgbClr val="ffff99"/>
                  </a:gs>
                  <a:gs pos="100000">
                    <a:srgbClr val="ffd525">
                      <a:alpha val="98039"/>
                    </a:srgbClr>
                  </a:gs>
                </a:gsLst>
                <a:lin ang="108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cung cấp</a:t>
                </a:r>
                <a:endParaRPr b="0" lang="en-US" sz="1200" spc="-1" strike="noStrike">
                  <a:solidFill>
                    <a:srgbClr val="000000"/>
                  </a:solidFill>
                  <a:latin typeface="Arial"/>
                </a:endParaRPr>
              </a:p>
            </p:txBody>
          </p:sp>
          <p:grpSp>
            <p:nvGrpSpPr>
              <p:cNvPr id="413" name=""/>
              <p:cNvGrpSpPr/>
              <p:nvPr/>
            </p:nvGrpSpPr>
            <p:grpSpPr>
              <a:xfrm>
                <a:off x="3568680" y="3025440"/>
                <a:ext cx="1494360" cy="744840"/>
                <a:chOff x="3568680" y="3025440"/>
                <a:chExt cx="1494360" cy="744840"/>
              </a:xfrm>
            </p:grpSpPr>
            <p:sp>
              <p:nvSpPr>
                <p:cNvPr id="414" name=""/>
                <p:cNvSpPr/>
                <p:nvPr/>
              </p:nvSpPr>
              <p:spPr>
                <a:xfrm>
                  <a:off x="3568680" y="3025440"/>
                  <a:ext cx="1494360" cy="744840"/>
                </a:xfrm>
                <a:prstGeom prst="rect">
                  <a:avLst/>
                </a:prstGeom>
                <a:gradFill rotWithShape="0">
                  <a:gsLst>
                    <a:gs pos="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615480" y="3060720"/>
                  <a:ext cx="1400760" cy="673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ự ganh </a:t>
                  </a:r>
                  <a:r>
                    <a:rPr b="0" lang="en-US" sz="1200" spc="-1" strike="noStrike">
                      <a:solidFill>
                        <a:srgbClr val="003366"/>
                      </a:solidFill>
                      <a:latin typeface="Times New Roman"/>
                    </a:rPr>
                    <a:t>đ</a:t>
                  </a:r>
                  <a:r>
                    <a:rPr b="0" lang="en-US" sz="1200" spc="-1" strike="noStrike">
                      <a:solidFill>
                        <a:srgbClr val="003366"/>
                      </a:solidFill>
                      <a:latin typeface="Arial"/>
                    </a:rPr>
                    <a:t>ua các công ty hiện có</a:t>
                  </a:r>
                  <a:endParaRPr b="0" lang="en-US" sz="1200" spc="-1" strike="noStrike">
                    <a:solidFill>
                      <a:srgbClr val="000000"/>
                    </a:solidFill>
                    <a:latin typeface="Arial"/>
                  </a:endParaRPr>
                </a:p>
              </p:txBody>
            </p:sp>
          </p:grpSp>
          <p:sp>
            <p:nvSpPr>
              <p:cNvPr id="416" name=""/>
              <p:cNvSpPr/>
              <p:nvPr/>
            </p:nvSpPr>
            <p:spPr>
              <a:xfrm rot="5400000">
                <a:off x="5562000" y="2795760"/>
                <a:ext cx="1003680" cy="1627200"/>
              </a:xfrm>
              <a:prstGeom prst="downArrowCallout">
                <a:avLst>
                  <a:gd name="adj1" fmla="val 25021"/>
                  <a:gd name="adj2" fmla="val 25000"/>
                  <a:gd name="adj3" fmla="val 39998"/>
                  <a:gd name="adj4" fmla="val 66667"/>
                </a:avLst>
              </a:prstGeom>
              <a:gradFill rotWithShape="0">
                <a:gsLst>
                  <a:gs pos="0">
                    <a:srgbClr val="ffff99"/>
                  </a:gs>
                  <a:gs pos="100000">
                    <a:srgbClr val="ffd525">
                      <a:alpha val="98039"/>
                    </a:srgbClr>
                  </a:gs>
                </a:gsLst>
                <a:lin ang="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mua</a:t>
                </a:r>
                <a:endParaRPr b="0" lang="en-US" sz="1200" spc="-1" strike="noStrike">
                  <a:solidFill>
                    <a:srgbClr val="000000"/>
                  </a:solidFill>
                  <a:latin typeface="Arial"/>
                </a:endParaRPr>
              </a:p>
            </p:txBody>
          </p:sp>
        </p:grpSp>
        <p:sp>
          <p:nvSpPr>
            <p:cNvPr id="417" name=""/>
            <p:cNvSpPr/>
            <p:nvPr/>
          </p:nvSpPr>
          <p:spPr>
            <a:xfrm>
              <a:off x="720360" y="2231640"/>
              <a:ext cx="16808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hính trị -pháp luật</a:t>
              </a:r>
              <a:endParaRPr b="0" lang="en-US" sz="1200" spc="-1" strike="noStrike">
                <a:solidFill>
                  <a:srgbClr val="000000"/>
                </a:solidFill>
                <a:latin typeface="Arial"/>
              </a:endParaRPr>
            </a:p>
          </p:txBody>
        </p:sp>
        <p:sp>
          <p:nvSpPr>
            <p:cNvPr id="418" name=""/>
            <p:cNvSpPr/>
            <p:nvPr/>
          </p:nvSpPr>
          <p:spPr>
            <a:xfrm>
              <a:off x="3102120" y="5174640"/>
              <a:ext cx="116712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ân khẩu học</a:t>
              </a:r>
              <a:endParaRPr b="0" lang="en-US" sz="1200" spc="-1" strike="noStrike">
                <a:solidFill>
                  <a:srgbClr val="000000"/>
                </a:solidFill>
                <a:latin typeface="Arial"/>
              </a:endParaRPr>
            </a:p>
          </p:txBody>
        </p:sp>
        <p:sp>
          <p:nvSpPr>
            <p:cNvPr id="419" name=""/>
            <p:cNvSpPr/>
            <p:nvPr/>
          </p:nvSpPr>
          <p:spPr>
            <a:xfrm>
              <a:off x="5623920" y="5221440"/>
              <a:ext cx="140076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Văn hóa x</a:t>
              </a:r>
              <a:r>
                <a:rPr b="0" lang="en-US" sz="1200" spc="-1" strike="noStrike">
                  <a:solidFill>
                    <a:srgbClr val="003366"/>
                  </a:solidFill>
                  <a:latin typeface="Arial"/>
                </a:rPr>
                <a:t>ã hội</a:t>
              </a:r>
              <a:endParaRPr b="0" lang="en-US" sz="1200" spc="-1" strike="noStrike">
                <a:solidFill>
                  <a:srgbClr val="000000"/>
                </a:solidFill>
                <a:latin typeface="Arial"/>
              </a:endParaRPr>
            </a:p>
          </p:txBody>
        </p:sp>
        <p:sp>
          <p:nvSpPr>
            <p:cNvPr id="420" name=""/>
            <p:cNvSpPr/>
            <p:nvPr/>
          </p:nvSpPr>
          <p:spPr>
            <a:xfrm>
              <a:off x="6324480" y="227844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inh tế</a:t>
              </a:r>
              <a:endParaRPr b="0" lang="en-US" sz="1200" spc="-1" strike="noStrike">
                <a:solidFill>
                  <a:srgbClr val="000000"/>
                </a:solidFill>
                <a:latin typeface="Arial"/>
              </a:endParaRPr>
            </a:p>
          </p:txBody>
        </p:sp>
        <p:sp>
          <p:nvSpPr>
            <p:cNvPr id="421" name=""/>
            <p:cNvSpPr/>
            <p:nvPr/>
          </p:nvSpPr>
          <p:spPr>
            <a:xfrm>
              <a:off x="626760" y="363312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àn cầu</a:t>
              </a:r>
              <a:endParaRPr b="0" lang="en-US" sz="1200" spc="-1" strike="noStrike">
                <a:solidFill>
                  <a:srgbClr val="000000"/>
                </a:solidFill>
                <a:latin typeface="Arial"/>
              </a:endParaRPr>
            </a:p>
          </p:txBody>
        </p:sp>
        <p:sp>
          <p:nvSpPr>
            <p:cNvPr id="422" name=""/>
            <p:cNvSpPr/>
            <p:nvPr/>
          </p:nvSpPr>
          <p:spPr>
            <a:xfrm>
              <a:off x="813600" y="3726360"/>
              <a:ext cx="700560" cy="560520"/>
            </a:xfrm>
            <a:custGeom>
              <a:avLst/>
              <a:gdLst>
                <a:gd name="textAreaLeft" fmla="*/ 109440 w 700560"/>
                <a:gd name="textAreaRight" fmla="*/ 613080 w 7005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19508400">
              <a:off x="1654200" y="461376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2894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253000">
              <a:off x="1327320" y="251208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855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16069200">
              <a:off x="4521600" y="4964040"/>
              <a:ext cx="326880" cy="560160"/>
            </a:xfrm>
            <a:custGeom>
              <a:avLst/>
              <a:gdLst>
                <a:gd name="textAreaLeft" fmla="*/ 51120 w 326880"/>
                <a:gd name="textAreaRight" fmla="*/ 286200 w 326880"/>
                <a:gd name="textAreaTop" fmla="*/ 140040 h 560160"/>
                <a:gd name="textAreaBottom" fmla="*/ 420120 h 560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6332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13497000">
              <a:off x="6278040" y="456660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8906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8611800">
              <a:off x="6744600" y="251136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219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876920" y="3399480"/>
              <a:ext cx="186480" cy="700560"/>
            </a:xfrm>
            <a:custGeom>
              <a:avLst/>
              <a:gdLst>
                <a:gd name="textAreaLeft" fmla="*/ 24840 w 186480"/>
                <a:gd name="textAreaRight" fmla="*/ 161640 w 186480"/>
                <a:gd name="textAreaTop" fmla="*/ 122400 h 700560"/>
                <a:gd name="textAreaBottom" fmla="*/ 507960 h 70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16413600">
              <a:off x="3332160" y="3682800"/>
              <a:ext cx="700560" cy="227520"/>
            </a:xfrm>
            <a:custGeom>
              <a:avLst/>
              <a:gdLst>
                <a:gd name="textAreaLeft" fmla="*/ 122400 w 700560"/>
                <a:gd name="textAreaRight" fmla="*/ 507960 w 700560"/>
                <a:gd name="textAreaTop" fmla="*/ 30240 h 227520"/>
                <a:gd name="textAreaBottom" fmla="*/ 197280 h 22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i trường kinh tế</a:t>
            </a:r>
            <a:r>
              <a:rPr b="1"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ạng thái của môi trường kinh tế vĩ mô xác định sự lành mạnh, thịnh vượng của nền kinh tế, nó luôn gây ra những tác động đến các doanh nghiệp và các ngàn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ôi trường kinh tế chỉ bản chất và định hướng của nền kinh tế trong đó doanh nghiệp hoạt độ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ác ảnh hưởng của nền kinh tế đến một công ty có thể làm thay đổi khả năng tạo giá trị và thu nhập của nó</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ốn nhân tố quan trọng trong môi trường kinh tế vĩ mô:</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ỷ lệ tăng trưởng của nền kinh tế,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ãi suất,</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ỷ suất hối đoái,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ỷ lệ lạm phát.</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IỆM VỤ </a:t>
            </a:r>
            <a:br>
              <a:rPr sz="4000"/>
            </a:br>
            <a:r>
              <a:rPr b="0" lang="en-US" sz="4000" spc="-1" strike="noStrike">
                <a:solidFill>
                  <a:srgbClr val="000000"/>
                </a:solidFill>
                <a:latin typeface="Arial"/>
              </a:rPr>
              <a:t>CỦA QUẢN TRỊ CHIẾN LƯỢC</a:t>
            </a:r>
            <a:endParaRPr b="0" lang="en-US" sz="4000" spc="-1" strike="noStrike">
              <a:solidFill>
                <a:srgbClr val="000000"/>
              </a:solidFill>
              <a:latin typeface="Arial"/>
            </a:endParaRPr>
          </a:p>
        </p:txBody>
      </p:sp>
      <p:grpSp>
        <p:nvGrpSpPr>
          <p:cNvPr id="54" name=""/>
          <p:cNvGrpSpPr/>
          <p:nvPr/>
        </p:nvGrpSpPr>
        <p:grpSpPr>
          <a:xfrm>
            <a:off x="686520" y="2133720"/>
            <a:ext cx="7114320" cy="2936880"/>
            <a:chOff x="686520" y="2133720"/>
            <a:chExt cx="7114320" cy="2936880"/>
          </a:xfrm>
        </p:grpSpPr>
        <p:grpSp>
          <p:nvGrpSpPr>
            <p:cNvPr id="55" name=""/>
            <p:cNvGrpSpPr/>
            <p:nvPr/>
          </p:nvGrpSpPr>
          <p:grpSpPr>
            <a:xfrm>
              <a:off x="778320" y="2133720"/>
              <a:ext cx="1239120" cy="1105920"/>
              <a:chOff x="778320" y="2133720"/>
              <a:chExt cx="1239120" cy="1105920"/>
            </a:xfrm>
          </p:grpSpPr>
          <p:sp>
            <p:nvSpPr>
              <p:cNvPr id="56" name=""/>
              <p:cNvSpPr/>
              <p:nvPr/>
            </p:nvSpPr>
            <p:spPr>
              <a:xfrm>
                <a:off x="778320" y="2133720"/>
                <a:ext cx="1239120" cy="11059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828720" y="2168640"/>
                <a:ext cx="1139400" cy="103680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Phát triển viễn cảnh chiến lược và sứ mệnh</a:t>
                </a:r>
                <a:endParaRPr b="0" lang="en-US" sz="1000" spc="-1" strike="noStrike">
                  <a:solidFill>
                    <a:srgbClr val="000000"/>
                  </a:solidFill>
                  <a:latin typeface="Arial"/>
                </a:endParaRPr>
              </a:p>
            </p:txBody>
          </p:sp>
        </p:grpSp>
        <p:grpSp>
          <p:nvGrpSpPr>
            <p:cNvPr id="58" name=""/>
            <p:cNvGrpSpPr/>
            <p:nvPr/>
          </p:nvGrpSpPr>
          <p:grpSpPr>
            <a:xfrm>
              <a:off x="2269800" y="2133720"/>
              <a:ext cx="1147320" cy="1147320"/>
              <a:chOff x="2269800" y="2133720"/>
              <a:chExt cx="1147320" cy="1147320"/>
            </a:xfrm>
          </p:grpSpPr>
          <p:sp>
            <p:nvSpPr>
              <p:cNvPr id="59" name=""/>
              <p:cNvSpPr/>
              <p:nvPr/>
            </p:nvSpPr>
            <p:spPr>
              <a:xfrm>
                <a:off x="226980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31660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Thiết lập mục tiêu</a:t>
                </a:r>
                <a:endParaRPr b="0" lang="en-US" sz="1000" spc="-1" strike="noStrike">
                  <a:solidFill>
                    <a:srgbClr val="000000"/>
                  </a:solidFill>
                  <a:latin typeface="Arial"/>
                </a:endParaRPr>
              </a:p>
            </p:txBody>
          </p:sp>
        </p:grpSp>
        <p:grpSp>
          <p:nvGrpSpPr>
            <p:cNvPr id="61" name=""/>
            <p:cNvGrpSpPr/>
            <p:nvPr/>
          </p:nvGrpSpPr>
          <p:grpSpPr>
            <a:xfrm>
              <a:off x="3669840" y="2133720"/>
              <a:ext cx="1147320" cy="1147320"/>
              <a:chOff x="3669840" y="2133720"/>
              <a:chExt cx="1147320" cy="1147320"/>
            </a:xfrm>
          </p:grpSpPr>
          <p:sp>
            <p:nvSpPr>
              <p:cNvPr id="62" name=""/>
              <p:cNvSpPr/>
              <p:nvPr/>
            </p:nvSpPr>
            <p:spPr>
              <a:xfrm>
                <a:off x="366984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71664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Xây dựng các chiến lược để đạt mục tiêu</a:t>
                </a:r>
                <a:endParaRPr b="0" lang="en-US" sz="1000" spc="-1" strike="noStrike">
                  <a:solidFill>
                    <a:srgbClr val="000000"/>
                  </a:solidFill>
                  <a:latin typeface="Arial"/>
                </a:endParaRPr>
              </a:p>
            </p:txBody>
          </p:sp>
        </p:grpSp>
        <p:grpSp>
          <p:nvGrpSpPr>
            <p:cNvPr id="64" name=""/>
            <p:cNvGrpSpPr/>
            <p:nvPr/>
          </p:nvGrpSpPr>
          <p:grpSpPr>
            <a:xfrm>
              <a:off x="5046840" y="2133720"/>
              <a:ext cx="1145880" cy="1137600"/>
              <a:chOff x="5046840" y="2133720"/>
              <a:chExt cx="1145880" cy="1137600"/>
            </a:xfrm>
          </p:grpSpPr>
          <p:sp>
            <p:nvSpPr>
              <p:cNvPr id="65" name=""/>
              <p:cNvSpPr/>
              <p:nvPr/>
            </p:nvSpPr>
            <p:spPr>
              <a:xfrm>
                <a:off x="5046840" y="2133720"/>
                <a:ext cx="1145880" cy="113760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093640" y="2169360"/>
                <a:ext cx="1053720" cy="106632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Thực thi và điều hành các chiến lược đ</a:t>
                </a:r>
                <a:r>
                  <a:rPr b="1" lang="en-US" sz="1000" spc="-1" strike="noStrike">
                    <a:solidFill>
                      <a:srgbClr val="000080"/>
                    </a:solidFill>
                    <a:latin typeface="Arial"/>
                  </a:rPr>
                  <a:t>ã chọn</a:t>
                </a:r>
                <a:endParaRPr b="0" lang="en-US" sz="1000" spc="-1" strike="noStrike">
                  <a:solidFill>
                    <a:srgbClr val="000000"/>
                  </a:solidFill>
                  <a:latin typeface="Arial"/>
                </a:endParaRPr>
              </a:p>
            </p:txBody>
          </p:sp>
        </p:grpSp>
        <p:grpSp>
          <p:nvGrpSpPr>
            <p:cNvPr id="67" name=""/>
            <p:cNvGrpSpPr/>
            <p:nvPr/>
          </p:nvGrpSpPr>
          <p:grpSpPr>
            <a:xfrm>
              <a:off x="6469920" y="2133720"/>
              <a:ext cx="1146600" cy="1101240"/>
              <a:chOff x="6469920" y="2133720"/>
              <a:chExt cx="1146600" cy="1101240"/>
            </a:xfrm>
          </p:grpSpPr>
          <p:sp>
            <p:nvSpPr>
              <p:cNvPr id="68" name=""/>
              <p:cNvSpPr/>
              <p:nvPr/>
            </p:nvSpPr>
            <p:spPr>
              <a:xfrm>
                <a:off x="6469920" y="2133720"/>
                <a:ext cx="1146600" cy="110124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16720" y="2168280"/>
                <a:ext cx="1054440" cy="10324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Đánh giá thực hiện, theo d</a:t>
                </a:r>
                <a:r>
                  <a:rPr b="1" lang="en-US" sz="1000" spc="-1" strike="noStrike">
                    <a:solidFill>
                      <a:srgbClr val="000080"/>
                    </a:solidFill>
                    <a:latin typeface="Arial"/>
                  </a:rPr>
                  <a:t>õi, sủa chữa </a:t>
                </a:r>
                <a:r>
                  <a:rPr b="1" lang="en-US" sz="1000" spc="-1" strike="noStrike">
                    <a:solidFill>
                      <a:srgbClr val="000080"/>
                    </a:solidFill>
                    <a:latin typeface="Times New Roman"/>
                  </a:rPr>
                  <a:t>điều chỉnh </a:t>
                </a:r>
                <a:endParaRPr b="0" lang="en-US" sz="1000" spc="-1" strike="noStrike">
                  <a:solidFill>
                    <a:srgbClr val="000000"/>
                  </a:solidFill>
                  <a:latin typeface="Arial"/>
                </a:endParaRPr>
              </a:p>
            </p:txBody>
          </p:sp>
        </p:grpSp>
        <p:grpSp>
          <p:nvGrpSpPr>
            <p:cNvPr id="70" name=""/>
            <p:cNvGrpSpPr/>
            <p:nvPr/>
          </p:nvGrpSpPr>
          <p:grpSpPr>
            <a:xfrm>
              <a:off x="3486240" y="3602160"/>
              <a:ext cx="1422720" cy="963720"/>
              <a:chOff x="3486240" y="3602160"/>
              <a:chExt cx="1422720" cy="963720"/>
            </a:xfrm>
          </p:grpSpPr>
          <p:sp>
            <p:nvSpPr>
              <p:cNvPr id="71" name=""/>
              <p:cNvSpPr/>
              <p:nvPr/>
            </p:nvSpPr>
            <p:spPr>
              <a:xfrm>
                <a:off x="3486240" y="3602160"/>
                <a:ext cx="1422720" cy="9637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546360" y="3663360"/>
                <a:ext cx="1296720" cy="8420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3" name=""/>
            <p:cNvGrpSpPr/>
            <p:nvPr/>
          </p:nvGrpSpPr>
          <p:grpSpPr>
            <a:xfrm>
              <a:off x="686520" y="3648240"/>
              <a:ext cx="1239120" cy="780120"/>
              <a:chOff x="686520" y="3648240"/>
              <a:chExt cx="1239120" cy="780120"/>
            </a:xfrm>
          </p:grpSpPr>
          <p:sp>
            <p:nvSpPr>
              <p:cNvPr id="74" name=""/>
              <p:cNvSpPr/>
              <p:nvPr/>
            </p:nvSpPr>
            <p:spPr>
              <a:xfrm>
                <a:off x="686520" y="3648240"/>
                <a:ext cx="1239120" cy="7801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9080" y="3697560"/>
                <a:ext cx="1129320" cy="6818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6" name=""/>
            <p:cNvGrpSpPr/>
            <p:nvPr/>
          </p:nvGrpSpPr>
          <p:grpSpPr>
            <a:xfrm>
              <a:off x="2155320" y="3648960"/>
              <a:ext cx="1239120" cy="779400"/>
              <a:chOff x="2155320" y="3648960"/>
              <a:chExt cx="1239120" cy="779400"/>
            </a:xfrm>
          </p:grpSpPr>
          <p:sp>
            <p:nvSpPr>
              <p:cNvPr id="77" name=""/>
              <p:cNvSpPr/>
              <p:nvPr/>
            </p:nvSpPr>
            <p:spPr>
              <a:xfrm>
                <a:off x="2155320" y="3648960"/>
                <a:ext cx="1239120" cy="77940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07880" y="3698280"/>
                <a:ext cx="1129320" cy="68112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9" name=""/>
            <p:cNvGrpSpPr/>
            <p:nvPr/>
          </p:nvGrpSpPr>
          <p:grpSpPr>
            <a:xfrm>
              <a:off x="5092920" y="3648240"/>
              <a:ext cx="1239120" cy="825840"/>
              <a:chOff x="5092920" y="3648240"/>
              <a:chExt cx="1239120" cy="825840"/>
            </a:xfrm>
          </p:grpSpPr>
          <p:sp>
            <p:nvSpPr>
              <p:cNvPr id="80" name=""/>
              <p:cNvSpPr/>
              <p:nvPr/>
            </p:nvSpPr>
            <p:spPr>
              <a:xfrm>
                <a:off x="50929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
              <p:cNvSpPr/>
              <p:nvPr/>
            </p:nvSpPr>
            <p:spPr>
              <a:xfrm>
                <a:off x="51454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82" name=""/>
            <p:cNvGrpSpPr/>
            <p:nvPr/>
          </p:nvGrpSpPr>
          <p:grpSpPr>
            <a:xfrm>
              <a:off x="6561720" y="3648240"/>
              <a:ext cx="1239120" cy="825840"/>
              <a:chOff x="6561720" y="3648240"/>
              <a:chExt cx="1239120" cy="825840"/>
            </a:xfrm>
          </p:grpSpPr>
          <p:sp>
            <p:nvSpPr>
              <p:cNvPr id="83" name=""/>
              <p:cNvSpPr/>
              <p:nvPr/>
            </p:nvSpPr>
            <p:spPr>
              <a:xfrm>
                <a:off x="65617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6142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Khôi phục 1,2,3,4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sp>
          <p:nvSpPr>
            <p:cNvPr id="85" name=""/>
            <p:cNvSpPr/>
            <p:nvPr/>
          </p:nvSpPr>
          <p:spPr>
            <a:xfrm>
              <a:off x="20512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451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48520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6250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rot="16200000">
              <a:off x="12261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6200000">
              <a:off x="268272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16200000">
              <a:off x="409464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16200000">
              <a:off x="55407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5400000">
              <a:off x="70095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54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1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7000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6791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6371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5951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a:off x="6161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658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57556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55454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53352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a:off x="5126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706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4286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496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915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41032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3886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3682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473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3053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634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2843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3263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24508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22341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030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82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1401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9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6110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rot="5400000">
              <a:off x="718092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6200000">
              <a:off x="557460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6200000">
              <a:off x="98460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16200000">
              <a:off x="263736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424368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y đổi công nghệ tác động lên nhiều bộ phận của xã hộ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nghệ bao gồm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thể chế,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hoạt động liên quan đến việc sáng tạo ra các kiến thức mới,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uyển dịch các kiến thức đó đến các đầu ra: các sản phẩm, các quá trình và các vật liệu mới. </a:t>
            </a:r>
            <a:endParaRPr b="0" i="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bao gồm cả sáng tạo và hủy diệt,  cả cơ hội và đe dọ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có thể tác động lên chiều cao của rào cản nhập cuộc và định hình lại cấu trúc ngành tận gốc rễ.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không gian toàn cầu, các cơ hội và đe dọa của công nghệ động lên mọi doanh nghiệp:</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ằng việc mua từ bên ngoài hay </a:t>
            </a:r>
            <a:endParaRPr b="0" i="1"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sáng tạo ra công nghệ mới.</a:t>
            </a:r>
            <a:endParaRPr b="0" i="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ôi trường văn hóa xã hội.</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Liên quan đến các thái độ xã hội và các giá trị văn hóa</a:t>
            </a:r>
            <a:r>
              <a:rPr b="0" lang="fr-FR"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Các giá trị văn hóa và thái độ xã hội tạo nên nền tảng của xã hội, </a:t>
            </a:r>
            <a:r>
              <a:rPr b="0" lang="fr-FR" sz="2800" spc="-1" strike="noStrike">
                <a:solidFill>
                  <a:srgbClr val="000000"/>
                </a:solidFill>
                <a:latin typeface="Wingdings"/>
                <a:ea typeface="Wingdings"/>
              </a:rPr>
              <a:t></a:t>
            </a:r>
            <a:r>
              <a:rPr b="0" lang="fr-FR" sz="2800" spc="-1" strike="noStrike">
                <a:solidFill>
                  <a:srgbClr val="000000"/>
                </a:solidFill>
                <a:latin typeface="Arial"/>
              </a:rPr>
              <a:t> dẫn dắt </a:t>
            </a:r>
            <a:r>
              <a:rPr b="0" lang="fr-FR" sz="2800" spc="-1" strike="noStrike">
                <a:solidFill>
                  <a:srgbClr val="000000"/>
                </a:solidFill>
                <a:latin typeface="Arial"/>
              </a:rPr>
              <a:t>	</a:t>
            </a:r>
            <a:r>
              <a:rPr b="0" lang="fr-FR" sz="2800" spc="-1" strike="noStrike">
                <a:solidFill>
                  <a:srgbClr val="000000"/>
                </a:solidFill>
                <a:latin typeface="Arial"/>
              </a:rPr>
              <a:t>các thay đổi và các điều kiện công nghệ, chính trị-luật pháp, kinh tế và nhân </a:t>
            </a:r>
            <a:r>
              <a:rPr b="0" lang="fr-FR" sz="2800" spc="-1" strike="noStrike">
                <a:solidFill>
                  <a:srgbClr val="000000"/>
                </a:solidFill>
                <a:latin typeface="Arial"/>
              </a:rPr>
              <a:t>	</a:t>
            </a:r>
            <a:r>
              <a:rPr b="0" lang="fr-FR" sz="2800" spc="-1" strike="noStrike">
                <a:solidFill>
                  <a:srgbClr val="000000"/>
                </a:solidFill>
                <a:latin typeface="Arial"/>
              </a:rPr>
              <a:t>khẩu.</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Thay đổi xã hội cũng tạo ra các cơ hội và đe dọa</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Môi trường nhân khẩu học</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Phân đoạn nhân khẩu học trong môi trường vĩ mô liên quan đến:</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ân số,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ấu trúc tuổi,</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hân bố địa lý,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ộng đồng các dân tộc,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à phân phối thu nhập</a:t>
            </a:r>
            <a:r>
              <a:rPr b="0" i="1" lang="fr-FR"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ôi trường chính trị - luật pháp. </a:t>
            </a:r>
            <a:endParaRPr b="0" lang="en-US" sz="18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hân tố chính trị và luật pháp cũng có tác động lớn đến mức độ của các cơ hội và đe dọa từ môi trường.</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Điều chủ yếu là cách thức tương tác giữa các doanh nghiệp &amp; chính phủ,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ay đổi liên tục, phân đoạn này sẽ gây ảnh hưởng đáng kể đến cạnh tranh. </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ần phân tích:</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triết lý,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ác chính sách mới có liên quan của quản lý nhà nước.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chống độc quyền, luật thuế,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gành lựa chọn để điều chỉnh hay ưu tiên,</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lao động,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Những lĩnh vực trong đó các chính sách quản lý Nhà nước có thể tác động đến hoạt động và khả năng sinh lợi của ngành hay của các doanh nghiệp.</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ên phạm vi toàn cầu các công ty cũng phải đối mặt với hàng loạt các vấn đề đáng quan tâm về chính trị pháp luật. </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chính sách thương mại,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rào cản bảo hộ có tính quốc gia. </a:t>
            </a:r>
            <a:endParaRPr b="0" i="1"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Môi trường toàn cầu</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Bao gồm:</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các thị trường toàn cầu có liên quan,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thị trường hiện tại đang thay đổi,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sự kiện chính trị quốc tế quan trọng,</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thể chế và văn hóa cơ bản trên các thị trường toàn cầu. </a:t>
            </a:r>
            <a:endParaRPr b="0" i="1" lang="en-US" sz="20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oàn cầu hóa các thị trường kinh doanh tạo ra cả cơ hội lẫn đe dọa.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ần nhận thức về các đặc tính  khác biệt văn hóa xã hội và thể chế của các thị trường toàn cầ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pic>
        <p:nvPicPr>
          <p:cNvPr id="445" name="" descr=""/>
          <p:cNvPicPr/>
          <p:nvPr/>
        </p:nvPicPr>
        <p:blipFill>
          <a:blip r:embed="rId1"/>
          <a:stretch/>
        </p:blipFill>
        <p:spPr>
          <a:xfrm>
            <a:off x="685800" y="1600200"/>
            <a:ext cx="8077320" cy="379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Ngành là một nhóm các công ty cung cấp các </a:t>
            </a:r>
            <a:r>
              <a:rPr b="1" i="1" lang="fr-FR" sz="3200" spc="-1" strike="noStrike">
                <a:solidFill>
                  <a:srgbClr val="000000"/>
                </a:solidFill>
                <a:latin typeface="Arial"/>
              </a:rPr>
              <a:t>sản phẩm hay dịch vụ có thể thay thế chặt chẽ</a:t>
            </a:r>
            <a:r>
              <a:rPr b="0" i="1" lang="fr-FR" sz="3200" spc="-1" strike="noStrike">
                <a:solidFill>
                  <a:srgbClr val="000000"/>
                </a:solidFill>
                <a:latin typeface="Arial"/>
              </a:rPr>
              <a:t> với nhau</a:t>
            </a:r>
            <a:r>
              <a:rPr b="0" lang="fr-FR"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Sự thay thế một cách chặt chẽ có nghĩa là các sản phẩm hay dịch vụ thỏa mãn các nhu cầu khách hàng về cơ bản tương tự nhau</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gành rất khác nhau về:</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đặc tính kinh tế,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ùy theo các nhân tố như: qui mô và tốc độ tăng trưởng thị trường,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ốc độ thay đổi công nghệ,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ranh giới địa lý của thị trường (địa phương hay toàn cầu),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ố lượng, qui mô của những người mua và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tác động của tính kinh tế về qui mô đến sản phẩm của người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kiểu kênh phân phối…</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ình thế cạnh tranh, và triển vọng thu lợi nhuận trong tương lai.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ạnh tranh có thể  vừa phải, dữ dội, thậm chí là tàn khốc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tiêu điểm cạnh tranh, có thể là giá, có thể là chất lượng, cải tiến hay rất nhiều các đặc tính hiệu năng khác.</a:t>
            </a:r>
            <a:endParaRPr b="0" i="1"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iện mạo kinh tế và các điều kiện cạnh tranh hiện tại cũng như dự kiến tương lai của ngành là cơ sở để tiên liệu lợi nhuận tương lai là thấp, trung bình hay tuyệt vời. </a:t>
            </a:r>
            <a:r>
              <a:rPr b="0" lang="fr-FR" sz="2000" spc="-1" strike="noStrike">
                <a:solidFill>
                  <a:srgbClr val="000000"/>
                </a:solidFill>
                <a:latin typeface="Wingdings"/>
                <a:ea typeface="Wingdings"/>
              </a:rPr>
              <a:t></a:t>
            </a:r>
            <a:r>
              <a:rPr b="0" lang="fr-FR" sz="2000" spc="-1" strike="noStrike">
                <a:solidFill>
                  <a:srgbClr val="000000"/>
                </a:solidFill>
                <a:latin typeface="Arial"/>
              </a:rPr>
              <a:t> </a:t>
            </a:r>
            <a:r>
              <a:rPr b="1" i="1" lang="fr-FR" sz="2000" spc="-1" strike="noStrike">
                <a:solidFill>
                  <a:srgbClr val="000000"/>
                </a:solidFill>
                <a:latin typeface="Arial"/>
              </a:rPr>
              <a:t>Tính hấp dẫn của ngà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hân tích ngành và cạnh tranh là một tập hợp các quan niệm và kỹ thuật để làm sáng tỏ các vấn đề then chốt về:</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kinh tế nổi bật của ngà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lực lượng cạnh tranh, bản chất và sức mạnh của mỗi lực lượ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ộng lực gây ra sự thay đổi trong ngành và tác động của chú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công ty có vị thế mạnh nhất và yếu nhấ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i có thể sẽ là người tạo ra các dịch chuyển tiếp theo </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hân tố then chốt cho sự thành bại trong cạnh tra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ính hấp dẫn trên phương diện khả năng thu được lợi nhuận trên trung b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ền tảng:</a:t>
            </a:r>
            <a:endParaRPr b="0" i="1"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ghiên cứu quá trình bên trong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i trò quan trọng của nhà quản trị</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ếp cận tình huốn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ăng lực gây khác biệt”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ạng thái bên trong”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ác kỳ vọng bên ngoài”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ối liên hệ giữa chiến lược và cấu trú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ô hình năm lực lượng cạnh tranh (Michael E.Porter )</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ó năm lực lượng định hướng cạnh tranh  trong phạm vi ngành:</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uy cơ nhập cuộc của các đối thủ cạnh tranh tiềm tàng;</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cạnh tranh giữa các công ty hiện có trong ngành;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mua;</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bán;</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của các sản phẩm thay thế.</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lực lượng cạnh tranh càng mạnh, càng hạn chế khả năng để các công ty hiện tại tăng giá và có được lợi nhuận cao hơn.</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ực lượng cạnh tranh mạnh có thể xem như một sự đe dọa, -</a:t>
            </a:r>
            <a:r>
              <a:rPr b="0" lang="fr-FR" sz="1800" spc="-1" strike="noStrike">
                <a:solidFill>
                  <a:srgbClr val="000000"/>
                </a:solidFill>
                <a:latin typeface="Wingdings"/>
                <a:ea typeface="Wingdings"/>
              </a:rPr>
              <a:t></a:t>
            </a:r>
            <a:r>
              <a:rPr b="0" lang="fr-FR" sz="1800" spc="-1" strike="noStrike">
                <a:solidFill>
                  <a:srgbClr val="000000"/>
                </a:solidFill>
                <a:latin typeface="Arial"/>
              </a:rPr>
              <a:t> sẽ làm giảm thấp lợi nhuận.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ức mạnh của năm lực lượng có thể thay đổi theo thời gian, khi các điều kiện ngành thay đổi.</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nhận thức về những cơ hội và nguy cơ, do thay đổi của năm lực lượng sẽ đem lại, để xây dựng các chiến lược thích ứ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55" name="" descr=""/>
          <p:cNvPicPr/>
          <p:nvPr/>
        </p:nvPicPr>
        <p:blipFill>
          <a:blip r:embed="rId1"/>
          <a:stretch/>
        </p:blipFill>
        <p:spPr>
          <a:xfrm>
            <a:off x="609480" y="1523880"/>
            <a:ext cx="7543800" cy="462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ô hình năm lực lượng cạnh tranh (Michael E.Porter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đối thủ cạnh tranh tiềm tàng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Đem vào cho ngành các năng lực sản xuất mới. </a:t>
            </a:r>
            <a:r>
              <a:rPr b="0" lang="en-US" sz="1600" spc="-1" strike="noStrike">
                <a:solidFill>
                  <a:srgbClr val="000000"/>
                </a:solidFill>
                <a:latin typeface="Wingdings"/>
                <a:ea typeface="Wingdings"/>
              </a:rPr>
              <a:t></a:t>
            </a:r>
            <a:r>
              <a:rPr b="0" lang="en-US" sz="1600" spc="-1" strike="noStrike">
                <a:solidFill>
                  <a:srgbClr val="000000"/>
                </a:solidFill>
                <a:latin typeface="Arial"/>
              </a:rPr>
              <a:t> thúc ép các công ty hiện có trong ngành phải trở nên hữu hiệu hơn, hiệu quả hơn và phải biết cách cạnh tranh với các thuộc tính mới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hiện có trong ngành cố gắng ngăn cản các đối thủ tiềm tàng không cho họ gia nhập ngành.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ức mạnh của đối thủ cạnh tranh tiềm tàng là một hàm số với chiều cao của các rào cản nhập cuộc.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ào cản nhập cuộc là các nhân tố gây khó khăn tốn kém cho các đối thủ khi họ muốn thâm nhập ngành, và thậm chí khi họ có thể thâm nhập, họ sẽ bị đặt vào thế bất lợi</a:t>
            </a:r>
            <a:r>
              <a:rPr b="0" i="1" lang="en-US" sz="1400" spc="-1" strike="noStrike">
                <a:solidFill>
                  <a:srgbClr val="000000"/>
                </a:solidFill>
                <a:latin typeface="Arial"/>
              </a:rPr>
              <a:t>. </a:t>
            </a:r>
            <a:endParaRPr b="0" i="1"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oe Bain, định ba nguồn rào cản nhập cuộc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ự trung thành nhãn hiệu;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ợi thế chi phí tuyệt đố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à tính kinh tế của qui mô. </a:t>
            </a:r>
            <a:endParaRPr b="0" lang="en-US" sz="12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goài ra có thể thêm hai rào cản quan trọng đáng xem xét trong nhiều trường hợp đó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 phí chuyển đổ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định của chính phủ và sự trả đũ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ự trung thành nhãn hiệu. </a:t>
            </a:r>
            <a:endParaRPr b="0" i="1"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ưa thích mà người mua dành cho sản phẩm của các công ty hiện tại.</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ỗi công ty có thể tạo ra sự trung thành nhãn hiệu nhờ:</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ệc quảng cáo liên tục nhãn hiệu và tên của công ty,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ảo vệ bản quyền của các sản phẩm,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ải tiến sản phẩm thông qua các chương trình R&amp;D,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hấn mạnh vào chất lượng sản phẩm, và dịch vụ hậu mãi. </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trung thành nhãn hiệu sẽ gây khó khăn cho những người mới nhập cuộc muốn chiếm thị phần của các công ty hiện tạ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ự trung thành nhãn hiệu.</a:t>
            </a:r>
            <a:r>
              <a:rPr b="1"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ợi thế chi phí tuyệt đối</a:t>
            </a:r>
            <a:r>
              <a:rPr b="0" lang="en-US" sz="2000" spc="-1" strike="noStrike">
                <a:solidFill>
                  <a:srgbClr val="000000"/>
                </a:solidFill>
                <a:latin typeface="Arial"/>
              </a:rPr>
              <a:t>.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ác lợi thế về chi phí tuyệt đối như vậy sinh ra từ: </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ận hành sản xuất vượt trội nhờ kinh nghiệm quá khứ</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ểm soát các đầu vào đặc biệt cho sản xuất</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ếp cận các nguồn vốn rẻ hơn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ếu các công ty hiện tại có lợi thế chi phí tuyệt đối, thì đe dọa từ những người nhập cuộc giảm xuố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 phí chuyển đổi.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xuất hiện một lần khi khách hàng muốn chuyển đổi việc mua sắm của mình sang nhà cung cấp khá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ác phí chuyển đổi liên quan đến:</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hi phí mua sắm các thiết bị phụ,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huấn luyện nhân viên,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ậm chí cả hao phí tinh thần khi phải chấm dứt một mối liên hệ.</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ếu chi phí chuyển đổi cao, khách hàng như bị kìm giữ vào những sản phẩm của công ty hiện tại, ngay cả khi sản phẩm của người mới gia nhập tốt hơ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đối thủ cạnh tranh tiềm tà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 phí chuyển đổi.</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qui định của chính phủ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ự trả đũa</a:t>
            </a:r>
            <a:r>
              <a:rPr b="0"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hản ứng của các doanh nghiệp ở trong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ốc độ và sự mãnh liệt của việc trả đũa của đối thủ hiện tại sẽ thể làm nhụt chí của các đối thủ muốn thâm nhập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ự trả đũa sẽ mãnh liệt khi các doanh nghiệp hiện tại trong ngành có dự phần đáng kể, (ví dụ, nó có các tài sản cố định với ít khả năng chuyển đổi), cam kết nguồn lực đáng kể, hay khi ngành tăng trưởng chậ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ùng lệ thuộc lẫn nhau, diễn ra các hành động tấn công và đáp trả.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ự ganh đua mãnh liệt khi:</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ị thách thức bởi các hành động của doanh nghiệp khá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hay khi doanh nghiệp nào đó nhận thức được một cơ hội cải thiện vị thế của nó trên thị trườ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mức độ ganh đua trong ngành phụ thuộc: </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ấu trúc cạnh tranh ngành;</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các điều kiện nhu cầu;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rào cản rời khỏi ngành ca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ấu trúc cạnh tranh. </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Phân bố số lượng và qui mô của các công ty trong ngành</a:t>
            </a:r>
            <a:endParaRPr b="0" i="1"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r>
              <a:rPr b="0" i="1" lang="fr-FR" sz="1600" spc="-1" strike="noStrike">
                <a:solidFill>
                  <a:srgbClr val="000000"/>
                </a:solidFill>
                <a:latin typeface="Arial"/>
              </a:rPr>
              <a:t>Cấu trúc ngành biến thiên từ phân tán </a:t>
            </a:r>
            <a:r>
              <a:rPr b="0" i="1" lang="fr-FR" sz="1600" spc="-1" strike="noStrike">
                <a:solidFill>
                  <a:srgbClr val="000000"/>
                </a:solidFill>
                <a:latin typeface="Wingdings"/>
                <a:ea typeface="Wingdings"/>
              </a:rPr>
              <a:t></a:t>
            </a:r>
            <a:r>
              <a:rPr b="0" i="1" lang="fr-FR" sz="1600" spc="-1" strike="noStrike">
                <a:solidFill>
                  <a:srgbClr val="000000"/>
                </a:solidFill>
                <a:latin typeface="Arial"/>
              </a:rPr>
              <a:t>ngành tập trung và có liên quan đến sự ganh đua. </a:t>
            </a:r>
            <a:endParaRPr b="0" i="1"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gành phân tá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hiều các công ty qui mô nhỏ hoặc trung bìnhkhông có công ty nào trong đó giữ vị trí thống trị.</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Rào cản nhập cuộc thấp và sản phẩm của nó thuộc loại hàng sơ cấp ít sự khác biệt.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Hai đặc tính này kết hợp lại tạo ra khuynh hướng tăng giảm lợi nhuận có tính chu kỳ..</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Cấu trúc ngành phân tán đem lại một đe dọa hơn là cơ hội..</a:t>
            </a: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ột ngành tập trung:</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ị lấn át bởi một số ít các công ty lớ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ản chất và mức độ của sự ganh đua trong ngành tập trung khó có thể dự kiến trước.:</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Bởi vì, trong ngành tập trung các công ty phụ thuộc lẫn nhau.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phản ứng mạnh mẽ từ phía đối thủ,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có thể tạo ra một xoắn ốc cạnh tranh nguy hiể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ội dung:</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trong (các sức mạnh và điểm yếu </a:t>
            </a:r>
            <a:r>
              <a:rPr b="0" lang="en-US" sz="1800" spc="-1" strike="noStrike">
                <a:solidFill>
                  <a:srgbClr val="000000"/>
                </a:solidFill>
                <a:latin typeface="Wingdings"/>
                <a:ea typeface="Wingdings"/>
              </a:rPr>
              <a:t></a:t>
            </a:r>
            <a:r>
              <a:rPr b="0" lang="en-US" sz="1800" spc="-1" strike="noStrike">
                <a:solidFill>
                  <a:srgbClr val="000000"/>
                </a:solidFill>
                <a:latin typeface="Arial"/>
              </a:rPr>
              <a:t>năng lực gây khác biệ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ngoài (các cơ hội ,đe dọa </a:t>
            </a:r>
            <a:r>
              <a:rPr b="0" lang="en-US" sz="1800" spc="-1" strike="noStrike">
                <a:solidFill>
                  <a:srgbClr val="000000"/>
                </a:solidFill>
                <a:latin typeface="Wingdings"/>
                <a:ea typeface="Wingdings"/>
              </a:rPr>
              <a:t></a:t>
            </a:r>
            <a:r>
              <a:rPr b="0" lang="en-US" sz="1800" spc="-1" strike="noStrike">
                <a:solidFill>
                  <a:srgbClr val="000000"/>
                </a:solidFill>
                <a:latin typeface="Arial"/>
              </a:rPr>
              <a:t> các nhân tố then chố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then chốt thành công và các năng lực gây khác biệt </a:t>
            </a:r>
            <a:r>
              <a:rPr b="0" lang="en-US" sz="1800" spc="-1" strike="noStrike">
                <a:solidFill>
                  <a:srgbClr val="000000"/>
                </a:solidFill>
                <a:latin typeface="Wingdings"/>
                <a:ea typeface="Wingdings"/>
              </a:rPr>
              <a:t></a:t>
            </a:r>
            <a:r>
              <a:rPr b="0" lang="en-US" sz="1800" spc="-1" strike="noStrike">
                <a:solidFill>
                  <a:srgbClr val="000000"/>
                </a:solidFill>
                <a:latin typeface="Arial"/>
              </a:rPr>
              <a:t> các chiến lược</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và chọn ra chiến lược tốt nhấ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ển khai việc thực th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Cạnh tranh giữa các đối thủ trong ngành</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ấu trúc cạnh tranh. </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iều kiện nhu cầu.</a:t>
            </a:r>
            <a:endParaRPr b="0" lang="en-US" sz="28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ác động tới mức độ ganh đua trong các công ty hiện hành.</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ự tăng trưởng nhu cầu có khuynh hướng làm dịu sự cạnh tranh,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ự suy giảm nhu cầu sẽ đẩy sự ganh đua mạnh h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ạnh tranh giữa các đối thủ trong ngành</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ấu trúc cạnh tranh.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iều kiện nhu cầu.</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ào cản rời ngành.</a:t>
            </a:r>
            <a:endParaRPr b="0" lang="en-US" sz="20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à những nhân tố xúc cảm, chiến lược và kinh tế giữ một công ty ở lại trong ngành. </a:t>
            </a:r>
            <a:endParaRPr b="0" i="1"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ào cản rời ngành cao, </a:t>
            </a:r>
            <a:endParaRPr b="0" i="1" lang="en-US" sz="1800" spc="-1" strike="noStrike">
              <a:solidFill>
                <a:srgbClr val="000000"/>
              </a:solidFill>
              <a:latin typeface="Arial"/>
            </a:endParaRPr>
          </a:p>
          <a:p>
            <a:pPr lvl="3" marL="16002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hi mà nhu cầu không đổi hay suy giảm. </a:t>
            </a:r>
            <a:endParaRPr b="0" lang="en-US" sz="1600" spc="-1" strike="noStrike">
              <a:solidFill>
                <a:srgbClr val="000000"/>
              </a:solidFill>
              <a:latin typeface="Arial"/>
            </a:endParaRPr>
          </a:p>
          <a:p>
            <a:pPr lvl="4" marL="2057400" indent="0" algn="just">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Arial"/>
              </a:rPr>
              <a:t>dư thừa năng lực sản xuất. </a:t>
            </a:r>
            <a:endParaRPr b="0" lang="en-US" sz="1600" spc="-1" strike="noStrike">
              <a:solidFill>
                <a:srgbClr val="000000"/>
              </a:solidFill>
              <a:latin typeface="Arial"/>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àm sâu sắc hơn cạnh tranh giá,</a:t>
            </a:r>
            <a:endParaRPr b="0" lang="en-US" sz="1600" spc="-1" strike="noStrike">
              <a:solidFill>
                <a:srgbClr val="000000"/>
              </a:solidFill>
              <a:latin typeface="Arial"/>
            </a:endParaRPr>
          </a:p>
          <a:p>
            <a:pPr lvl="2" marL="1143000" indent="-228600" algn="just">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Các rào cản rời ngành phổ biến bao gồm:</a:t>
            </a:r>
            <a:endParaRPr b="0" i="1" lang="en-US" sz="18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ầu tư không thể đảo ngược</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i phí cố định rời ngành quá cao (như là tiền trả cho công nhân dư thừa)</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ững gắn bó xúc cảm với ngành, ( vì lý do tình cảm)</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ự phụ thuộc kinh tế vào ngàn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hư một đe dọa cạnh tranh khi họ ở vị thế yêu cầu giá thấp hơn hoặc yêu cầu dịch vụ tốt hơn (mà có thể dẫn đến tăng chi phí hoạt động).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Khi người mua yếu, công ty có thể tăng giá và có được lợi nhuận cao hơ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gười mua có quyền lực nhất trong các trường hợp sau:</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gồm nhiều công ty nhỏ và người mua là một số ít và lớn.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thực hiện mua sắm khối lượng lớ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phụ thuộc vào ngườ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thể chuyển đổi cung cấp với chi phí thấp,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đạt tính kinh tế khi mua sắm từ một vài công ty cùng lú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khả nănghội nhập dọc</a:t>
            </a:r>
            <a:endParaRPr b="0" i="1"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yền lực tương đối của người mua và nhà cung cấp có khuynh hướng thay đổi theo thời g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các nhà cung cấ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e dọa khi họ có thể thúc ép nâng giá đối hoặc phải giảm yêu cầu chất lượng đầu và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ơ hội khi có thể thúc ép giảm giá và yêu cầu chất lượng ca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ác nhà cung cấp có quyền lực nhất kh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nhà cung cấp bán  ít có khả năng thay thế và quan trọng đối với công ty.</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ông ty không phải là một khách hàng quan trọng với các nhà cung cấp. 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các nhà cung cấp khác biệt đến mức có thể gây ra tốn kém cho công ty khi chuyển đổ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hội nhập xuôi chiều về phía ngành và cạnh tranh trực tiếp với công ty.</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người mu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các nhà cung cấ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ác sản phẩm thay thế</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à những sản phẩm của các ngành phục vụ nhu cầu tương tự</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iới hạn khả năng đặt giá cao </a:t>
            </a:r>
            <a:r>
              <a:rPr b="0" lang="fr-FR" sz="2400" spc="-1" strike="noStrike">
                <a:solidFill>
                  <a:srgbClr val="000000"/>
                </a:solidFill>
                <a:latin typeface="Wingdings"/>
                <a:ea typeface="Wingdings"/>
              </a:rPr>
              <a:t></a:t>
            </a:r>
            <a:r>
              <a:rPr b="0" lang="fr-FR" sz="2400" spc="-1" strike="noStrike">
                <a:solidFill>
                  <a:srgbClr val="000000"/>
                </a:solidFill>
                <a:latin typeface="Arial"/>
              </a:rPr>
              <a:t> giới hạn khả năng sinh lợ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ú giả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có nguồn dữ liệu ngành thật dồi dà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 toàn cầu hóa, các thị trường và đối thủ quốc tế phải được tính đế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o sự hiểu biết sâu sắc để xác định tính hấp dẫn của ngành trên góc độ tiềm năng gặt hái thu nhậ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ói chung với các doanh nghiệp trong ngành</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lực lượng cạnh tranh càng mạnh, </a:t>
            </a:r>
            <a:r>
              <a:rPr b="0" i="1" lang="fr-FR" sz="1800" spc="-1" strike="noStrike">
                <a:solidFill>
                  <a:srgbClr val="000000"/>
                </a:solidFill>
                <a:latin typeface="Wingdings"/>
                <a:ea typeface="Wingdings"/>
              </a:rPr>
              <a:t></a:t>
            </a:r>
            <a:r>
              <a:rPr b="0" i="1" lang="fr-FR" sz="1800" spc="-1" strike="noStrike">
                <a:solidFill>
                  <a:srgbClr val="000000"/>
                </a:solidFill>
                <a:latin typeface="Arial"/>
              </a:rPr>
              <a:t> giảm tiềm năng thu lợi nhuận.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ột ngành thiếu hấp dẫn:</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ào cản nhập cuộc thấp,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ác nhà cung cấp cũng như người mua có vị thế thương lượng mạnh,</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e dọa mạnh mẽ từ sự cạnh tranh của các sản phẩm thay thế,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à cường độ cạnh tranh trong ngành ca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Khái niệm</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đối thủ cạnh tranh có các điều kiện và cách tiếp cận cạnh tranh tương tự nhau</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ập bản đồ nhóm chiến lược</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iểu diễn vị trí cạnh tranh mà các đối thủ trong ngành.</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Thủ tục gồm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ận diện các đặc tính phân biệt, dựa trên các biến số chủ yếu như :</a:t>
            </a:r>
            <a:endParaRPr b="0" i="1" lang="en-US" sz="16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giá/chất lượng (cao, trung bình, thấ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phạm vi địa lý ( địa phương, vùng, quốc gia, toàn cầu),</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mức độ hội nhập dọc (không, một phần, hoàn toàn), độ rộng phổ sản phẩm (rộng, hẹ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sử dụng kênh phân phối (không, một vài, tất cả),</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mức độ cung cấp dịch vụ,…</a:t>
            </a:r>
            <a:endParaRPr b="0" lang="en-US" sz="14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ịnh vị các doanh nghiệp lên hệ trục tọa độ với từng cặp các đặc tính phân biệt.</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ẽ các vòng tròn bao quanh nhóm chiến lược, tương ứng với tỷ lệ doanh số của nhóm so với toàn ngành.</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Khái niệm</a:t>
            </a:r>
            <a:endParaRPr b="0" lang="en-US" sz="24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Các đối thủ cạnh tranh có các điều kiện và cách tiếp cận cạnh tranh tương tự nhau</a:t>
            </a:r>
            <a:endParaRPr b="0" lang="en-US" sz="20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ập bản đồ nhóm chiến lược</a:t>
            </a:r>
            <a:endParaRPr b="0" lang="en-US" sz="24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Khi xây dựng nhóm chiến lược cần lưu ý :</a:t>
            </a:r>
            <a:endParaRPr b="0" lang="en-US" sz="20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hất, hai biến lựa chọn trên các trục tọa độ không liên quan cao với nhau,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hai, các biến lựa chọn sự khác biệt lớn về vị thế của mỗi doanh nghiệp.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ba, các biến số không phải là định lượng, hay hiên tục, mà nó thường là các biến rời rạc hay xác định trên cơ sở xếp hạng hoặc kết hợp.</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tư, vẽ đường bao các nhóm tỷ lệ với doanh số các doanh nghiệp trong nhóm so với toàn ngành cho phép phản ánh qui mô tương đối của mỗi nhóm.</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ăm, nếu có nhiều hơn hai biến có thể vẽ một số bản đồ để biểu diễn khác nhau về vị thế cạnh tranh</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CÁC NHÓM CHIẾN LƯỢC </a:t>
            </a:r>
            <a:br>
              <a:rPr sz="4000"/>
            </a:br>
            <a:endParaRPr b="0" lang="en-US" sz="4000" spc="-1" strike="noStrike">
              <a:solidFill>
                <a:srgbClr val="000000"/>
              </a:solidFill>
              <a:latin typeface="Arial"/>
            </a:endParaRPr>
          </a:p>
        </p:txBody>
      </p:sp>
      <p:pic>
        <p:nvPicPr>
          <p:cNvPr id="489" name="" descr=""/>
          <p:cNvPicPr/>
          <p:nvPr/>
        </p:nvPicPr>
        <p:blipFill>
          <a:blip r:embed="rId1"/>
          <a:stretch/>
        </p:blipFill>
        <p:spPr>
          <a:xfrm>
            <a:off x="1828800" y="1219320"/>
            <a:ext cx="6324480" cy="3130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ý của nhóm chiến lượ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ớc hết, các đối thủ cạnh tranh gần gũi nhất của công ty là những công ty ở trong nhóm chiến lược của nó –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nhóm chiến lược khác nhau có vị thế khác nhau so với lực lượng trong số các lực lượng cạnh tranh.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o cản di động bảo vệ các công ty trong một nhóm nào đó trước các đe dọa nhập từ nhóm khác.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ếu rào cản di động thấp, đe dọa nhập cuộc cao, </a:t>
            </a:r>
            <a:r>
              <a:rPr b="0" i="1" lang="en-US" sz="2000" spc="-1" strike="noStrike">
                <a:solidFill>
                  <a:srgbClr val="000000"/>
                </a:solidFill>
                <a:latin typeface="Wingdings"/>
                <a:ea typeface="Wingdings"/>
              </a:rPr>
              <a:t></a:t>
            </a:r>
            <a:r>
              <a:rPr b="0" i="1" lang="en-US" sz="2000" spc="-1" strike="noStrike">
                <a:solidFill>
                  <a:srgbClr val="000000"/>
                </a:solidFill>
                <a:latin typeface="Arial"/>
              </a:rPr>
              <a:t>hạn chế khả năng tăng giá và lợi nhuận. </a:t>
            </a:r>
            <a:endParaRPr b="0" i="1"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ào cản di động cao, đe dọa nhập cuộc thấp</a:t>
            </a:r>
            <a:r>
              <a:rPr b="0" i="1" lang="en-US" sz="2000" spc="-1" strike="noStrike">
                <a:solidFill>
                  <a:srgbClr val="000000"/>
                </a:solidFill>
                <a:latin typeface="Wingdings"/>
                <a:ea typeface="Wingdings"/>
              </a:rPr>
              <a:t></a:t>
            </a:r>
            <a:r>
              <a:rPr b="0" i="1" lang="en-US" sz="2000" spc="-1" strike="noStrike">
                <a:solidFill>
                  <a:srgbClr val="000000"/>
                </a:solidFill>
                <a:latin typeface="Arial"/>
              </a:rPr>
              <a:t> các công ty trong nhóm cơ hội tăng giá và nhận lợi nhuận cao hơ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06:38:11Z</dcterms:created>
  <dc:creator/>
  <dc:description/>
  <dc:language>en-US</dc:language>
  <cp:lastModifiedBy/>
  <dcterms:modified xsi:type="dcterms:W3CDTF">2006-09-30T03:17:51Z</dcterms:modified>
  <cp:revision>28</cp:revision>
  <dc:subject/>
  <dc:title/>
</cp:coreProperties>
</file>