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53A-4665-4FC4-BB53-BFB9D734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2C9-62D0-4A03-949C-63D0BF1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305-98F8-4AA5-A20C-7177B340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8B3-5EB3-4DD5-BF77-10BFED8F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0117-5A75-4147-8008-E252D365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490D-9A26-4F05-B4A3-BBA6E49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7E0-78FF-4C58-B1A3-097377F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BF2C-CA03-40BE-AB16-EED2714A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5996-64C6-4941-A49E-38988A6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B2CF-5C2E-4DD2-BBD1-234C4B7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6C0-B0AE-4BD4-A548-6E58815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43F-3DA2-4079-B1B7-AA87EC0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0ED-3A30-45BC-9C18-C6D461D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12EF-2475-4251-995B-4FD9FDB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E13-F21C-4AD2-B1CD-961F512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3C4-44D9-4AEC-9C09-57179C0D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87D7-BFE3-4AF1-81A8-332078A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9CA-D13E-471B-AAF5-40ECF678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877-4293-405D-A2D4-C09C1300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5B5-2C1F-40AA-A315-D5391E2E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5D4-A1D2-4428-9EA5-0C83D97A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72E-4872-499C-A5B5-CB03153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0AE-2A0C-49AB-9495-DC87E1F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BEA-0A35-4DB9-8106-6452EB4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6F8B-7543-4441-A05F-23AC529774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8143-E8D8-42DD-A4E1-4C25581FAC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MAU%20BIEN%20BAN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Ỹ THUẬ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HI &amp; TRÌNH BÀY BIÊN BẢ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571680" y="2840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ÀI 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NỘI DUNG BÀI GIẢ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Khaùi nieäm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aân loaï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3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öông phaùp gh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áu truùc cuûa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BIÊN BẢ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ăn bản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lại những sự việc, vụ việc đã xảy ra / đang diễn ra để làm chứng cứ pháp lý về sa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êu cầu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trung thực, khách quan, chính xác &amp; đầy đủ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2. PHÂN LOẠ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ội họ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tiến trình, diễn biế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ành chính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sự việc theo quy định hành chính: Biên bản vi phạm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trong lĩnh vực tư phá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những sự việc theo quy định của pháp luật tố tụng trong hoạt động của các CQ tư pháp: Biên bản phiên tòa, biên bản lấy lời khai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PHƯƠNG PHÁP GH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ân loại thông tin khi gh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biết - ghi ý chí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thực hiện - ghi đầy đ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ếu người phát biểu yêu cầu ghi nguyên văn thì sử dụng hình thức dẫn lời nói trực tiế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ập trung lắng nghe, ghi chép nha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ử dụng kỹ thuật biến đổi câ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CỦA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ở đầu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ời gian, địa điểm lập biên bản, thành phần tham d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Nội du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hội họp / vụ việc đang diễn ra: ghi theo tiến trì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sự việc đã xảy ra: mô tả hiện trường, ghi lời khai nhân chứ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Kết luận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thời gian, địa điểm kết thúc việc lập biên bản, biên bản được đọc thông qua những người tham dự, số bản được lập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CÂU HỎI ÔN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ân loạ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êu phương pháp gh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ấu trúc của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4-03-23T15:05:46Z</dcterms:modified>
  <cp:revision>53</cp:revision>
  <dc:subject/>
  <dc:title>Chương 9.5</dc:title>
</cp:coreProperties>
</file>