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62D4F-6859-4207-9B48-1E2D5D7D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6B2BF-46AF-4C73-B663-74683A3C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CC79B-46D0-4A54-9C45-54E1A928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61416-FAF3-491D-8580-6AAD4C75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1C1E-EC69-4BF6-9D9B-168287B3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DEE2-CDA4-4AF3-85B7-8A1B6B00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3796-F209-484B-8A52-85B85585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D3E6-2773-45B4-87F3-42829C49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C34F-D6B6-4DC6-988F-F530B215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BFD9-9F4F-400C-B52B-A02E2409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4995-3CD9-466A-914B-088D50D3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2C87B-7CC7-412E-BB28-F29EE016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2729-8A0A-4212-8704-0B204F88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C4D3-EA13-4A66-A2F9-B5E1BB6F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994B-BD85-4A31-9E7A-929941FA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0427-D41D-4067-91CE-8C54CCD5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A6CF-690F-464D-B057-EB7F22C2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8CF27-788A-46DC-98FF-91455665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0F3E4-4506-4132-9BF9-5C7B8628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EFDAC-BD45-4EFF-A452-F4AB2C45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7A5C2-777C-467A-8E6C-7162F455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CA403-174C-46A3-A34E-9DA360F4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A34CD-E926-4065-9A4F-2B3934B8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0E148-43DA-4CC7-B0A3-7AA0FF07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DD9D-E399-4EA9-85FA-A2F0FF873E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3091-E0FF-4C6C-B0C4-4D5DAB9ABC7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B638-FA20-444C-BA49-17C82ABD253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D061-0A0B-45FF-8C43-F8183EDF24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vanban.chinhphu.vn/portal/page/portal/chinhphu/hethongvanban?class_id=1&amp;_page=1&amp;mode=detail&amp;document_id=166075" TargetMode="External"/><Relationship Id="rId2" Type="http://schemas.openxmlformats.org/officeDocument/2006/relationships/hyperlink" Target="http://vanban.chinhphu.vn/portal/page/portal/chinhphu/hethongvanban?class_id=1&amp;_page=1&amp;mode=detail&amp;document_id=166075" TargetMode="External"/><Relationship Id="rId3" Type="http://schemas.openxmlformats.org/officeDocument/2006/relationships/hyperlink" Target="http://vanban.chinhphu.vn/portal/page/portal/chinhphu/hethongvanban?class_id=1&amp;_page=1&amp;mode=detail&amp;document_id=165442" TargetMode="External"/><Relationship Id="rId4" Type="http://schemas.openxmlformats.org/officeDocument/2006/relationships/hyperlink" Target="http://vanban.chinhphu.vn/portal/page/portal/chinhphu/hethongvanban?class_id=1&amp;_page=1&amp;mode=detail&amp;document_id=165872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97AD-747F-4A4A-B726-E82C08A351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9E69-905A-4B50-AAC3-C8432768CFF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320" y="0"/>
            <a:ext cx="9067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ƯƠNG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OẠN THẢO &amp; TRÌNH BÀ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ĂN BẢN HÀNH CHÍN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ame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0" name="Minus 6"/>
          <p:cNvSpPr/>
          <p:nvPr/>
        </p:nvSpPr>
        <p:spPr>
          <a:xfrm>
            <a:off x="2666880" y="1676520"/>
            <a:ext cx="3886200" cy="2286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23A0-0E97-4645-8D47-7A8C1AD7E2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AA6D-CFD4-405E-9CFC-0A18572FC79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57200" y="838080"/>
            <a:ext cx="4114800" cy="5562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chế độ, chính sách trong nội bộ tổ chức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 công tác nhân sự, lao động tiền lương, sản xuất kinh doanh ..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6" name="Horizontal Scroll 5"/>
          <p:cNvSpPr/>
          <p:nvPr/>
        </p:nvSpPr>
        <p:spPr>
          <a:xfrm>
            <a:off x="304920" y="76320"/>
            <a:ext cx="853416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2. QUYẾT ĐỊNH HÀNH CHÍN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87" name="Picture 2" descr="http://ud.udn.vn/Vanban%5CQD_DHDN%5C2010%5C5342-QD-BGDDT.jpg"/>
          <p:cNvPicPr/>
          <p:nvPr/>
        </p:nvPicPr>
        <p:blipFill>
          <a:blip r:embed="rId1"/>
          <a:stretch/>
        </p:blipFill>
        <p:spPr>
          <a:xfrm>
            <a:off x="4572000" y="838080"/>
            <a:ext cx="4191120" cy="556272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0733-DE2E-474E-BA99-E6A24A25A3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9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0F78-3BFC-48F5-A530-086C86D8E4C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457200" y="762120"/>
            <a:ext cx="4114800" cy="56386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iến hành các thủ tục điều tra, truy tố, xét xử các vụ án hình sự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Giải quyết các vụ án dân sự, thương mại, hành chính, lao động tại Tòa á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i hành á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2" name="Horizontal Scroll 7"/>
          <p:cNvSpPr/>
          <p:nvPr/>
        </p:nvSpPr>
        <p:spPr>
          <a:xfrm>
            <a:off x="304920" y="0"/>
            <a:ext cx="853416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3. QUYẾT ĐỊNH TƯ PHÁP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93" name="Picture 4" descr="http://dantrivn.files.wordpress.com/2012/05/1-quyet-dinh-khoi-to-vu-an.jpg"/>
          <p:cNvPicPr/>
          <p:nvPr/>
        </p:nvPicPr>
        <p:blipFill>
          <a:blip r:embed="rId1"/>
          <a:stretch/>
        </p:blipFill>
        <p:spPr>
          <a:xfrm>
            <a:off x="4686480" y="762120"/>
            <a:ext cx="4076640" cy="56386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69B4-5581-4544-9058-A88B62E3AB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5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5D59-A1AD-41E5-A1C7-FF040E93D3C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96" name="Picture 2" descr="http://3.bp.blogspot.com/_pzFtZGcCch4/TOW7KhiJSBI/AAAAAAAACas/nw_6MZi72Ss/s1600/untitled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http://2.bp.blogspot.com/_pzFtZGcCch4/TOW8iwKXwBI/AAAAAAAACa8/N2JwBXQxwxg/s1600/untitled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093C-17DE-4992-9B98-179115F60C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9F37-F27C-447F-9B7E-E64A38C541B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814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ủ tịch nước, Thủ tướng Chính phủ, Tổng Kiểm toán Nhà nước, Ủy ban nhân dân các cấ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Horizontal Scroll 6"/>
          <p:cNvSpPr/>
          <p:nvPr/>
        </p:nvSpPr>
        <p:spPr>
          <a:xfrm>
            <a:off x="304920" y="76320"/>
            <a:ext cx="8458200" cy="9144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THẨM QUYỀN BAN HÀ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3" name="Horizontal Scroll 7"/>
          <p:cNvSpPr/>
          <p:nvPr/>
        </p:nvSpPr>
        <p:spPr>
          <a:xfrm>
            <a:off x="380880" y="99072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. QUYẾT ĐỊNH QPPL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457200" y="4648320"/>
            <a:ext cx="8229600" cy="16761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gười đứng đầu cơ quan, tổ chức, đơn vị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5" name="Horizontal Scroll 9"/>
          <p:cNvSpPr/>
          <p:nvPr/>
        </p:nvSpPr>
        <p:spPr>
          <a:xfrm>
            <a:off x="380880" y="388620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2. QUYẾT ĐỊNH HÀNH CHÍN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612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AC7D-56D6-431B-B6DF-94F8FD0BC6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3F5F-F277-41EB-B90F-F31FFFA50F5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ủ trưởng các cơ quan tư pháp: Cơ quan điều tra, Viện kiểm sát, Tòa án, Thi hành án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ác chức danh tư pháp: Điều tra viên, Kiểm sát viên, Thẩm phán, Chấp hành viên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0" name="Horizontal Scroll 5"/>
          <p:cNvSpPr/>
          <p:nvPr/>
        </p:nvSpPr>
        <p:spPr>
          <a:xfrm>
            <a:off x="380880" y="7632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3. QUYẾT ĐỊNH TƯ PHÁP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1919-3BF8-42B4-9900-B805FFB5F9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C130-BA8B-4A5A-8680-5DA041DE832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04560" y="1447920"/>
            <a:ext cx="1447560" cy="41148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Horizontal Scroll 6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CẤU TRÚC CỦA QUYẾT ĐỊ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6" name="Right Arrow 10"/>
          <p:cNvSpPr/>
          <p:nvPr/>
        </p:nvSpPr>
        <p:spPr>
          <a:xfrm>
            <a:off x="1841400" y="1447920"/>
            <a:ext cx="825480" cy="1676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7" name="Right Arrow 11"/>
          <p:cNvSpPr/>
          <p:nvPr/>
        </p:nvSpPr>
        <p:spPr>
          <a:xfrm>
            <a:off x="1841400" y="3886200"/>
            <a:ext cx="825480" cy="1676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8" name="Rounded Rectangle 12"/>
          <p:cNvSpPr/>
          <p:nvPr/>
        </p:nvSpPr>
        <p:spPr>
          <a:xfrm>
            <a:off x="2743200" y="1447920"/>
            <a:ext cx="5867280" cy="1676160"/>
          </a:xfrm>
          <a:prstGeom prst="roundRect">
            <a:avLst>
              <a:gd name="adj" fmla="val 30458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ĂN CỨ BAN HÀ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9" name="Rounded Rectangle 13"/>
          <p:cNvSpPr/>
          <p:nvPr/>
        </p:nvSpPr>
        <p:spPr>
          <a:xfrm>
            <a:off x="2743200" y="3886200"/>
            <a:ext cx="5867280" cy="1676520"/>
          </a:xfrm>
          <a:prstGeom prst="roundRect">
            <a:avLst>
              <a:gd name="adj" fmla="val 30458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ỘI DUNG ĐIỀU CHỈ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4837-408E-4B0D-8DB1-3D12319FC1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B54A-4A7C-407A-8CA9-E740E26CDBF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22" name="Group 14"/>
          <p:cNvGrpSpPr/>
          <p:nvPr/>
        </p:nvGrpSpPr>
        <p:grpSpPr>
          <a:xfrm>
            <a:off x="304920" y="1219320"/>
            <a:ext cx="8458200" cy="4952880"/>
            <a:chOff x="304920" y="1219320"/>
            <a:chExt cx="8458200" cy="4952880"/>
          </a:xfrm>
        </p:grpSpPr>
        <p:sp>
          <p:nvSpPr>
            <p:cNvPr id="223" name="Rectangle 4"/>
            <p:cNvSpPr/>
            <p:nvPr/>
          </p:nvSpPr>
          <p:spPr>
            <a:xfrm>
              <a:off x="304920" y="3352680"/>
              <a:ext cx="2666880" cy="1752480"/>
            </a:xfrm>
            <a:prstGeom prst="rect">
              <a:avLst/>
            </a:pr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ĂN CỨ</a:t>
              </a: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N HÀNH</a:t>
              </a: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224" name="Rectangle 5"/>
            <p:cNvSpPr/>
            <p:nvPr/>
          </p:nvSpPr>
          <p:spPr>
            <a:xfrm>
              <a:off x="3581640" y="2362320"/>
              <a:ext cx="2361960" cy="1676160"/>
            </a:xfrm>
            <a:prstGeom prst="rect">
              <a:avLst/>
            </a:pr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ĂN CỨ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ÁP LÝ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225" name="Rectangle 7"/>
            <p:cNvSpPr/>
            <p:nvPr/>
          </p:nvSpPr>
          <p:spPr>
            <a:xfrm>
              <a:off x="3581640" y="4419720"/>
              <a:ext cx="2361960" cy="1752480"/>
            </a:xfrm>
            <a:prstGeom prst="rect">
              <a:avLst/>
            </a:pr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ĂN CỨ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ỰC TẾ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226" name="Rectangle 8"/>
            <p:cNvSpPr/>
            <p:nvPr/>
          </p:nvSpPr>
          <p:spPr>
            <a:xfrm>
              <a:off x="6477120" y="1219320"/>
              <a:ext cx="2286000" cy="1752480"/>
            </a:xfrm>
            <a:prstGeom prst="rect">
              <a:avLst/>
            </a:pr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ĂN CỨ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ẨM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UYỀN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227" name="Rectangle 9"/>
            <p:cNvSpPr/>
            <p:nvPr/>
          </p:nvSpPr>
          <p:spPr>
            <a:xfrm>
              <a:off x="6477120" y="3276720"/>
              <a:ext cx="2286000" cy="1752480"/>
            </a:xfrm>
            <a:prstGeom prst="rect">
              <a:avLst/>
            </a:pr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ĂN CỨ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ÁP DỤNG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228" name="AutoShape 14"/>
            <p:cNvSpPr/>
            <p:nvPr/>
          </p:nvSpPr>
          <p:spPr>
            <a:xfrm>
              <a:off x="3048120" y="2362320"/>
              <a:ext cx="457200" cy="380988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120600 h 3809880"/>
                <a:gd name="textAreaBottom" fmla="*/ 3689280 h 380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93"/>
                    <a:pt x="10800" y="2186"/>
                  </a:cubicBezTo>
                  <a:lnTo>
                    <a:pt x="10800" y="8614"/>
                  </a:lnTo>
                  <a:cubicBezTo>
                    <a:pt x="10800" y="9707"/>
                    <a:pt x="5400" y="10800"/>
                    <a:pt x="0" y="10800"/>
                  </a:cubicBezTo>
                  <a:cubicBezTo>
                    <a:pt x="5400" y="10800"/>
                    <a:pt x="10800" y="11893"/>
                    <a:pt x="10800" y="12986"/>
                  </a:cubicBezTo>
                  <a:lnTo>
                    <a:pt x="10800" y="19414"/>
                  </a:lnTo>
                  <a:cubicBezTo>
                    <a:pt x="10800" y="20507"/>
                    <a:pt x="16200" y="21600"/>
                    <a:pt x="21600" y="21600"/>
                  </a:cubicBezTo>
                </a:path>
              </a:pathLst>
            </a:cu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229" name="AutoShape 15"/>
            <p:cNvSpPr/>
            <p:nvPr/>
          </p:nvSpPr>
          <p:spPr>
            <a:xfrm>
              <a:off x="5943600" y="1219320"/>
              <a:ext cx="457200" cy="380988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106920 h 3809880"/>
                <a:gd name="textAreaBottom" fmla="*/ 3702960 h 380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69"/>
                    <a:pt x="10800" y="1937"/>
                  </a:cubicBezTo>
                  <a:lnTo>
                    <a:pt x="10800" y="8863"/>
                  </a:lnTo>
                  <a:cubicBezTo>
                    <a:pt x="10800" y="9832"/>
                    <a:pt x="5400" y="10800"/>
                    <a:pt x="0" y="10800"/>
                  </a:cubicBezTo>
                  <a:cubicBezTo>
                    <a:pt x="5400" y="10800"/>
                    <a:pt x="10800" y="11769"/>
                    <a:pt x="10800" y="12737"/>
                  </a:cubicBezTo>
                  <a:lnTo>
                    <a:pt x="10800" y="19663"/>
                  </a:lnTo>
                  <a:cubicBezTo>
                    <a:pt x="10800" y="20632"/>
                    <a:pt x="16200" y="21600"/>
                    <a:pt x="21600" y="21600"/>
                  </a:cubicBezTo>
                </a:path>
              </a:pathLst>
            </a:cu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Horizontal Scroll 13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. CĂN CỨ BAN HÀNH (1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9F92-7F63-4677-9723-9C95241471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CFD0-2F9D-4430-951F-F7284A75FE4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2189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ứng minh quyền hạn của chủ thể ban hành QĐ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Horizontal Scroll 6"/>
          <p:cNvSpPr/>
          <p:nvPr/>
        </p:nvSpPr>
        <p:spPr>
          <a:xfrm>
            <a:off x="304920" y="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. CĂN CỨ BAN HÀNH (2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7" name="Horizontal Scroll 7"/>
          <p:cNvSpPr/>
          <p:nvPr/>
        </p:nvSpPr>
        <p:spPr>
          <a:xfrm>
            <a:off x="380880" y="762120"/>
            <a:ext cx="5105520" cy="7617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ĂN CỨ THẨM QUYỀ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457200" y="3352680"/>
            <a:ext cx="8229600" cy="1219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ơ sở pháp lý sử dụng trong nội dung điều chỉnh của QĐ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9" name="Horizontal Scroll 9"/>
          <p:cNvSpPr/>
          <p:nvPr/>
        </p:nvSpPr>
        <p:spPr>
          <a:xfrm>
            <a:off x="380880" y="2666880"/>
            <a:ext cx="41911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ĂN CỨ ÁP DỤ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457200" y="5181480"/>
            <a:ext cx="8229600" cy="1219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kiện hoặc cơ sở thực tiễn để ban hành QĐ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1" name="Horizontal Scroll 11"/>
          <p:cNvSpPr/>
          <p:nvPr/>
        </p:nvSpPr>
        <p:spPr>
          <a:xfrm>
            <a:off x="380880" y="4495680"/>
            <a:ext cx="41911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ĂN CỨ THỰC TẾ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8696-DAD1-4718-AA69-2986149255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5242-AEB0-438D-8BAA-49653827193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505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1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về hành vi, đối tượng, mức độ và thời gian điều chỉ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2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iều khoản thi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(ngày có hiệu lực của Quyết định; người có trách nhiệm thi hành Quyết địn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Horizontal Scroll 6"/>
          <p:cNvSpPr/>
          <p:nvPr/>
        </p:nvSpPr>
        <p:spPr>
          <a:xfrm>
            <a:off x="380880" y="76320"/>
            <a:ext cx="830592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2. NỘI DUNG ĐIỀU CHỈNH (1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457200" y="1066680"/>
            <a:ext cx="8229600" cy="175284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YẾT ĐỊN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/v nâng lương, khen thưở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 Điều) *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5235-E824-4FC9-B346-BED538E0B0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24B7-9D36-4B08-9F1A-5F19802DF46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505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1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về hành vi, đối tượng, mức độ và thời gian điều chỉ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2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lương, phụ cấp, trợ cấ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3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iều khoản thi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Horizontal Scroll 6"/>
          <p:cNvSpPr/>
          <p:nvPr/>
        </p:nvSpPr>
        <p:spPr>
          <a:xfrm>
            <a:off x="380880" y="76320"/>
            <a:ext cx="830592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2. NỘI DUNG ĐIỀU CHỈNH (2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457200" y="1066680"/>
            <a:ext cx="8229600" cy="175284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YẾT ĐỊN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/v bổ nhiệm, điều động,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 thôi việc (3 điều):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APTER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ECHNICAL DRAFTING &amp; PRESENTING OFFICIAL DOCUMENT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4C8D-A0A5-4D0B-93C8-16591D8D60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3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017C-17B6-4C7F-ACD0-DDD5A3BC7C4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4" name="Frame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5" name="Minus 6"/>
          <p:cNvSpPr/>
          <p:nvPr/>
        </p:nvSpPr>
        <p:spPr>
          <a:xfrm>
            <a:off x="2590920" y="1676520"/>
            <a:ext cx="3886200" cy="2286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2AA3-014A-4651-A236-628EC17FF7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6A65-6063-4E32-9BD4-DBAEDE77C8E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267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1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về hành vi, đối tượng, mức độ và thời gian điều chỉ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2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chức năng, nhiệm vụ, quyền hạn của tổ chứ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3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về cơ cấu tổ chức, nhân sự của tổ chứ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4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iều khoản thi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Horizontal Scroll 6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2. NỘI DUNG ĐIỀU CHỈNH (3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457200" y="914400"/>
            <a:ext cx="822960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YẾT ĐỊN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/v thành lập tổ chức, đơn vị (4 điều) *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1274-FDCF-44C3-9AAC-30E82510D6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88DC-A066-4ED0-99E8-9044DA4DEE4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41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ề việc nâng lương, khen thưở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GIÁM ĐỐC CÔNG 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thẩm quyền;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áp dụng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thực tế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1: 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về hành vi, đối tượng, mức độ, thời gian điều chỉn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2: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iều khoản thi hàn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>
            <a:off x="3657600" y="2438280"/>
            <a:ext cx="18288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0" y="0"/>
            <a:ext cx="36576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ÔNG TY TNHH HÒA BÌNH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QĐ-GĐ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3657600" y="0"/>
            <a:ext cx="54864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ịa danh, ngày …… tháng …… năm …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6" name="Line 4"/>
          <p:cNvSpPr/>
          <p:nvPr/>
        </p:nvSpPr>
        <p:spPr>
          <a:xfrm>
            <a:off x="914400" y="609480"/>
            <a:ext cx="175248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4572000" y="5867280"/>
            <a:ext cx="4572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ÁM ĐỐ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5867280"/>
            <a:ext cx="4572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ơi nhận: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………………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. ;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ưu VT, PHC (3)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9" name="Line 7"/>
          <p:cNvSpPr/>
          <p:nvPr/>
        </p:nvSpPr>
        <p:spPr>
          <a:xfrm>
            <a:off x="4800600" y="914400"/>
            <a:ext cx="32004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9B0B-F4C9-44B4-A85A-BC60E681DD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7029-0D4D-41B9-B181-6DF9680BE33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77AE-89BF-4F35-A9DA-C2B0D27B02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2A3E-9AF5-4A59-A891-547D2F0B897A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0" y="1676520"/>
            <a:ext cx="9144000" cy="41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</a:t>
            </a:r>
            <a:endParaRPr b="0" lang="en-US" sz="2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ề việc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ổ nhiệm, điều động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GIÁM ĐỐC CÔNG TY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thẩm quyền;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áp dụng;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thực tế,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1: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về hành vi, đối tượng, mức độ, thời gian điều chỉnh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2: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về lương và phụ cấp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3: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iều khoản thi hành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5" name="Line 6"/>
          <p:cNvSpPr/>
          <p:nvPr/>
        </p:nvSpPr>
        <p:spPr>
          <a:xfrm>
            <a:off x="3657600" y="2438280"/>
            <a:ext cx="18288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0" y="0"/>
            <a:ext cx="36576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ÔNG TY TNHH HÒA BÌNH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QĐ-GĐ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3657600" y="0"/>
            <a:ext cx="54864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ịa danh, ngày …… tháng …… năm …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8" name="Line 4"/>
          <p:cNvSpPr/>
          <p:nvPr/>
        </p:nvSpPr>
        <p:spPr>
          <a:xfrm>
            <a:off x="914400" y="609480"/>
            <a:ext cx="175248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4572000" y="5867280"/>
            <a:ext cx="4572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ÁM ĐỐ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0" y="5867280"/>
            <a:ext cx="4572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ơi nhận: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………………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. ;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ưu VT, PHC (3)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1" name="Line 7"/>
          <p:cNvSpPr/>
          <p:nvPr/>
        </p:nvSpPr>
        <p:spPr>
          <a:xfrm>
            <a:off x="4800600" y="914400"/>
            <a:ext cx="32004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02F4-19A2-4761-9C6A-E42EF3B3DF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3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3D69-292C-4BE3-BA6D-3A3001F34D9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53E3-D4E2-4989-A8B5-46300B8258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5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7E87-C2EE-4D78-BEEA-3B6F67EE5B88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2294-8315-4160-91D1-28731CC121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B9DB-9EFB-4778-9FE8-8147962B4675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0" y="1676520"/>
            <a:ext cx="914400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</a:t>
            </a:r>
            <a:endParaRPr b="0" lang="en-US" sz="2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ề việc thành lập tổ chức, đơn vị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ẨM QUYỀN BAN HÀNH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thẩm quyền;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áp dụng;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thực tế,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1: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về hành vi, đối tượng, mức độ, thời gian điều chỉnh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2: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về chức năng, nhiệm vụ của tổ chức được thành lập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3: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về cơ cấu tổ chức, nhân sự của tổ chức được thành lập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4: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iều khoản thi hành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9" name="Line 6"/>
          <p:cNvSpPr/>
          <p:nvPr/>
        </p:nvSpPr>
        <p:spPr>
          <a:xfrm>
            <a:off x="3657600" y="2438280"/>
            <a:ext cx="18288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0" y="0"/>
            <a:ext cx="3657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ÊN TỔ CHỨC BAN HÀNH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QĐ-…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3657600" y="0"/>
            <a:ext cx="5486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ịa danh, ngày …… tháng …… năm …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2" name="Line 4"/>
          <p:cNvSpPr/>
          <p:nvPr/>
        </p:nvSpPr>
        <p:spPr>
          <a:xfrm>
            <a:off x="914400" y="609480"/>
            <a:ext cx="175248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4572000" y="5791320"/>
            <a:ext cx="4572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ỨC VỤ NGƯỜI KÝ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4" name="Rectangle 13"/>
          <p:cNvSpPr/>
          <p:nvPr/>
        </p:nvSpPr>
        <p:spPr>
          <a:xfrm>
            <a:off x="0" y="5791320"/>
            <a:ext cx="4572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ơi nhận: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………………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. ;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ưu VT, PHC (3)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4800600" y="914400"/>
            <a:ext cx="32004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15C9-5669-4901-9B91-2C4E38DC9F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7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45FE-E831-449D-B1E6-FA3B83D80BC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98" name="Picture 2" descr="http://dolisa.org/hr/store/1900-2010-qd-ubnd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http://cement-t.com.vn/file_download/di328-20100323.jpg"/>
          <p:cNvPicPr/>
          <p:nvPr/>
        </p:nvPicPr>
        <p:blipFill>
          <a:blip r:embed="rId2"/>
          <a:stretch/>
        </p:blipFill>
        <p:spPr>
          <a:xfrm>
            <a:off x="4610160" y="0"/>
            <a:ext cx="453384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7277-8FD0-4EA2-9D06-4523021B68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5DB7-FB6D-411C-8DC4-8FE5305172B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302" name="Picture 2" descr="http://www.phuhunggia.com/sites/default/files/image/BoNhiemTGD/Quy%E1%BA%BFt%20%C4%91%E1%BB%8Bnh%20b%E1%BB%95%20nhi%E1%BB%87m%20T%E1%BB%95ng%20Gi%C3%A1m%20%C4%91%E1%BB%91c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http://www.motilenct.com.vn/newpage/vi/All_Pic/QDinh_BoNhiem_TGD_2012.jpg"/>
          <p:cNvPicPr/>
          <p:nvPr/>
        </p:nvPicPr>
        <p:blipFill>
          <a:blip r:embed="rId2"/>
          <a:stretch/>
        </p:blipFill>
        <p:spPr>
          <a:xfrm>
            <a:off x="4591080" y="0"/>
            <a:ext cx="455292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Multiply 5"/>
          <p:cNvSpPr/>
          <p:nvPr/>
        </p:nvSpPr>
        <p:spPr>
          <a:xfrm>
            <a:off x="7543800" y="228600"/>
            <a:ext cx="1295280" cy="190512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CBD3-8A4D-4C5B-8262-B5622717F7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5E11-FDA3-4D5F-A86F-36A065B450A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oạn Quyết định bổ nhiệm Trưởng Phòng Kinh doanh của Giám đốc Công ty TNHH Hòa B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Horizontal Scroll 6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ÀI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0" name="Oval 7"/>
          <p:cNvSpPr/>
          <p:nvPr/>
        </p:nvSpPr>
        <p:spPr>
          <a:xfrm>
            <a:off x="7772400" y="541008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612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EF75-2EE3-44F4-B43F-B35898D29C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9D72-2FED-49E1-988A-8415E8B7A61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9" name="Horizontal Scroll 5"/>
          <p:cNvSpPr/>
          <p:nvPr/>
        </p:nvSpPr>
        <p:spPr>
          <a:xfrm>
            <a:off x="304920" y="0"/>
            <a:ext cx="853416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S OF CHAPTER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438280" y="9907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Decis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438280" y="16765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Notificat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438280" y="23623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Repor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438280" y="30481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</a:t>
            </a:r>
            <a:r>
              <a:rPr b="0" lang="en-US" sz="4000" spc="-1" strike="noStrike">
                <a:solidFill>
                  <a:srgbClr val="000000"/>
                </a:solidFill>
                <a:latin typeface="VNI-Times"/>
              </a:rPr>
              <a:t>Proposal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438280" y="37339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NI-Times"/>
              </a:rPr>
              <a:t>Technical recording the Minutes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438280" y="44197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Contrac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2438280" y="51055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Dispatche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438280" y="57913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Letters Personally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8" name="Rounded Rectangle 14"/>
          <p:cNvSpPr/>
          <p:nvPr/>
        </p:nvSpPr>
        <p:spPr>
          <a:xfrm>
            <a:off x="457200" y="9907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9" name="Rounded Rectangle 15"/>
          <p:cNvSpPr/>
          <p:nvPr/>
        </p:nvSpPr>
        <p:spPr>
          <a:xfrm>
            <a:off x="457200" y="16765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</a:t>
            </a: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0" name="Rounded Rectangle 22"/>
          <p:cNvSpPr/>
          <p:nvPr/>
        </p:nvSpPr>
        <p:spPr>
          <a:xfrm>
            <a:off x="457200" y="23623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1" name="Rounded Rectangle 23"/>
          <p:cNvSpPr/>
          <p:nvPr/>
        </p:nvSpPr>
        <p:spPr>
          <a:xfrm>
            <a:off x="457200" y="30481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2" name="Rounded Rectangle 24"/>
          <p:cNvSpPr/>
          <p:nvPr/>
        </p:nvSpPr>
        <p:spPr>
          <a:xfrm>
            <a:off x="457200" y="3733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</a:t>
            </a: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3" name="Rounded Rectangle 25"/>
          <p:cNvSpPr/>
          <p:nvPr/>
        </p:nvSpPr>
        <p:spPr>
          <a:xfrm>
            <a:off x="457200" y="44197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</a:t>
            </a: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4" name="Rounded Rectangle 26"/>
          <p:cNvSpPr/>
          <p:nvPr/>
        </p:nvSpPr>
        <p:spPr>
          <a:xfrm>
            <a:off x="457200" y="51055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</a:t>
            </a: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5" name="Rounded Rectangle 27"/>
          <p:cNvSpPr/>
          <p:nvPr/>
        </p:nvSpPr>
        <p:spPr>
          <a:xfrm>
            <a:off x="457200" y="57913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</a:t>
            </a: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E3F6-975E-4768-BAFF-1B71460897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3C67-3FCF-42B0-B414-DE0B3C5D8BF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828800" y="99036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Quyết địn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0" name="Horizontal Scroll 6"/>
          <p:cNvSpPr/>
          <p:nvPr/>
        </p:nvSpPr>
        <p:spPr>
          <a:xfrm>
            <a:off x="304920" y="0"/>
            <a:ext cx="853416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ỘI DUNG CHƯƠ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828800" y="16765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Thông báo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828800" y="23623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Tờ trình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828800" y="30481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Báo cáo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828800" y="37339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ghi Biên bản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828800" y="44197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Hợp đồng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828800" y="51055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Công văn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828800" y="57913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Đơn thư cá nhân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8" name="Rounded Rectangle 14"/>
          <p:cNvSpPr/>
          <p:nvPr/>
        </p:nvSpPr>
        <p:spPr>
          <a:xfrm>
            <a:off x="457200" y="9907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9" name="Rounded Rectangle 15"/>
          <p:cNvSpPr/>
          <p:nvPr/>
        </p:nvSpPr>
        <p:spPr>
          <a:xfrm>
            <a:off x="457200" y="16765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0" name="Rounded Rectangle 16"/>
          <p:cNvSpPr/>
          <p:nvPr/>
        </p:nvSpPr>
        <p:spPr>
          <a:xfrm>
            <a:off x="457200" y="23623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1" name="Rounded Rectangle 17"/>
          <p:cNvSpPr/>
          <p:nvPr/>
        </p:nvSpPr>
        <p:spPr>
          <a:xfrm>
            <a:off x="457200" y="30481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2" name="Rounded Rectangle 18"/>
          <p:cNvSpPr/>
          <p:nvPr/>
        </p:nvSpPr>
        <p:spPr>
          <a:xfrm>
            <a:off x="457200" y="37339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3" name="Rounded Rectangle 19"/>
          <p:cNvSpPr/>
          <p:nvPr/>
        </p:nvSpPr>
        <p:spPr>
          <a:xfrm>
            <a:off x="457200" y="44197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6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4" name="Rounded Rectangle 20"/>
          <p:cNvSpPr/>
          <p:nvPr/>
        </p:nvSpPr>
        <p:spPr>
          <a:xfrm>
            <a:off x="457200" y="51055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7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5" name="Rounded Rectangle 21"/>
          <p:cNvSpPr/>
          <p:nvPr/>
        </p:nvSpPr>
        <p:spPr>
          <a:xfrm>
            <a:off x="457200" y="57913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8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6807-8D99-47E2-8573-4E004338BB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7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0972-A60E-452A-ADFA-F2B5312D40F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58D4-0FB5-4E6C-98E9-53EF0F2CE7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0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014E-0E30-406D-98B0-64AC99BD5A5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1" name="Bevel 3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153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1</a:t>
            </a:r>
            <a:endParaRPr b="0" lang="en-US" sz="4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</a:t>
            </a:r>
            <a:endParaRPr b="0" lang="en-US" sz="5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ÌNH BÀY QUYẾT ĐỊNH</a:t>
            </a:r>
            <a:endParaRPr b="0" lang="en-US" sz="5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 TIẾT GIẢNG: 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Ự HỌC: 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3" name="Minus 5"/>
          <p:cNvSpPr/>
          <p:nvPr/>
        </p:nvSpPr>
        <p:spPr>
          <a:xfrm>
            <a:off x="3276720" y="1905120"/>
            <a:ext cx="2590560" cy="2286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3B21-C2BF-4210-A036-DD2111A555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84B5-5EEB-432D-A496-1C5553089BA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hái niệ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ẩm quyền ban hà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ấu trúc của quyết đị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Mẫu quyết đị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tập trên lớp: Soạn Quyết đị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8" name="Horizontal Scroll 6"/>
          <p:cNvSpPr/>
          <p:nvPr/>
        </p:nvSpPr>
        <p:spPr>
          <a:xfrm>
            <a:off x="304920" y="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ỘI DUNG BÀI GIẢ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931A-3BBF-4142-8D6A-68D431B553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EF14-A7CB-4568-834F-9D240CEBA8E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219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chế độ, chính sách, nhiệm vụ quyền hạn tổ chức bộ máy nhà nướ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3" name="Horizontal Scroll 6"/>
          <p:cNvSpPr/>
          <p:nvPr/>
        </p:nvSpPr>
        <p:spPr>
          <a:xfrm>
            <a:off x="228600" y="0"/>
            <a:ext cx="861048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KHÁI NIỆM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4" name="Horizontal Scroll 7"/>
          <p:cNvSpPr/>
          <p:nvPr/>
        </p:nvSpPr>
        <p:spPr>
          <a:xfrm>
            <a:off x="304920" y="9907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. QUYẾT ĐỊNH QUY PHẠM PHÁP LUẬ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3048120"/>
          <a:ext cx="8229600" cy="3352680"/>
        </p:xfrm>
        <a:graphic>
          <a:graphicData uri="http://schemas.openxmlformats.org/drawingml/2006/table">
            <a:tbl>
              <a:tblPr/>
              <a:tblGrid>
                <a:gridCol w="2133720"/>
                <a:gridCol w="1371600"/>
                <a:gridCol w="4724280"/>
              </a:tblGrid>
              <a:tr h="369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Số/Ký hiệ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Ngà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Trích yếu nội d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5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16/2013/QĐ-TT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04/03/2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6666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  Về việc mua, bán vàng miếng trên thị trườ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6666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  trong nước của Ngân hàng Nhà nướ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05/2013/QĐ-TT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15/01/2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000" spc="-1" strike="noStrike" u="sng">
                          <a:solidFill>
                            <a:srgbClr val="6666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Quy định việc công dân Việt Nam ra nước ngoài học tập</a:t>
                      </a:r>
                      <a:r>
                        <a:rPr b="0" lang="vi-VN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15/2013/QĐ-TT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23/02/2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6666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  Về tín dụng đối với hộ cận nghèo</a:t>
                      </a: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50/2012/QĐ-UB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14/11/201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8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Ban hành Quy định chức năng, nhiệm vụ, quyền hạn và cơ cấu tổ chức của Sở Kế hoạch và Đầu tư tỉnh Bình Dươ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B638-1C65-4DB6-85DB-1AA7A62F63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7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491A-AD38-4181-8133-66280F91ADB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E821-F57C-4340-AE4D-46B70FA53D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9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5686-B6BC-40FF-AB29-A541243F8424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80" name="Picture 2" descr="http://tapchihuongnghiep.com.vn/Pictures/Gallery/Large/Quyet-dinh-1.gif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http://www.uct.edu.vn/sites/default/files/tinhdchung/DSC_3239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03:20:02Z</dcterms:created>
  <dc:creator>Bài giảng QTVP_Thầy Nam Hà</dc:creator>
  <dc:description/>
  <dc:language>en-US</dc:language>
  <cp:lastModifiedBy>ntc</cp:lastModifiedBy>
  <dcterms:modified xsi:type="dcterms:W3CDTF">2013-10-23T03:20:11Z</dcterms:modified>
  <cp:revision>397</cp:revision>
  <dc:subject/>
  <dc:title>Chương 9.1</dc:title>
</cp:coreProperties>
</file>