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7FBC-8B65-459C-900E-CF3F958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D0F7-5EC1-4E28-9780-E81B7BC2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0DE3-9105-430F-BBA0-7D3D1ACA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123C-AFC5-499A-BB69-AA39CA10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61DA-4A1E-4EBB-B37F-47FC4B0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857-5DC9-4460-A588-6D60742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4FF-92A8-49E2-9AB4-8B4F2FD4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C351-3BA2-431E-92C9-0E7630C3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B17-F40F-4CD9-9E16-36577CE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198A-7A24-4A44-AED0-453D597D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26F5-CB92-42E4-ADA6-9C9520E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B7B0-7B40-4535-A9D2-4B81A42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BC82-C815-4692-9764-2AE4D93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7CCA-EEF1-4D2F-82E6-2265FE5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B6E-81C2-4D16-9127-75B238C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3A2-534A-497E-9932-3989E763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4B1D-40AF-4E33-971D-5C2A2FD0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DAC5-DDA2-425E-B54E-7C44D76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9460-4606-42C6-A37B-C86B41A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82E9-230F-463D-9BF6-88140AA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C597-7767-49AA-BEFA-4ED2C88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A94A-E57D-4B90-836E-F147AC48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4862-7517-4B70-9CB5-8511948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6406-B0B7-422E-A381-32D7BDA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C43C-9ADC-4FA0-9AE0-450D94626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84B-9437-4089-AB2C-E1925C9C33A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08F-9FBD-4E3F-8614-D25AAF895A2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97C-776E-4B63-8C11-A30C2CF98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A3B-8F35-4471-A034-5F8B39F64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FACF-3634-4084-8CED-70DD6313A4B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BÁO C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7E6-6506-4EC3-A325-267C2C35E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60A-39DA-4159-878D-44CC98D105B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</a:t>
            </a: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……………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aëc ñieåm tình hình; Nhieäm vuï ñöôïc giao; Thuaän lôïi khoù kha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Muïc tieâu, nhieäm vuï saép tôùi; Caùc bieän phaùp thöïc hieän; Kieán nghò, ñeà xuaát vôùi caáp tre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i="1" lang="en-US" sz="2000" spc="-1" strike="noStrike">
                <a:solidFill>
                  <a:srgbClr val="000029"/>
                </a:solidFill>
                <a:latin typeface="VNI-Times"/>
              </a:rPr>
              <a:t>Nôi nhaän: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                                               QUYEÀN HAÏN, CHÖÙC VUÏ NGÖÔØI KY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………………………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Löu VT, PHC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62520" y="289548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Q, TC CẤP TRÊN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Ơ QUAN, TỔ CHỨ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429000" y="0"/>
            <a:ext cx="5715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066680" y="9907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724280" y="106668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4B1D-A83C-455C-9E8E-42D577810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933-4BE3-424C-A314-1E2C62F98B7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Neâu caùc yeâu caàu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aáu truùc cuûa baùo caùo vaø nhöõng noäi dung chính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ÂU HỎI ÔN TẬP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Soaïn Baùo caùo veà hoaït ñoäng cuûa lôùp em naêm hoïc vöøa qua gôûi Phoøng Quaûn lyù HSSV&amp;TTGD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Horizontal Scroll 8"/>
          <p:cNvSpPr/>
          <p:nvPr/>
        </p:nvSpPr>
        <p:spPr>
          <a:xfrm>
            <a:off x="380880" y="32767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ÀI TẬP (30p)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937-9E1A-4830-96F9-C90B11133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6F0-7BC6-47A8-99DB-A1812D85683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toång keát naêm hoïc 2010 - 2011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Phoøng Quaûn lyù HSSV &amp; TTG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Nhaän ñònh chung veà ñaëc ñieåm tình hình cuûa lôùp; Thuaän lôïi khoù khaên cuûa lôù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keát quaû hoaït ñoäng cuûa lôùp trong 3 lónh vöïc: Hoïc taäp, reøn luyeän, tham gia coâng taùc xaõ hoäi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-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eà xuaát, kieán nghò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5618160"/>
          <a:ext cx="8458200" cy="1011240"/>
        </p:xfrm>
        <a:graphic>
          <a:graphicData uri="http://schemas.openxmlformats.org/drawingml/2006/table">
            <a:tbl>
              <a:tblPr/>
              <a:tblGrid>
                <a:gridCol w="5334120"/>
                <a:gridCol w="3124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Nôi nhaä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ÔÙP TRÖÔÛ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Phoøng QLHSSV&amp;TTG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ö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8"/>
          <p:cNvSpPr/>
          <p:nvPr/>
        </p:nvSpPr>
        <p:spPr>
          <a:xfrm>
            <a:off x="0" y="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OA QTK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ỚP …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29000" y="0"/>
            <a:ext cx="5715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724280" y="91440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15FD-7E33-4692-A56E-03BDC3659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D5D8-7819-4F8B-ABD3-E1E5F2BE38B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Khái niệm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Yêu cầu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ân loại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Cấu trúc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ương pháp soạn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5"/>
          <p:cNvSpPr/>
          <p:nvPr/>
        </p:nvSpPr>
        <p:spPr>
          <a:xfrm>
            <a:off x="380880" y="18576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ỘI DUNG BÀI GIẢNG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93F6-CAFC-4B8A-B85D-73B3232D6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78C-23C8-412C-8AF9-905CE139E41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Vaên baûn haø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Chæ duøng cho CQ, TC caáp döôù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Noäi d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Phaûn aùnh söï vieäc, hoaït ñoäng cuûa CQ, TC trong moät khoaûng thôøi gian cuï the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höùc naê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Q, TC caáp treân ñaùnh giaù ñöôïc tình hình thöïc teá, kòp thôøi ñeà ra chính saùch, bieän phaùp quaûn lyù phuø hôï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80880" y="3348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KHÁI NIỆM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DD8D-B770-47F4-A584-3CBEB80F6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01E-63B5-4FDE-92E3-6044700F51D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Trung thöïc, khaùch quan, chính x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hi tieát, soá lieäu phaûi ñuùng thöïc te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uï theå, coù troïng taâm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aáp treân ñaùnh giaù ñuùng tình hình thöïc teá ñeå ban haønh caùc quyeát ñònh quaûn ly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Kòp thôøi, nhanh choù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Vì baùo caùo phuïc vuï coâng taùc quaûn lyù, ñieàu haø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YÊU CẦU CỦA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1AA-EABF-4C3D-B72F-46C86476C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C259-15F6-46A5-95BD-A972BDDD895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76320" y="2057400"/>
            <a:ext cx="259056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oâng taù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838080" y="3581280"/>
            <a:ext cx="28195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ñeà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5943600" y="2057400"/>
            <a:ext cx="30481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mo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0200" y="685800"/>
            <a:ext cx="5943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3. PHAÂN LOAÏI BAÙO CAÙ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76720" y="4419720"/>
            <a:ext cx="274320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5791320" y="3581280"/>
            <a:ext cx="274320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Thöïc teá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2666880" y="1828800"/>
            <a:ext cx="1905120" cy="9144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971440" y="1828800"/>
            <a:ext cx="1600200" cy="18288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541760" y="1828800"/>
            <a:ext cx="106560" cy="25909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95680" y="1828800"/>
            <a:ext cx="1676520" cy="1905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495680" y="1828800"/>
            <a:ext cx="1447920" cy="762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BD1-2A92-4761-9199-3114CE158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3BAE-52EB-46E7-93DC-47B5FECFA80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oâng t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Sô keát, toång ke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ñeà, vụ việ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Moät vaán ñeà trong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moân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aøi chính, thueá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Ñeà caäp taát caû caùc maët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thöïc teá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höïc teá coâng taùc vaø ñeà xuaát bieän phaùp giaûi quyeát vaán ñe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5"/>
          <p:cNvSpPr/>
          <p:nvPr/>
        </p:nvSpPr>
        <p:spPr>
          <a:xfrm>
            <a:off x="380880" y="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PHÂN LOẠI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7F4-F8AF-4FD4-B772-672574E45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085D-A7CC-4F34-A65C-26C30DC832A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iệm vụ được giao, thuận lợi, khó khăn trong thực 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80880" y="0"/>
            <a:ext cx="838224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CẤU TRÚC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Horizontal Scroll 6"/>
          <p:cNvSpPr/>
          <p:nvPr/>
        </p:nvSpPr>
        <p:spPr>
          <a:xfrm>
            <a:off x="457200" y="1100160"/>
            <a:ext cx="2514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2819520"/>
            <a:ext cx="807732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ết quả thực hiện; công việc đã làm được, chưa làm được; nguyên nhân chủ quan, khách qu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Horizontal Scroll 8"/>
          <p:cNvSpPr/>
          <p:nvPr/>
        </p:nvSpPr>
        <p:spPr>
          <a:xfrm>
            <a:off x="533520" y="266688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tiêu, nhiệm vụ mới, biện pháp thực hiện, kiến nghị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10"/>
          <p:cNvSpPr/>
          <p:nvPr/>
        </p:nvSpPr>
        <p:spPr>
          <a:xfrm>
            <a:off x="533520" y="491004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430-5F83-48F4-B81D-44250DD84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FB4-1400-4EC7-AC07-24E6BB8FCAE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Xaùc ñònh muïc ñích cuûa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hu thaäp döõ lieäu caàn baùo caùo: Ñoái chieáu thoâng tin ñeå kieåm chöùng ñoä xaùc thöïc cuûa thoâng 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Saép xeáp, toång hôïp döõ lieäu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ổng kết hoaït ñoäng, kinh nghieäm, yù kieán caàn ñeà xuaát leân caáp treâ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Horizontal Scroll 5"/>
          <p:cNvSpPr/>
          <p:nvPr/>
        </p:nvSpPr>
        <p:spPr>
          <a:xfrm>
            <a:off x="380880" y="0"/>
            <a:ext cx="845820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PHƯƠNG PHÁP SOẠN THẢ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6"/>
          <p:cNvSpPr/>
          <p:nvPr/>
        </p:nvSpPr>
        <p:spPr>
          <a:xfrm>
            <a:off x="457200" y="1100160"/>
            <a:ext cx="830592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76B-62C4-465E-867F-DD192C49E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C9D-E2AB-448C-AB50-832DEE6A6EF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Coâng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vieäc ñaõ laøm ñöôïc, chöa laøm ñöô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uû quan, khaùch q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Bieän phaùp thöïc hieän coâng vieäc coøn laï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Horizontal Scroll 5"/>
          <p:cNvSpPr/>
          <p:nvPr/>
        </p:nvSpPr>
        <p:spPr>
          <a:xfrm>
            <a:off x="380880" y="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2. VIẾT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Horizontal Scroll 6"/>
          <p:cNvSpPr/>
          <p:nvPr/>
        </p:nvSpPr>
        <p:spPr>
          <a:xfrm>
            <a:off x="457200" y="9144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SƠ KẾT (6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33520" y="4191120"/>
            <a:ext cx="8076960" cy="2209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Toång hôïp nhieäm vuï ñaõ hoaøn thaønh, chöa hoaøn thaønh (keát quaû cuï theå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ưa hoaøn thaø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Phöông höôùng nhieäm vuï cho năm sa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Horizontal Scroll 9"/>
          <p:cNvSpPr/>
          <p:nvPr/>
        </p:nvSpPr>
        <p:spPr>
          <a:xfrm>
            <a:off x="457200" y="34290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TỔNG KẾT (12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08-10T08:27:38Z</dcterms:modified>
  <cp:revision>306</cp:revision>
  <dc:subject/>
  <dc:title>Chương 9.4</dc:title>
</cp:coreProperties>
</file>