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401-A508-4011-8BAE-EFC290DA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A96-C005-469D-94A4-D69BE4A0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DBFF-B3CF-4B86-BEF2-368CF55E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EEF-33A0-417E-B48C-3BA806BE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A2DA-F416-413A-86CC-A1D14539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56EA-5B1B-42AB-9198-2BAAD2C1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420D-D7DB-4C42-BCE1-2FAEF908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8CE9-DB2B-40E5-A880-D82C9663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6E9F-BA7D-45E1-ADE3-90D7CFA5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C915-683B-4DF0-985F-F13C74A0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67ED-C46B-4DB7-BB9C-92ED0430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FC21-8524-48FC-9D20-500D0219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0847-9BF1-4690-B288-A177A949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046A-C4BD-4DBD-8CE6-C12EEA42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6ACD-1675-48A6-8821-0513C217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DE89-BFE3-4782-A655-8C31CED1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243B-4220-41EB-9EDF-30937CF7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4D2-A097-44B5-95B5-51C7E6D4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871-C9DA-4923-BD87-E9B413C1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27A1-0AD7-4365-B4DF-8B5145C9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DCA0-B291-40B6-9031-EE77185B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BE4-7979-41CE-BD5C-729F823F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6C9A-DEC4-495D-B2E2-475B828F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55C-6F29-4B0B-AB37-3B051FF0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4A83-EBA8-411C-A3F6-0503A9C47C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CF0F-E085-48E5-9FCF-962E5F9944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FILE%20HO%20TRO%20BAI%20GIANG/MAU%20BIEN%20BAN.do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Ỹ THUẬT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HI &amp; TRÌNH BÀY BIÊN BẢ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571680" y="28404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ÀI 5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NỘI DUNG BÀI GIẢ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1.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Khaùi nieäm bieân baû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2.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Phaân loaïi bieân baû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3.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Phöông phaùp ghi bieân baû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4.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Caáu truùc cuûa bieân baû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1. KHÁI NIỆM BIÊN BẢ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Văn bản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ghi lại những sự việc, vụ việc đã xảy ra / đang diễn ra để làm chứng cứ pháp lý về sa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Yêu cầu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Ghi trung thực, khách quan, chính xác &amp; đầy đủ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2. PHÂN LOẠI BIÊN BẢ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iên bản hội họp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Ghi lại tiến trình, diễn biế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iên bản hành chính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Ghi lại sự việc theo quy định hành chính: Biên bản vi phạm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iên bản trong lĩnh vực tư pháp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Ghi lại những sự việc theo quy định của pháp luật tố tụng trong hoạt động của các CQ tư pháp: Biên bản phiên tòa, biên bản lấy lời khai …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3. PHƯƠNG PHÁP GHI BIÊN BẢ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hân loại thông tin khi ghi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ông tin để biết - ghi ý chín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ông tin để thực hiện - ghi đầy đủ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ếu người phát biểu yêu cầu ghi nguyên văn thì sử dụng hình thức dẫn lời nói trực tiế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ập trung lắng nghe, ghi chép nhan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ử dụng kỹ thuật biến đổi câ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4. CẤU TRÚC CỦA BIÊN BẢ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Mở đầu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Thời gian, địa điểm lập biên bản, thành phần tham d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Nội dung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iên bản hội họp / vụ việc đang diễn ra: ghi theo tiến trìn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iên bản sự việc đã xảy ra: mô tả hiện trường, ghi lời khai nhân chứ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Kết luận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Ghi thời gian, địa điểm kết thúc việc lập biên bản, biên bản được đọc thông qua những người tham dự, số bản được lập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  <a:hlinkClick r:id="rId1"/>
              </a:rPr>
              <a:t>CÂU HỎI ÔN TẬ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hân loại biên bản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êu phương pháp ghi biên bản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ấu trúc của biên bản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33:18Z</dcterms:created>
  <dc:creator>Bài giảng QTVP_Thầy Nam Hà</dc:creator>
  <dc:description/>
  <dc:language>en-US</dc:language>
  <cp:lastModifiedBy>ntc</cp:lastModifiedBy>
  <dcterms:modified xsi:type="dcterms:W3CDTF">2014-03-23T15:05:46Z</dcterms:modified>
  <cp:revision>53</cp:revision>
  <dc:subject/>
  <dc:title>Chương 9.5</dc:title>
</cp:coreProperties>
</file>