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1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6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9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30.jpeg" ContentType="image/jpeg"/>
  <Override PartName="/ppt/media/image31.png" ContentType="image/png"/>
  <Override PartName="/ppt/media/image32.png" ContentType="image/png"/>
  <Override PartName="/ppt/media/image33.jpeg" ContentType="image/jpeg"/>
  <Override PartName="/ppt/media/image44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43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4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8AB85-4E1E-43E1-B028-463C21712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C0C2E-CA69-4FC3-AA2B-A5C55D79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2A74C-CECA-4550-96B0-67ED252F8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BD8C9-8BA6-42FD-ACA7-870ABB226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9584-1050-487E-8EA7-A6BE05C46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D5D0-7C44-49ED-B218-935BD792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19F8-06D5-4F3E-92AE-8808B19F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4B79-BBA2-4278-80BB-B547FBD5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C38C-6B33-45F4-85E7-44BB01B9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2547-52E1-44F3-9B72-FB41B68B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A9CE-CD35-4EC1-B1DC-30FD18ED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54A28-635D-4FEC-96EE-EF07EF20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803A-A7D7-4E2B-95D0-57AAACD5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21BCB-E063-4F32-9836-8DCF4955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4D38C-99D9-46D7-AD7A-0C666227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23234-15C6-49B2-ABE6-7AA58F433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9D754-4C53-4D98-9FA0-055800306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447BA-4992-4532-AC75-D6CE3401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E8051-1B18-48AB-A56C-EE59B614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4173B-496D-4F58-9004-C47A6E45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AE0FC-006A-4250-AC3B-119C20EE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708EB-FA0B-4539-AFF4-2E4E211A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050A6-74C2-43EF-8BFA-B7B5D7B8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48D44-3096-4DCB-A32E-0DE8392F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C097-2914-4DAB-952E-0E044AA367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878D-3EB9-44F7-9777-9FD9825D2D3F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00D9-3A19-48E1-9653-8B226B35976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7BCD-FB91-49D4-9F72-27AEFC6FC1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../FILE%20HO%20TRO%20BAI%20GIANG/THANG%20&#272;I&#7874;M%20TI&#7874;U%20LU&#7852;N_CO%20THUYET%20TRINH.doc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bbbbbbbbbbbbbbbbbbbbbbbbbbbbbbbbbbbbbbbbbbbbbbbbbbbbbbbbbbbbbbbbbbbbbbbbbbbbbbbbbbbbbbbbbbbbbbbbbbbbbbbbbbbbbbbbbbbb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3B3B-9938-4185-A55D-6E52B49DB3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B65B-9F1B-4A4A-B706-FE669C89132F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29"/>
                </a:solidFill>
                <a:uFillTx/>
                <a:latin typeface="Arial"/>
                <a:ea typeface="Times New Roman"/>
              </a:rPr>
              <a:t>MÔN HỌC</a:t>
            </a:r>
            <a:endParaRPr b="0" lang="en-US" sz="48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29"/>
                </a:solidFill>
                <a:latin typeface="Arial"/>
              </a:rPr>
              <a:t>QUẢN TRỊ </a:t>
            </a:r>
            <a:r>
              <a:rPr b="1" lang="en-US" sz="6000" spc="-1" strike="noStrike">
                <a:solidFill>
                  <a:srgbClr val="000029"/>
                </a:solidFill>
                <a:latin typeface="Arial"/>
                <a:ea typeface="Times New Roman"/>
              </a:rPr>
              <a:t>VĂN PHÒNG</a:t>
            </a:r>
            <a:endParaRPr b="0" lang="en-US" sz="6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29"/>
                </a:solidFill>
                <a:latin typeface="Arial"/>
                <a:ea typeface="Times New Roman"/>
              </a:rPr>
              <a:t>(MANAGEMENT OF OFFICE)</a:t>
            </a:r>
            <a:endParaRPr b="0" lang="en-US" sz="48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1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GV: TS. Nguyễn Nam Hà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0909812330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namhadhcn@yahoo.com.vn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10" name="Picture 9" descr=""/>
          <p:cNvPicPr/>
          <p:nvPr/>
        </p:nvPicPr>
        <p:blipFill>
          <a:blip r:embed="rId1"/>
          <a:stretch/>
        </p:blipFill>
        <p:spPr>
          <a:xfrm>
            <a:off x="76320" y="0"/>
            <a:ext cx="9067680" cy="1752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5c5c99"/>
            </a:outerShdw>
          </a:effectLst>
        </p:spPr>
      </p:pic>
      <p:sp>
        <p:nvSpPr>
          <p:cNvPr id="111" name="Frame 8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2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066320"/>
            <a:ext cx="8229600" cy="25909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</a:rPr>
              <a:t>Knowledge: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● Understand the functions, tasks, organizational structure, organizational form off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●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Understand the system of legal, judicial documents, administrative docu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F2D9-4ABF-4C0B-A1D6-7E017B54C0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5" name="Date Placeholder 4"/>
          <p:cNvSpPr/>
          <p:nvPr/>
        </p:nvSpPr>
        <p:spPr>
          <a:xfrm>
            <a:off x="457200" y="624528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BBD9-1259-4194-B387-3D047F23B985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7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URSE OBJECTIVES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8" name="Content Placeholder 2"/>
          <p:cNvSpPr/>
          <p:nvPr/>
        </p:nvSpPr>
        <p:spPr>
          <a:xfrm>
            <a:off x="457200" y="3809880"/>
            <a:ext cx="8229600" cy="25909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</a:rPr>
              <a:t>Skills:          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● Know how to organize, manage office</a:t>
            </a:r>
            <a:br>
              <a:rPr sz="3200"/>
            </a:b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● Drafting and presentation of common administrative documents: Decision, notify, report, reports, documents ..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9" name="Horizontal Scroll 8"/>
          <p:cNvSpPr/>
          <p:nvPr/>
        </p:nvSpPr>
        <p:spPr>
          <a:xfrm>
            <a:off x="457200" y="990720"/>
            <a:ext cx="2743200" cy="6858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nowledge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0" name="Horizontal Scroll 9"/>
          <p:cNvSpPr/>
          <p:nvPr/>
        </p:nvSpPr>
        <p:spPr>
          <a:xfrm>
            <a:off x="457200" y="3733920"/>
            <a:ext cx="2743200" cy="6858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kills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1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FDB9-C4BA-461D-9DDF-4C971C10BE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3" name="Date Placeholder 5"/>
          <p:cNvSpPr/>
          <p:nvPr/>
        </p:nvSpPr>
        <p:spPr>
          <a:xfrm>
            <a:off x="457200" y="624528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5A79-E793-4F52-BDCB-679683C4F109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  <a:ea typeface="Times New Roman"/>
              </a:rPr>
              <a:t>Hiểu chức năng, nhiệm vụ, cơ cấu tổ chức, hình thức tổ chức VP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  <a:ea typeface="Times New Roman"/>
              </a:rPr>
              <a:t>Hiểu hệ thống VB QPPL, VBTP, VBHC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6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MỤC TIÊU CỦA MÔN HỌC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457200" y="4114800"/>
            <a:ext cx="8229600" cy="22860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  <a:ea typeface="Times New Roman"/>
              </a:rPr>
              <a:t>Biết cách tổ chức, quản lý VP</a:t>
            </a:r>
            <a:endParaRPr b="0" lang="en-US" sz="3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  <a:ea typeface="Times New Roman"/>
              </a:rPr>
              <a:t>Soạn thảo, trình bày VB hành chính thông dụng: Quyết định, thông báo, tờ trình, báo cáo, công văn…</a:t>
            </a:r>
            <a:endParaRPr b="0" lang="en-US" sz="3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8" name="Horizontal Scroll 8"/>
          <p:cNvSpPr/>
          <p:nvPr/>
        </p:nvSpPr>
        <p:spPr>
          <a:xfrm>
            <a:off x="380880" y="990720"/>
            <a:ext cx="3200400" cy="6858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iến thức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9" name="Horizontal Scroll 9"/>
          <p:cNvSpPr/>
          <p:nvPr/>
        </p:nvSpPr>
        <p:spPr>
          <a:xfrm>
            <a:off x="380880" y="3505320"/>
            <a:ext cx="3200400" cy="6858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ỹ năng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0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4000"/>
                            </p:stCondLst>
                            <p:childTnLst>
                              <p:par>
                                <p:cTn id="32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0"/>
                            </p:stCondLst>
                            <p:childTnLst>
                              <p:par>
                                <p:cTn id="3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6000"/>
                            </p:stCondLst>
                            <p:childTnLst>
                              <p:par>
                                <p:cTn id="35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41E2-9019-42D7-B165-6B6EB953A6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2" name="Date Placeholder 5"/>
          <p:cNvSpPr/>
          <p:nvPr/>
        </p:nvSpPr>
        <p:spPr>
          <a:xfrm>
            <a:off x="45720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B4D2-6779-48F6-814D-91CBE2837F8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305920" cy="12189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</a:rPr>
              <a:t>Giáo trình Quản trị văn phòng, Khoa QTKD, Trường ĐHCN TPHCM, 2011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5" name="Horizontal Scroll 6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ÀI LIỆU MÔN HỌC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6" name="Horizontal Scroll 7"/>
          <p:cNvSpPr/>
          <p:nvPr/>
        </p:nvSpPr>
        <p:spPr>
          <a:xfrm>
            <a:off x="380880" y="990720"/>
            <a:ext cx="3733920" cy="7617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iáo trình chính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457200" y="3429000"/>
            <a:ext cx="8305920" cy="2971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1.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 GS.TS. Đồng Thị Thanh Phương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Quản trị 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hành chính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VP,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 NXB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.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 T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H., TP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HCM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,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 2008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2.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 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Vương Thị Kim Thanh, Quản trị hành chính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VP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. NXB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.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 T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K.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, TP.HCM 2009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3.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 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Mike Harvey, Quản trị hành chính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VP,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 NXB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.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 Hồng Đức, TPHCM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,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 2008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8" name="Horizontal Scroll 9"/>
          <p:cNvSpPr/>
          <p:nvPr/>
        </p:nvSpPr>
        <p:spPr>
          <a:xfrm>
            <a:off x="380880" y="2819520"/>
            <a:ext cx="3733920" cy="6858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am khảo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9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000"/>
                            </p:stCondLst>
                            <p:childTnLst>
                              <p:par>
                                <p:cTn id="3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4000"/>
                            </p:stCondLst>
                            <p:childTnLst>
                              <p:par>
                                <p:cTn id="40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5F87-1BB9-4D9C-A70A-CC1060D4E1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38C5-89C7-44AB-8DB8-FE9B4B63A36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212" name="Picture 2" descr="http://saigon-uni.edu.vn/uploads/fckeditor/image/quantri.JPG"/>
          <p:cNvPicPr/>
          <p:nvPr/>
        </p:nvPicPr>
        <p:blipFill>
          <a:blip r:embed="rId1"/>
          <a:stretch/>
        </p:blipFill>
        <p:spPr>
          <a:xfrm>
            <a:off x="0" y="1295280"/>
            <a:ext cx="2971800" cy="50292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213" name="Rectangle 8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4" name="Title 1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ÀI LIỆU THAM KHẢ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215" name="Picture 8" descr="http://www.davibooks.vn/beta/upload_images/old_picture/a/5f6201605823ea1db63a9ea92cd97c68.jpg"/>
          <p:cNvPicPr/>
          <p:nvPr/>
        </p:nvPicPr>
        <p:blipFill>
          <a:blip r:embed="rId2"/>
          <a:stretch/>
        </p:blipFill>
        <p:spPr>
          <a:xfrm>
            <a:off x="3048120" y="1295280"/>
            <a:ext cx="2971800" cy="50292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pic>
        <p:nvPicPr>
          <p:cNvPr id="216" name="Picture 10" descr="http://t.f10.photo.zdn.vn/upload/original/2012/06/16/20/10/1339852234956358045.jpg"/>
          <p:cNvPicPr/>
          <p:nvPr/>
        </p:nvPicPr>
        <p:blipFill>
          <a:blip r:embed="rId3"/>
          <a:stretch/>
        </p:blipFill>
        <p:spPr>
          <a:xfrm>
            <a:off x="6095880" y="1295280"/>
            <a:ext cx="3048120" cy="50292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217" name="Horizontal Scroll 9"/>
          <p:cNvSpPr/>
          <p:nvPr/>
        </p:nvSpPr>
        <p:spPr>
          <a:xfrm>
            <a:off x="0" y="0"/>
            <a:ext cx="9144000" cy="12193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ÀI LIỆU THAM KHẢ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8" name="Footer Placeholder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000"/>
                            </p:stCondLst>
                            <p:childTnLst>
                              <p:par>
                                <p:cTn id="45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2A42-FBAA-4352-9FCA-5403F6498A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0" name="Date Placeholder 4"/>
          <p:cNvSpPr/>
          <p:nvPr/>
        </p:nvSpPr>
        <p:spPr>
          <a:xfrm>
            <a:off x="45720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12BD-9E41-4DEE-AB94-EBA433E05755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457200" y="1066680"/>
            <a:ext cx="8305920" cy="5257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Hiến pháp 1992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Luật Ban hành văn bản quy phạm pháp luật 3/6/2008 (01/01/2009)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Luật Ban hành văn bản quy phạm pháp luật của HĐND, UBND 3/12/2004 (1/4/2005)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Luật Lưu trữ 01/01/2011 (01/7/2012)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3" name="Horizontal Scroll 7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ĂN BẢN QUY PHẠM PHÁP LUẬ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4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1076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AD74-5BA4-4ED5-93A4-C6CE01ACDD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822E-66CB-46A8-A481-53597FED7433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228" name="Picture 2" descr="http://4.bp.blogspot.com/-86u6ApdL0sM/ULtvPfksD2I/AAAAAAAAAIw/6FPKO3h7Sj0/s400/hienphap.jpg"/>
          <p:cNvPicPr/>
          <p:nvPr/>
        </p:nvPicPr>
        <p:blipFill>
          <a:blip r:embed="rId1"/>
          <a:stretch/>
        </p:blipFill>
        <p:spPr>
          <a:xfrm>
            <a:off x="0" y="1219320"/>
            <a:ext cx="3048120" cy="563868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4"/>
          <p:cNvSpPr/>
          <p:nvPr/>
        </p:nvSpPr>
        <p:spPr>
          <a:xfrm>
            <a:off x="193680" y="-2430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2"/>
          <a:stretch/>
        </p:blipFill>
        <p:spPr>
          <a:xfrm>
            <a:off x="3048120" y="1219320"/>
            <a:ext cx="2971800" cy="5638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5c5c99"/>
            </a:outerShdw>
          </a:effectLst>
        </p:spPr>
      </p:pic>
      <p:pic>
        <p:nvPicPr>
          <p:cNvPr id="231" name="Picture 6" descr=""/>
          <p:cNvPicPr/>
          <p:nvPr/>
        </p:nvPicPr>
        <p:blipFill>
          <a:blip r:embed="rId3"/>
          <a:stretch/>
        </p:blipFill>
        <p:spPr>
          <a:xfrm>
            <a:off x="6019920" y="1219320"/>
            <a:ext cx="3124080" cy="5638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5c5c99"/>
            </a:outerShdw>
          </a:effectLst>
        </p:spPr>
      </p:pic>
      <p:sp>
        <p:nvSpPr>
          <p:cNvPr id="232" name="Horizontal Scroll 9"/>
          <p:cNvSpPr/>
          <p:nvPr/>
        </p:nvSpPr>
        <p:spPr>
          <a:xfrm>
            <a:off x="0" y="33480"/>
            <a:ext cx="9144000" cy="118584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ĂN BẢN QUY PHẠM PHÁP LUẬ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3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2000"/>
                            </p:stCondLst>
                            <p:childTnLst>
                              <p:par>
                                <p:cTn id="50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35D0-EF66-4E7E-B4DC-98721433D2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5" name="Date Placeholder 5"/>
          <p:cNvSpPr/>
          <p:nvPr/>
        </p:nvSpPr>
        <p:spPr>
          <a:xfrm>
            <a:off x="45720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9D00-CE18-4980-B5FA-633C5912710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Đ 58/2001 Quản lý con dấ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Đ 82/2001 Nghi lễ Nhà nướ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Đ 110/2004 Công tác văn th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Đ 24/2009 Luật Ban hành VBQPP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Đ 31/2009 Sửa đổi NĐ 58/20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Đ 9/2010 Sửa đổi NĐ 110/20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Đ 01/2013 Luật Lưu tr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8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ĂN BẢN QUY PHẠM PHÁP LUẬ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9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"/>
                            </p:stCondLst>
                            <p:childTnLst>
                              <p:par>
                                <p:cTn id="53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5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4000"/>
                            </p:stCondLst>
                            <p:childTnLst>
                              <p:par>
                                <p:cTn id="56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0"/>
                            </p:stCondLst>
                            <p:childTnLst>
                              <p:par>
                                <p:cTn id="57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6000"/>
                            </p:stCondLst>
                            <p:childTnLst>
                              <p:par>
                                <p:cTn id="58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7000"/>
                            </p:stCondLst>
                            <p:childTnLst>
                              <p:par>
                                <p:cTn id="59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75AC-6415-4955-B571-5C191BCF58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1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536E-2D29-4486-B904-8E0798FCA04D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Thông tư liên tịch 55_6/5/2005_BNV-VPCP: Hướng dẫn về thể thức và kỹ thuật trình bày văn bả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ông tư 01_19/1/2011_Bộ Nội vụ: Hướng dẫn thể thức và kỹ thuật trình bày văn bản hành chí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Thông tư 9/2011/Bộ Nội vụ_T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h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ờ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i h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ạ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n b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ả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o qu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ả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n h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ồ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 sơ, t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à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i li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ệ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u c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ủ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a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CQ, T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4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ĂN BẢN QUY PHẠM PHÁP LUẬ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5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615F-37AC-414A-BAD9-73949C2130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7" name="Date Placeholder 5"/>
          <p:cNvSpPr/>
          <p:nvPr/>
        </p:nvSpPr>
        <p:spPr>
          <a:xfrm>
            <a:off x="457200" y="6245280"/>
            <a:ext cx="3048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CB80-C3B9-4FA4-B933-441126976B2E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19051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 u="sng">
                <a:solidFill>
                  <a:srgbClr val="000029"/>
                </a:solidFill>
                <a:uFillTx/>
                <a:latin typeface="Arial"/>
              </a:rPr>
              <a:t>www.fba.iuh.edu.vn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/ Bài giảng giáo viên / Nguyễn Nam Hà / Môn QTV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0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ĐỊA CHỈ TẢI BÀI GIẢNG ĐIỆN TỬ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457200" y="3962520"/>
            <a:ext cx="8229600" cy="24382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1" lang="en-US" sz="3600" spc="-1" strike="noStrike" u="sng">
                <a:solidFill>
                  <a:srgbClr val="000029"/>
                </a:solidFill>
                <a:uFillTx/>
                <a:latin typeface="Arial"/>
              </a:rPr>
              <a:t>www.gov.vn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/ Hệ thống văn bản / Thông tư / Năm ban hành / 2011 / Thông tư số 01 Bộ Nội vụ - thể thức &amp; kỹ thuật trình bày VBHC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2" name="Horizontal Scroll 8"/>
          <p:cNvSpPr/>
          <p:nvPr/>
        </p:nvSpPr>
        <p:spPr>
          <a:xfrm>
            <a:off x="304920" y="3124080"/>
            <a:ext cx="8458200" cy="9144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ĐỊA CHỈ TẢI VĂN BẢN LUẬ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3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2000"/>
                            </p:stCondLst>
                            <p:childTnLst>
                              <p:par>
                                <p:cTn id="68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3000"/>
                            </p:stCondLst>
                            <p:childTnLst>
                              <p:par>
                                <p:cTn id="69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B6F7-E907-4687-9219-8787B30339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5" name="Date Placeholder 5"/>
          <p:cNvSpPr/>
          <p:nvPr/>
        </p:nvSpPr>
        <p:spPr>
          <a:xfrm>
            <a:off x="457200" y="6245280"/>
            <a:ext cx="3048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66F8-A3DF-44B8-B89A-06EA3C954D3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http://www.na.gov.vn 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Quốc hội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http://www.gov.vn 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Chính phủ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http://www.gso.gov.vn (Tổng cục thống kê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http://www.iuh.edu.vn (ĐHCN TPHC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8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600" spc="-1" strike="noStrike">
                <a:solidFill>
                  <a:srgbClr val="ffffff"/>
                </a:solidFill>
                <a:latin typeface="Arial"/>
              </a:rPr>
              <a:t>WEBSITE THAM KH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Ả</a:t>
            </a:r>
            <a:r>
              <a:rPr b="1" lang="vi-VN" sz="3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9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0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000"/>
                            </p:stCondLst>
                            <p:childTnLst>
                              <p:par>
                                <p:cTn id="7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000"/>
                            </p:stCondLst>
                            <p:childTnLst>
                              <p:par>
                                <p:cTn id="72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000"/>
                            </p:stCondLst>
                            <p:childTnLst>
                              <p:par>
                                <p:cTn id="73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4000"/>
                            </p:stCondLst>
                            <p:childTnLst>
                              <p:par>
                                <p:cTn id="74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76E2-4CCB-4C56-96F4-FDA484D6FB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6C12-C920-4228-B06A-58DD145DC68D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5c5c99"/>
            </a:outerShdw>
          </a:effectLst>
        </p:spPr>
      </p:pic>
      <p:pic>
        <p:nvPicPr>
          <p:cNvPr id="117" name="Content Placeholder 8" descr=""/>
          <p:cNvPicPr/>
          <p:nvPr/>
        </p:nvPicPr>
        <p:blipFill>
          <a:blip r:embed="rId2"/>
          <a:stretch/>
        </p:blipFill>
        <p:spPr>
          <a:xfrm>
            <a:off x="438120" y="1200240"/>
            <a:ext cx="8309160" cy="5219640"/>
          </a:xfrm>
          <a:prstGeom prst="rect">
            <a:avLst/>
          </a:prstGeom>
          <a:ln w="0">
            <a:noFill/>
          </a:ln>
        </p:spPr>
      </p:pic>
      <p:sp>
        <p:nvSpPr>
          <p:cNvPr id="118" name="Horizontal Scroll 6"/>
          <p:cNvSpPr/>
          <p:nvPr/>
        </p:nvSpPr>
        <p:spPr>
          <a:xfrm>
            <a:off x="304920" y="185760"/>
            <a:ext cx="845820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XÁC ĐỊNH MỤC TIÊU HỌC TẬ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sp>
        <p:nvSpPr>
          <p:cNvPr id="26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2C46-F7AE-4286-B131-4D4D224BB7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3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354E-1EFC-4D9D-8F0A-8B1151B738C9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264" name="Picture 2" descr="http://mic.gov.vn/tintucsukien/tintonghop/PublishingImages/congchinhphu.jpg"/>
          <p:cNvPicPr/>
          <p:nvPr/>
        </p:nvPicPr>
        <p:blipFill>
          <a:blip r:embed="rId2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265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9CBD-C11C-4FB7-94A0-926D7CCA50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7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01E7-FC2A-474F-A382-E9AF2E56B4F9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. VP ảo: Thực trạng &amp; giải pháp phát triể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. Giao tiếp VP - tiếp khách qua điện thoại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3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Giao tiếp VP - tiếp khách trực tiếp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4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Vấn đề phong thủy trong lựa chọn vị trí đặt VP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0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ĐỀ TÀI TIỂU LUẬ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1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54BB-527C-4860-B7AA-D41886A2CA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3" name="Date Placeholder 5"/>
          <p:cNvSpPr/>
          <p:nvPr/>
        </p:nvSpPr>
        <p:spPr>
          <a:xfrm>
            <a:off x="457200" y="6245280"/>
            <a:ext cx="3048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2F95-5CE3-4C2A-A73E-DD81743172E0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5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Vấn đề phong thủy trong bài trí VP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6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Tổ chức công tác VP trong IUH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7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Sử dụng không gian VP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8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Ánh sáng trong VP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6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ĐỀ TÀI TIỂU LUẬ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7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5EE2-B9F8-4FC6-A116-2DE8E93E95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9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58FB-1199-4E7C-922C-B808A2C8A80A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9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VP “Xanh”: Thực trạng &amp; kiến ngh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10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Nội thất văn phòng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11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Văn phòng &amp; vấn đề bảo vệ môi trường: Thực trạng &amp; kiến ngh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12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VP &amp; vấn đề tiết kiệm năng lượng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13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VP mở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2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ĐỀ TÀI TIỂU LUẬ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3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14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Quản trị thông tin: Thực trạng &amp; kiến ngh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15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Quản trị thời gian: Thực trạng &amp; kiến ngh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16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. Tổ chức sự kiện trong doanh nghiệp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17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Văn phòng điện tử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2142-CCBB-461A-A0DA-6CE8D302DA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6" name="Date Placeholder 4"/>
          <p:cNvSpPr/>
          <p:nvPr/>
        </p:nvSpPr>
        <p:spPr>
          <a:xfrm>
            <a:off x="4572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B854-85B2-4578-B27C-2D3ACE2C45EA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8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ĐỀ TÀI TIỂU LUẬ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9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18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Kỹ năng làm việc theo nhó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19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Quản trị hồ sơ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20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Áp dụng 5S trong quản trị văn phò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21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Hội họp tại VN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22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Ứng dụng hệ thống quản lý chất lượng ISO trong quản trị văn phò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94F5-7554-4842-8160-FBEDA4B95D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92" name="Date Placeholder 4"/>
          <p:cNvSpPr/>
          <p:nvPr/>
        </p:nvSpPr>
        <p:spPr>
          <a:xfrm>
            <a:off x="45720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FA3B-B251-4231-B736-07C474E817F0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94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ĐỀ TÀI TIỂU LUẬ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95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38EF-EDD8-4D4F-9839-07FF9ABB473B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8386-8FAE-4808-B2B3-F14662A0A2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98" name="Bevel 4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2375"/>
            </a:avLst>
          </a:prstGeom>
          <a:solidFill>
            <a:srgbClr val="ffffff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29"/>
                </a:solidFill>
                <a:uFillTx/>
                <a:latin typeface="Arial"/>
                <a:ea typeface="Times New Roman"/>
              </a:rPr>
              <a:t>PART I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29"/>
                </a:solidFill>
                <a:latin typeface="Arial"/>
                <a:ea typeface="Times New Roman"/>
              </a:rPr>
              <a:t>OVERVIEW OF</a:t>
            </a:r>
            <a:endParaRPr b="0" lang="en-US" sz="6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29"/>
                </a:solidFill>
                <a:latin typeface="Arial"/>
                <a:ea typeface="Times New Roman"/>
              </a:rPr>
              <a:t>OFFICEMANAGEMENT</a:t>
            </a:r>
            <a:endParaRPr b="0" lang="en-US" sz="60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299" name="Picture 7" descr="https://encrypted-tbn1.gstatic.com/images?q=tbn:ANd9GcSwEocHnrCMfwce3RIGPI1Q0HsXY-22bZAU2GjqsNFI_XE9TSgZ"/>
          <p:cNvPicPr/>
          <p:nvPr/>
        </p:nvPicPr>
        <p:blipFill>
          <a:blip r:embed="rId1"/>
          <a:stretch/>
        </p:blipFill>
        <p:spPr>
          <a:xfrm>
            <a:off x="193680" y="228600"/>
            <a:ext cx="3159000" cy="2514600"/>
          </a:xfrm>
          <a:prstGeom prst="rect">
            <a:avLst/>
          </a:prstGeom>
          <a:ln w="0">
            <a:noFill/>
          </a:ln>
        </p:spPr>
      </p:pic>
      <p:sp>
        <p:nvSpPr>
          <p:cNvPr id="300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5FD1-A973-46CC-96B4-3FF57925F3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02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F7C4-06BB-4E94-A5C7-DF32ABA74B3B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04" name="Bevel 7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2375"/>
            </a:avLst>
          </a:prstGeom>
          <a:solidFill>
            <a:srgbClr val="ffffff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29"/>
                </a:solidFill>
                <a:uFillTx/>
                <a:latin typeface="Arial"/>
                <a:ea typeface="Times New Roman"/>
              </a:rPr>
              <a:t>Phần I</a:t>
            </a:r>
            <a:endParaRPr b="0" lang="en-US" sz="5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29"/>
                </a:solidFill>
                <a:latin typeface="Arial"/>
                <a:ea typeface="Times New Roman"/>
              </a:rPr>
              <a:t>TỔNG QUAN VỀ</a:t>
            </a:r>
            <a:endParaRPr b="0" lang="en-US" sz="6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29"/>
                </a:solidFill>
                <a:latin typeface="Arial"/>
                <a:ea typeface="Times New Roman"/>
              </a:rPr>
              <a:t>QUẢN TRỊ VĂN PHÒNG</a:t>
            </a:r>
            <a:endParaRPr b="0" lang="en-US" sz="60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305" name="Picture 6" descr="http://www.getentrepreneurial.com/images/Office%20Management.gif"/>
          <p:cNvPicPr/>
          <p:nvPr/>
        </p:nvPicPr>
        <p:blipFill>
          <a:blip r:embed="rId1"/>
          <a:stretch/>
        </p:blipFill>
        <p:spPr>
          <a:xfrm>
            <a:off x="193680" y="228600"/>
            <a:ext cx="3019320" cy="2362320"/>
          </a:xfrm>
          <a:prstGeom prst="rect">
            <a:avLst/>
          </a:prstGeom>
          <a:ln w="0">
            <a:noFill/>
          </a:ln>
        </p:spPr>
      </p:pic>
      <p:sp>
        <p:nvSpPr>
          <p:cNvPr id="306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0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F6A8-2D49-418B-98A5-A1CD081E48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08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B5F2-69AC-4C4D-B739-362B26783286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0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0" y="30240"/>
            <a:ext cx="9144000" cy="63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n-US" sz="6000" spc="-1" strike="noStrike">
                <a:solidFill>
                  <a:srgbClr val="000029"/>
                </a:solidFill>
                <a:latin typeface="Arial"/>
                <a:ea typeface="Times New Roman"/>
              </a:rPr>
              <a:t>OVERVIEW OF</a:t>
            </a:r>
            <a:endParaRPr b="0" lang="en-US" sz="6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29"/>
                </a:solidFill>
                <a:latin typeface="Arial"/>
                <a:ea typeface="Times New Roman"/>
              </a:rPr>
              <a:t>OFFICE MANAGEMENT</a:t>
            </a:r>
            <a:endParaRPr b="0" lang="en-US" sz="6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PERIODS FOR LECTURE: 3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(HOME STUDY: 6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11" name="Frame 5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12" name="Horizontal Scroll 6"/>
          <p:cNvSpPr/>
          <p:nvPr/>
        </p:nvSpPr>
        <p:spPr>
          <a:xfrm>
            <a:off x="2743200" y="914400"/>
            <a:ext cx="365760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4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13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DA74-1C2A-44DE-A3EA-9B9369C015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15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8394-E143-4D5E-ADB7-AA60A5430CB0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29"/>
                </a:solidFill>
                <a:latin typeface="Arial"/>
              </a:rPr>
              <a:t>KHÁI QUÁ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29"/>
                </a:solidFill>
                <a:latin typeface="Arial"/>
              </a:rPr>
              <a:t>QUẢN TRỊ VĂN PHÒ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SỐ TIẾT GIẢNG: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(TỰ HỌC: 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18" name="Frame 7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19" name="Horizontal Scroll 6"/>
          <p:cNvSpPr/>
          <p:nvPr/>
        </p:nvSpPr>
        <p:spPr>
          <a:xfrm>
            <a:off x="2895480" y="838080"/>
            <a:ext cx="335304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ương 1</a:t>
            </a:r>
            <a:endParaRPr b="0" lang="en-US" sz="40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320" name="Picture 9" descr="http://sto.com.vn/uploads/download/images/sto-logo.jpg"/>
          <p:cNvPicPr/>
          <p:nvPr/>
        </p:nvPicPr>
        <p:blipFill>
          <a:blip r:embed="rId1"/>
          <a:stretch/>
        </p:blipFill>
        <p:spPr>
          <a:xfrm>
            <a:off x="152280" y="152280"/>
            <a:ext cx="2543400" cy="2219400"/>
          </a:xfrm>
          <a:prstGeom prst="rect">
            <a:avLst/>
          </a:prstGeom>
          <a:ln w="0">
            <a:noFill/>
          </a:ln>
        </p:spPr>
      </p:pic>
      <p:sp>
        <p:nvSpPr>
          <p:cNvPr id="321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0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2000"/>
                            </p:stCondLst>
                            <p:childTnLst>
                              <p:par>
                                <p:cTn id="7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561D-3597-4AD9-95B1-6FE680C7E8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0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AC8C-A366-4E58-AB88-9332395532C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300" spc="-1" strike="noStrike">
                <a:solidFill>
                  <a:srgbClr val="000029"/>
                </a:solidFill>
                <a:latin typeface="Arial"/>
              </a:rPr>
              <a:t>VB: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 Văn bả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300" spc="-1" strike="noStrike">
                <a:solidFill>
                  <a:srgbClr val="000029"/>
                </a:solidFill>
                <a:latin typeface="Arial"/>
              </a:rPr>
              <a:t>VBHC: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 Văn bản hành chính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300" spc="-1" strike="noStrike">
                <a:solidFill>
                  <a:srgbClr val="000029"/>
                </a:solidFill>
                <a:latin typeface="Arial"/>
              </a:rPr>
              <a:t>VBTP: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 Văn bản tư pháp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300" spc="-1" strike="noStrike">
                <a:solidFill>
                  <a:srgbClr val="000029"/>
                </a:solidFill>
                <a:latin typeface="Arial"/>
              </a:rPr>
              <a:t>VBQPPL: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 Văn bản quy phạm pháp luậ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300" spc="-1" strike="noStrike">
                <a:solidFill>
                  <a:srgbClr val="000029"/>
                </a:solidFill>
                <a:latin typeface="Arial"/>
              </a:rPr>
              <a:t>DN: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 Doanh nghiệp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300" spc="-1" strike="noStrike">
                <a:solidFill>
                  <a:srgbClr val="000029"/>
                </a:solidFill>
                <a:latin typeface="Arial"/>
              </a:rPr>
              <a:t>VP: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 Văn phòng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300" spc="-1" strike="noStrike">
                <a:solidFill>
                  <a:srgbClr val="000029"/>
                </a:solidFill>
                <a:latin typeface="Arial"/>
              </a:rPr>
              <a:t>VPĐD: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 Văn phòng đại diệ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300" spc="-1" strike="noStrike">
                <a:solidFill>
                  <a:srgbClr val="000029"/>
                </a:solidFill>
                <a:latin typeface="Arial"/>
              </a:rPr>
              <a:t>QTVP: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 Quản trị văn phòng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300" spc="-1" strike="noStrike">
                <a:solidFill>
                  <a:srgbClr val="000029"/>
                </a:solidFill>
                <a:latin typeface="Arial"/>
              </a:rPr>
              <a:t>CQ TC: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 Cơ quan, tổ chức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3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ANH MỤC TỪ VIẾT TẮ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24" name="Picture 6" descr="http://vnexpress.net/Files/Subject/3b/be/07/d5/a-tb-1-nhu-cau-thue-van-pho.jpg"/>
          <p:cNvPicPr/>
          <p:nvPr/>
        </p:nvPicPr>
        <p:blipFill>
          <a:blip r:embed="rId1"/>
          <a:stretch/>
        </p:blipFill>
        <p:spPr>
          <a:xfrm>
            <a:off x="6095880" y="3467160"/>
            <a:ext cx="2590920" cy="293364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125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8000"/>
                            </p:stCondLst>
                            <p:childTnLst>
                              <p:par>
                                <p:cTn id="13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9000"/>
                            </p:stCondLst>
                            <p:childTnLst>
                              <p:par>
                                <p:cTn id="14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7200" y="1066320"/>
            <a:ext cx="8305920" cy="53341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Concepts, functions and office 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Organizational structure of the off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Principle of op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Office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Office management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Methods of office lay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The active form of off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7A90-F43A-4815-A5AA-58E439CA7B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24" name="Date Placeholder 4"/>
          <p:cNvSpPr/>
          <p:nvPr/>
        </p:nvSpPr>
        <p:spPr>
          <a:xfrm>
            <a:off x="457200" y="624528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A0E4-8F9D-429D-ACDF-2A81041AF25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26" name="Horizontal Scroll 6"/>
          <p:cNvSpPr/>
          <p:nvPr/>
        </p:nvSpPr>
        <p:spPr>
          <a:xfrm>
            <a:off x="304920" y="7632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SSON CONTEN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27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EBD9-C5AE-44F3-86E1-013679D16A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29" name="Date Placeholder 5"/>
          <p:cNvSpPr/>
          <p:nvPr/>
        </p:nvSpPr>
        <p:spPr>
          <a:xfrm>
            <a:off x="4572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AC78-3B1B-407F-BA30-ADEB5704DF4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3341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Khái niệm, chức năng, nhiệm vụ V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Cơ cấu tổ chức V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guyên tắc hoạt độ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T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ổ chức văn phò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Phương pháp quản lý V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Phương pháp bố trí V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Các hình thức hoạt động của V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32" name="Horizontal Scroll 6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ỘI DUNG BÀI GIẢ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33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0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000"/>
                            </p:stCondLst>
                            <p:childTnLst>
                              <p:par>
                                <p:cTn id="7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2000"/>
                            </p:stCondLst>
                            <p:childTnLst>
                              <p:par>
                                <p:cTn id="80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3000"/>
                            </p:stCondLst>
                            <p:childTnLst>
                              <p:par>
                                <p:cTn id="8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4000"/>
                            </p:stCondLst>
                            <p:childTnLst>
                              <p:par>
                                <p:cTn id="83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5000"/>
                            </p:stCondLst>
                            <p:childTnLst>
                              <p:par>
                                <p:cTn id="84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6000"/>
                            </p:stCondLst>
                            <p:childTnLst>
                              <p:par>
                                <p:cTn id="85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7000"/>
                            </p:stCondLst>
                            <p:childTnLst>
                              <p:par>
                                <p:cTn id="86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457200" y="1752480"/>
            <a:ext cx="8229600" cy="46483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200" spc="-1" strike="noStrike">
                <a:solidFill>
                  <a:srgbClr val="000029"/>
                </a:solidFill>
                <a:latin typeface="Arial"/>
              </a:rPr>
              <a:t>Narrow sense: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 Head office of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200" spc="-1" strike="noStrike">
                <a:solidFill>
                  <a:srgbClr val="000029"/>
                </a:solidFill>
                <a:latin typeface="Arial"/>
              </a:rPr>
              <a:t>Broad sense: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 general operating apparatus of the organization, ensuring the technical material conditions for the operation of the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200" spc="-1" strike="noStrike">
                <a:solidFill>
                  <a:srgbClr val="000029"/>
                </a:solidFill>
                <a:latin typeface="Arial"/>
              </a:rPr>
              <a:t>Management perspective: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 Where receiving and processing information for the administ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9E9C-9F93-4BC5-A766-9CDECB85C0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36" name="Date Placeholder 4"/>
          <p:cNvSpPr/>
          <p:nvPr/>
        </p:nvSpPr>
        <p:spPr>
          <a:xfrm>
            <a:off x="457200" y="6245280"/>
            <a:ext cx="2971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834F-C851-450E-8D14-C1FBFD540766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38" name="Horizontal Scroll 6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 CONCEPTS, FUNCTIONS &amp; DUTIES</a:t>
            </a:r>
            <a:endParaRPr b="0" lang="en-US" sz="3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39" name="Horizontal Scroll 7"/>
          <p:cNvSpPr/>
          <p:nvPr/>
        </p:nvSpPr>
        <p:spPr>
          <a:xfrm>
            <a:off x="380880" y="990720"/>
            <a:ext cx="838224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1. OFFICE CONCEPT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40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A191-5D89-488D-BEF9-887D24DE10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42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393B-D474-47A0-855D-EDC1C294B1C6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Nghĩa hẹp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 Trụ sở làm việc của T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Nghĩa rộng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 Bộ máy điều hành tổng hợp của CQ, TC, bảo đảm các điều kiện vật chất, kỹ thuật cho hoạt động của CQ, T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Góc độ quản trị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 Nơi tiếp nhận, xử lý thông tin phục vụ công tác điều hà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45" name="Horizontal Scroll 6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Times New Roman"/>
              </a:rPr>
              <a:t>1. KHÁI NIỆM, CHỨC NĂNG, NHIỆM VỤ</a:t>
            </a:r>
            <a:endParaRPr b="0" lang="en-US" sz="3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46" name="Horizontal Scroll 7"/>
          <p:cNvSpPr/>
          <p:nvPr/>
        </p:nvSpPr>
        <p:spPr>
          <a:xfrm>
            <a:off x="380880" y="990720"/>
            <a:ext cx="838224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1. KHÁI NIỆM VĂN PHÒNG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47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0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8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Office management is the planning, organization, coordination, standardization and control of information processing activities in the offi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9FE3-332D-4947-819C-34C8EBDA51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50" name="Date Placeholder 4"/>
          <p:cNvSpPr/>
          <p:nvPr/>
        </p:nvSpPr>
        <p:spPr>
          <a:xfrm>
            <a:off x="457200" y="6245280"/>
            <a:ext cx="3048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2665-7ACE-451A-8F04-C94CE1525C1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51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52" name="Horizontal Scroll 6"/>
          <p:cNvSpPr/>
          <p:nvPr/>
        </p:nvSpPr>
        <p:spPr>
          <a:xfrm>
            <a:off x="380880" y="76320"/>
            <a:ext cx="8382240" cy="9903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2. OFFICE MANAGEMENT CONCEPTS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353" name="Picture 8" descr="https://encrypted-tbn3.gstatic.com/images?q=tbn:ANd9GcTASSXGrYCIzCqCsb1CLTqtzaqIZ_TWDiMl5SAbdvunbleKFRu5"/>
          <p:cNvPicPr/>
          <p:nvPr/>
        </p:nvPicPr>
        <p:blipFill>
          <a:blip r:embed="rId1"/>
          <a:stretch/>
        </p:blipFill>
        <p:spPr>
          <a:xfrm>
            <a:off x="4572000" y="3429000"/>
            <a:ext cx="4067280" cy="2895480"/>
          </a:xfrm>
          <a:prstGeom prst="rect">
            <a:avLst/>
          </a:prstGeom>
          <a:ln w="0">
            <a:noFill/>
          </a:ln>
        </p:spPr>
      </p:pic>
      <p:sp>
        <p:nvSpPr>
          <p:cNvPr id="354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C2E0-39D3-47D2-83C3-647785A667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56" name="Date Placeholder 5"/>
          <p:cNvSpPr/>
          <p:nvPr/>
        </p:nvSpPr>
        <p:spPr>
          <a:xfrm>
            <a:off x="457200" y="6245280"/>
            <a:ext cx="3200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F9E0-1709-426C-988E-875CF2D01DD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3337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Quản trị hành chánh văn phòng là việc hoạch định, tổ chức, phối hợp, tiêu chuẩn hóa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&amp; 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kiểm soát các hoạt động xử lý thông tin trong văn phò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59" name="Horizontal Scroll 6"/>
          <p:cNvSpPr/>
          <p:nvPr/>
        </p:nvSpPr>
        <p:spPr>
          <a:xfrm>
            <a:off x="380880" y="33480"/>
            <a:ext cx="8382240" cy="95724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1.2. KHÁI NIỆM QTV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360" name="Picture 8" descr="http://1.bp.blogspot.com/-dd3w6dxxiNo/Tj86_KLudlI/AAAAAAAABDM/5Mk987xlfKw/s400/i_love_office_management_postcard-p239729007590858055qibm_400.jpg"/>
          <p:cNvPicPr/>
          <p:nvPr/>
        </p:nvPicPr>
        <p:blipFill>
          <a:blip r:embed="rId1"/>
          <a:stretch/>
        </p:blipFill>
        <p:spPr>
          <a:xfrm>
            <a:off x="4495680" y="3505320"/>
            <a:ext cx="4114800" cy="2743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61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0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500"/>
                            </p:stCondLst>
                            <p:childTnLst>
                              <p:par>
                                <p:cTn id="9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6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32F6-17EF-4605-9225-A01FF2E9A0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6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2B3D-A165-400E-B047-CD6FE66E2DD3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1295280" y="1219320"/>
            <a:ext cx="73915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The planning offic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67" name="Horizontal Scroll 6"/>
          <p:cNvSpPr/>
          <p:nvPr/>
        </p:nvSpPr>
        <p:spPr>
          <a:xfrm>
            <a:off x="380880" y="109440"/>
            <a:ext cx="838224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NCTIONS OF OFFICE MANAGEMENT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68" name="Rounded Rectangle 7"/>
          <p:cNvSpPr/>
          <p:nvPr/>
        </p:nvSpPr>
        <p:spPr>
          <a:xfrm>
            <a:off x="457200" y="1219320"/>
            <a:ext cx="762120" cy="609480"/>
          </a:xfrm>
          <a:prstGeom prst="roundRect">
            <a:avLst>
              <a:gd name="adj" fmla="val 16667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1295280" y="1905120"/>
            <a:ext cx="73915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Organize the office work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1295280" y="2590920"/>
            <a:ext cx="73915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Direct the work of the offic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1295280" y="3276720"/>
            <a:ext cx="73915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Check for office work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1295280" y="3962520"/>
            <a:ext cx="7391520" cy="23619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Administrative Services offic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(legal papers valid in the field of management, not for profit purposes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73" name="Rounded Rectangle 12"/>
          <p:cNvSpPr/>
          <p:nvPr/>
        </p:nvSpPr>
        <p:spPr>
          <a:xfrm>
            <a:off x="457200" y="1905120"/>
            <a:ext cx="762120" cy="609480"/>
          </a:xfrm>
          <a:prstGeom prst="roundRect">
            <a:avLst>
              <a:gd name="adj" fmla="val 16667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74" name="Rounded Rectangle 13"/>
          <p:cNvSpPr/>
          <p:nvPr/>
        </p:nvSpPr>
        <p:spPr>
          <a:xfrm>
            <a:off x="457200" y="2590920"/>
            <a:ext cx="762120" cy="609480"/>
          </a:xfrm>
          <a:prstGeom prst="roundRect">
            <a:avLst>
              <a:gd name="adj" fmla="val 16667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75" name="Rounded Rectangle 14"/>
          <p:cNvSpPr/>
          <p:nvPr/>
        </p:nvSpPr>
        <p:spPr>
          <a:xfrm>
            <a:off x="457200" y="3276720"/>
            <a:ext cx="762120" cy="609480"/>
          </a:xfrm>
          <a:prstGeom prst="roundRect">
            <a:avLst>
              <a:gd name="adj" fmla="val 16667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76" name="Rounded Rectangle 15"/>
          <p:cNvSpPr/>
          <p:nvPr/>
        </p:nvSpPr>
        <p:spPr>
          <a:xfrm>
            <a:off x="457200" y="3962520"/>
            <a:ext cx="762120" cy="2361960"/>
          </a:xfrm>
          <a:custGeom>
            <a:avLst/>
            <a:gdLst>
              <a:gd name="textAreaLeft" fmla="*/ 37080 w 762120"/>
              <a:gd name="textAreaRight" fmla="*/ 725040 w 762120"/>
              <a:gd name="textAreaTop" fmla="*/ 37080 h 2361960"/>
              <a:gd name="textAreaBottom" fmla="*/ 2324880 h 2361960"/>
            </a:gdLst>
            <a:ahLst/>
            <a:rect l="textAreaLeft" t="textAreaTop" r="textAreaRight" b="textAreaBottom"/>
            <a:pathLst>
              <a:path w="21600" h="66921">
                <a:moveTo>
                  <a:pt x="3600" y="0"/>
                </a:moveTo>
                <a:arcTo wR="3600" hR="3600" stAng="16200000" swAng="-5400000"/>
                <a:lnTo>
                  <a:pt x="0" y="63321"/>
                </a:lnTo>
                <a:arcTo wR="3600" hR="3600" stAng="10800000" swAng="-5400000"/>
                <a:lnTo>
                  <a:pt x="18000" y="669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0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500"/>
                            </p:stCondLst>
                            <p:childTnLst>
                              <p:par>
                                <p:cTn id="9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1000"/>
                            </p:stCondLst>
                            <p:childTnLst>
                              <p:par>
                                <p:cTn id="9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1500"/>
                            </p:stCondLst>
                            <p:childTnLst>
                              <p:par>
                                <p:cTn id="9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2000"/>
                            </p:stCondLst>
                            <p:childTnLst>
                              <p:par>
                                <p:cTn id="9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2500"/>
                            </p:stCondLst>
                            <p:childTnLst>
                              <p:par>
                                <p:cTn id="9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3000"/>
                            </p:stCondLst>
                            <p:childTnLst>
                              <p:par>
                                <p:cTn id="9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4000"/>
                            </p:stCondLst>
                            <p:childTnLst>
                              <p:par>
                                <p:cTn id="9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4500"/>
                            </p:stCondLst>
                            <p:childTnLst>
                              <p:par>
                                <p:cTn id="9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0"/>
                            </p:stCondLst>
                            <p:childTnLst>
                              <p:par>
                                <p:cTn id="9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70D2-6EDE-4F7A-A7AF-325E3B90C8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78" name="Date Placeholder 2"/>
          <p:cNvSpPr/>
          <p:nvPr/>
        </p:nvSpPr>
        <p:spPr>
          <a:xfrm>
            <a:off x="457200" y="6245280"/>
            <a:ext cx="2514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6B95-0FE0-44B1-9F59-56E7C089049B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1295280" y="1219320"/>
            <a:ext cx="73915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Hoạch định công tác V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81" name="Horizontal Scroll 5"/>
          <p:cNvSpPr/>
          <p:nvPr/>
        </p:nvSpPr>
        <p:spPr>
          <a:xfrm>
            <a:off x="380880" y="109440"/>
            <a:ext cx="838224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CHỨC NĂNG CỦA QTV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82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83" name="Rounded Rectangle 7"/>
          <p:cNvSpPr/>
          <p:nvPr/>
        </p:nvSpPr>
        <p:spPr>
          <a:xfrm>
            <a:off x="457200" y="1219320"/>
            <a:ext cx="762120" cy="609480"/>
          </a:xfrm>
          <a:prstGeom prst="roundRect">
            <a:avLst>
              <a:gd name="adj" fmla="val 16667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1295280" y="1905120"/>
            <a:ext cx="73915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Tổ chức thực hiện công việc V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1295280" y="2590920"/>
            <a:ext cx="73915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Lãnh đạo công tác V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1295280" y="3276720"/>
            <a:ext cx="73915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Kiểm tra công việc V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1295280" y="3962520"/>
            <a:ext cx="7391520" cy="23619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Dịch vụ hành chính V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(cấp giấy tờ có giá trị pháp lý trong lĩnh vực quản lý, không nhằm mục tiêu lợi nhuận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88" name="Rounded Rectangle 12"/>
          <p:cNvSpPr/>
          <p:nvPr/>
        </p:nvSpPr>
        <p:spPr>
          <a:xfrm>
            <a:off x="457200" y="1905120"/>
            <a:ext cx="762120" cy="609480"/>
          </a:xfrm>
          <a:prstGeom prst="roundRect">
            <a:avLst>
              <a:gd name="adj" fmla="val 16667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89" name="Rounded Rectangle 13"/>
          <p:cNvSpPr/>
          <p:nvPr/>
        </p:nvSpPr>
        <p:spPr>
          <a:xfrm>
            <a:off x="457200" y="2590920"/>
            <a:ext cx="762120" cy="609480"/>
          </a:xfrm>
          <a:prstGeom prst="roundRect">
            <a:avLst>
              <a:gd name="adj" fmla="val 16667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90" name="Rounded Rectangle 14"/>
          <p:cNvSpPr/>
          <p:nvPr/>
        </p:nvSpPr>
        <p:spPr>
          <a:xfrm>
            <a:off x="457200" y="3276720"/>
            <a:ext cx="762120" cy="609480"/>
          </a:xfrm>
          <a:prstGeom prst="roundRect">
            <a:avLst>
              <a:gd name="adj" fmla="val 16667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91" name="Rounded Rectangle 15"/>
          <p:cNvSpPr/>
          <p:nvPr/>
        </p:nvSpPr>
        <p:spPr>
          <a:xfrm>
            <a:off x="457200" y="3962520"/>
            <a:ext cx="762120" cy="2361960"/>
          </a:xfrm>
          <a:custGeom>
            <a:avLst/>
            <a:gdLst>
              <a:gd name="textAreaLeft" fmla="*/ 37080 w 762120"/>
              <a:gd name="textAreaRight" fmla="*/ 725040 w 762120"/>
              <a:gd name="textAreaTop" fmla="*/ 37080 h 2361960"/>
              <a:gd name="textAreaBottom" fmla="*/ 2324880 h 2361960"/>
            </a:gdLst>
            <a:ahLst/>
            <a:rect l="textAreaLeft" t="textAreaTop" r="textAreaRight" b="textAreaBottom"/>
            <a:pathLst>
              <a:path w="21600" h="66921">
                <a:moveTo>
                  <a:pt x="3600" y="0"/>
                </a:moveTo>
                <a:arcTo wR="3600" hR="3600" stAng="16200000" swAng="-5400000"/>
                <a:lnTo>
                  <a:pt x="0" y="63321"/>
                </a:lnTo>
                <a:arcTo wR="3600" hR="3600" stAng="10800000" swAng="-5400000"/>
                <a:lnTo>
                  <a:pt x="18000" y="669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0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500"/>
                            </p:stCondLst>
                            <p:childTnLst>
                              <p:par>
                                <p:cTn id="9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000"/>
                            </p:stCondLst>
                            <p:childTnLst>
                              <p:par>
                                <p:cTn id="9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2500"/>
                            </p:stCondLst>
                            <p:childTnLst>
                              <p:par>
                                <p:cTn id="9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4500"/>
                            </p:stCondLst>
                            <p:childTnLst>
                              <p:par>
                                <p:cTn id="10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Content Placeholder 5" descr=""/>
          <p:cNvPicPr/>
          <p:nvPr/>
        </p:nvPicPr>
        <p:blipFill>
          <a:blip r:embed="rId1"/>
          <a:stretch/>
        </p:blipFill>
        <p:spPr>
          <a:xfrm>
            <a:off x="291960" y="1500120"/>
            <a:ext cx="8560080" cy="4668840"/>
          </a:xfrm>
          <a:prstGeom prst="rect">
            <a:avLst/>
          </a:prstGeom>
          <a:ln w="0">
            <a:noFill/>
          </a:ln>
        </p:spPr>
      </p:pic>
      <p:sp>
        <p:nvSpPr>
          <p:cNvPr id="39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DDD6-2CAB-4027-B3C6-2C4926B61A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94" name="Date Placeholder 4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6BED-1584-493F-88E5-27B327511C3B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95" name="Rectangle 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96" name="Horizontal Scroll 7"/>
          <p:cNvSpPr/>
          <p:nvPr/>
        </p:nvSpPr>
        <p:spPr>
          <a:xfrm>
            <a:off x="304920" y="109440"/>
            <a:ext cx="853416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3. FUNCTIONS OF THE OFFIC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97" name="Oval 8"/>
          <p:cNvSpPr/>
          <p:nvPr/>
        </p:nvSpPr>
        <p:spPr>
          <a:xfrm>
            <a:off x="380880" y="1752480"/>
            <a:ext cx="838440" cy="838440"/>
          </a:xfrm>
          <a:prstGeom prst="ellipse">
            <a:avLst/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NI-Time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98" name="Oval 9"/>
          <p:cNvSpPr/>
          <p:nvPr/>
        </p:nvSpPr>
        <p:spPr>
          <a:xfrm>
            <a:off x="990720" y="3352680"/>
            <a:ext cx="838080" cy="838440"/>
          </a:xfrm>
          <a:prstGeom prst="ellipse">
            <a:avLst/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NI-Time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99" name="Oval 10"/>
          <p:cNvSpPr/>
          <p:nvPr/>
        </p:nvSpPr>
        <p:spPr>
          <a:xfrm>
            <a:off x="1828800" y="4952880"/>
            <a:ext cx="838080" cy="838440"/>
          </a:xfrm>
          <a:prstGeom prst="ellipse">
            <a:avLst/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NI-Time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00" name="Footer Placeholder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Content Placeholder 5" descr=""/>
          <p:cNvPicPr/>
          <p:nvPr/>
        </p:nvPicPr>
        <p:blipFill>
          <a:blip r:embed="rId1"/>
          <a:stretch/>
        </p:blipFill>
        <p:spPr>
          <a:xfrm>
            <a:off x="311040" y="1500120"/>
            <a:ext cx="8521920" cy="4741920"/>
          </a:xfrm>
          <a:prstGeom prst="rect">
            <a:avLst/>
          </a:prstGeom>
          <a:ln w="0">
            <a:noFill/>
          </a:ln>
        </p:spPr>
      </p:pic>
      <p:sp>
        <p:nvSpPr>
          <p:cNvPr id="40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D377-DD62-4DDE-A4F4-B64E8F5B5B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03" name="Date Placeholder 4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17D4-F950-42AB-9CD5-19B1F654596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05" name="Horizontal Scroll 7"/>
          <p:cNvSpPr/>
          <p:nvPr/>
        </p:nvSpPr>
        <p:spPr>
          <a:xfrm>
            <a:off x="304920" y="109440"/>
            <a:ext cx="853416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3. CHỨC NĂNG CỦA VĂN PHÒ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06" name="Oval 8"/>
          <p:cNvSpPr/>
          <p:nvPr/>
        </p:nvSpPr>
        <p:spPr>
          <a:xfrm>
            <a:off x="380880" y="1752480"/>
            <a:ext cx="838440" cy="838440"/>
          </a:xfrm>
          <a:prstGeom prst="ellipse">
            <a:avLst/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NI-Time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07" name="Oval 9"/>
          <p:cNvSpPr/>
          <p:nvPr/>
        </p:nvSpPr>
        <p:spPr>
          <a:xfrm>
            <a:off x="762120" y="3352680"/>
            <a:ext cx="838080" cy="838440"/>
          </a:xfrm>
          <a:prstGeom prst="ellipse">
            <a:avLst/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NI-Time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08" name="Oval 10"/>
          <p:cNvSpPr/>
          <p:nvPr/>
        </p:nvSpPr>
        <p:spPr>
          <a:xfrm>
            <a:off x="1676520" y="5029200"/>
            <a:ext cx="838080" cy="838080"/>
          </a:xfrm>
          <a:prstGeom prst="ellipse">
            <a:avLst/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NI-Time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09" name="Footer Placeholder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0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F70D-B67F-403F-A0CF-2838FED7E1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7" name="Date Placeholder 2"/>
          <p:cNvSpPr/>
          <p:nvPr/>
        </p:nvSpPr>
        <p:spPr>
          <a:xfrm>
            <a:off x="45720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8916-2501-4837-9C27-B4AA36DE1F76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5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400" spc="-1" strike="noStrike">
                <a:solidFill>
                  <a:srgbClr val="000029"/>
                </a:solidFill>
                <a:latin typeface="Arial"/>
              </a:rPr>
              <a:t>Total units of study: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</a:rPr>
              <a:t> 2 units of study (30 information theory + homework)</a:t>
            </a:r>
            <a:endParaRPr b="0" lang="en-US" sz="3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5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400" spc="-1" strike="noStrike">
                <a:solidFill>
                  <a:srgbClr val="000029"/>
                </a:solidFill>
                <a:latin typeface="Arial"/>
              </a:rPr>
              <a:t>Course Program: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</a:rPr>
              <a:t> 7 Chapter</a:t>
            </a:r>
            <a:endParaRPr b="0" lang="en-US" sz="3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5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400" spc="-1" strike="noStrike">
                <a:solidFill>
                  <a:srgbClr val="000029"/>
                </a:solidFill>
                <a:latin typeface="Arial"/>
              </a:rPr>
              <a:t>Essay: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</a:rPr>
              <a:t> A group of 3 to 10 students (classroom presentations)</a:t>
            </a:r>
            <a:endParaRPr b="0" lang="en-US" sz="3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400" spc="-1" strike="noStrike">
                <a:solidFill>
                  <a:srgbClr val="000029"/>
                </a:solidFill>
                <a:latin typeface="Arial"/>
              </a:rPr>
              <a:t>Exam form: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</a:rPr>
              <a:t> tests / implementation of self-review</a:t>
            </a:r>
            <a:endParaRPr b="0" lang="en-US" sz="3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5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400" spc="-1" strike="noStrike">
                <a:solidFill>
                  <a:srgbClr val="000029"/>
                </a:solidFill>
                <a:latin typeface="Arial"/>
              </a:rPr>
              <a:t>Absent from class more than six periods: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</a:rPr>
              <a:t> Ban the end of the semester</a:t>
            </a:r>
            <a:endParaRPr b="0" lang="en-US" sz="3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0" name="Horizontal Scroll 5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VERVIEW OF COURS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1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C4E5-E797-4CB7-A708-78F9A8ED4A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11" name="Date Placeholder 4"/>
          <p:cNvSpPr/>
          <p:nvPr/>
        </p:nvSpPr>
        <p:spPr>
          <a:xfrm>
            <a:off x="45720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B8F4-E04E-4868-A567-C7788FE90D7F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Advising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Proposed solutions help leaders handle the job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Synthesis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Receiving, processing, provide information for management and administration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14" name="Horizontal Scroll 7"/>
          <p:cNvSpPr/>
          <p:nvPr/>
        </p:nvSpPr>
        <p:spPr>
          <a:xfrm>
            <a:off x="304920" y="33480"/>
            <a:ext cx="8458200" cy="13381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1.3.1. THE FUNCTION OF ADVISING &amp; SYNTHESIS INFORMATION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415" name="Picture 2" descr="http://www.apave.com.vn/Modules/CMS/Upload/56/Nam_2009/Thang_8/Ngay_17/secretary_1.jpg"/>
          <p:cNvPicPr/>
          <p:nvPr/>
        </p:nvPicPr>
        <p:blipFill>
          <a:blip r:embed="rId1"/>
          <a:stretch/>
        </p:blipFill>
        <p:spPr>
          <a:xfrm>
            <a:off x="4952880" y="3962520"/>
            <a:ext cx="3733920" cy="239076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416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21C0-977F-4200-A28B-BFEEE65048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18" name="Date Placeholder 5"/>
          <p:cNvSpPr/>
          <p:nvPr/>
        </p:nvSpPr>
        <p:spPr>
          <a:xfrm>
            <a:off x="457200" y="6245280"/>
            <a:ext cx="2514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1A4C0-B36C-4544-9FA8-689275639875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5105520" cy="53337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Tham mưu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Đề xuất giải pháp giúp lãnh đạo xử lý công việ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Tổng hợp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Tiếp nhận, xử lý, cung cấp thông tin phục vụ quản l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21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1.3.1. CHỨC NĂNG THAM MƯU, TỔNG HỢP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422" name="Picture 6" descr="http://www.misa.com.vn/Portals/0/Upload2012/yahoocomvn/Images/10/nghe_tro_ly_bao_chi.jpg"/>
          <p:cNvPicPr/>
          <p:nvPr/>
        </p:nvPicPr>
        <p:blipFill>
          <a:blip r:embed="rId1"/>
          <a:stretch/>
        </p:blipFill>
        <p:spPr>
          <a:xfrm>
            <a:off x="5638680" y="1009800"/>
            <a:ext cx="3095640" cy="531468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423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0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A299E-FE5D-4A9E-9142-86B4FE461B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25" name="Date Placeholder 4"/>
          <p:cNvSpPr/>
          <p:nvPr/>
        </p:nvSpPr>
        <p:spPr>
          <a:xfrm>
            <a:off x="457200" y="624528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0F6F-390E-4611-8D7C-5703AD72CEBB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26" name="Rectangle 3"/>
          <p:cNvSpPr/>
          <p:nvPr/>
        </p:nvSpPr>
        <p:spPr>
          <a:xfrm>
            <a:off x="457200" y="990720"/>
            <a:ext cx="8229600" cy="26668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Financial management (revenue &amp; expenditure)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Asset Management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Ensuring infrastructure, facilities &amp; working conditions of the organization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28" name="Horizontal Scroll 7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3.2. LOGISTICS FUNCTIONS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29" name="Rectangle 3"/>
          <p:cNvSpPr/>
          <p:nvPr/>
        </p:nvSpPr>
        <p:spPr>
          <a:xfrm>
            <a:off x="457200" y="4800600"/>
            <a:ext cx="8229600" cy="15238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Focal organization's communication</a:t>
            </a:r>
            <a:br>
              <a:rPr sz="3200"/>
            </a:b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portal of the organization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30" name="Horizontal Scroll 9"/>
          <p:cNvSpPr/>
          <p:nvPr/>
        </p:nvSpPr>
        <p:spPr>
          <a:xfrm>
            <a:off x="304920" y="3809880"/>
            <a:ext cx="845820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3.3. REPRESENTATIVE FUNCTION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31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695B-D5AA-42BD-9B11-F64A1F03D3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33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BA28-DE85-468F-80DF-9AB71AE64F8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25909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Quản lý tài chính (thu ch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Quản lý tài sả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Bảo đảm cơ sở vật chất, phương tiện &amp; điều kiện làm việc của CQ, T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36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3.2. CHỨC NĂNG HẬU CẦN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37" name="Rectangle 3"/>
          <p:cNvSpPr/>
          <p:nvPr/>
        </p:nvSpPr>
        <p:spPr>
          <a:xfrm>
            <a:off x="457200" y="4800600"/>
            <a:ext cx="8229600" cy="15238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Đầu mối giao tiếp của CQ, TC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Cổng thông tin của CQ, TC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38" name="Horizontal Scroll 8"/>
          <p:cNvSpPr/>
          <p:nvPr/>
        </p:nvSpPr>
        <p:spPr>
          <a:xfrm>
            <a:off x="304920" y="3809880"/>
            <a:ext cx="845820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3.3. CHỨC NĂNG ĐẠI DIỆN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39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fill="hold">
                      <p:stCondLst>
                        <p:cond delay="0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lide Number Placeholder 3"/>
          <p:cNvSpPr/>
          <p:nvPr/>
        </p:nvSpPr>
        <p:spPr>
          <a:xfrm>
            <a:off x="655308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680D-ADA9-4530-929A-F63CB7A92D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41" name="Date Placeholder 4"/>
          <p:cNvSpPr/>
          <p:nvPr/>
        </p:nvSpPr>
        <p:spPr>
          <a:xfrm>
            <a:off x="457200" y="630540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3943B-FEB9-4D5F-84EE-DF9C26043176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457200" y="762120"/>
            <a:ext cx="8305920" cy="57150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Collect, process, and transfer information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Develop programs &amp; plans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Preparing documents for handling affairs leaders, meetings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Drafting and issuing documents, supervise the implementation of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Organization of meetings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Organizational communication for internal &amp; external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Management &amp; storage of documents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Human resource management, labor, wages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Asset management.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44" name="Horizontal Scroll 7"/>
          <p:cNvSpPr/>
          <p:nvPr/>
        </p:nvSpPr>
        <p:spPr>
          <a:xfrm>
            <a:off x="304920" y="33480"/>
            <a:ext cx="8534160" cy="8046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4. DUTIES OF THE OFFIC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45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84EE-DF30-4E50-AF35-FAE099849D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47" name="Date Placeholder 5"/>
          <p:cNvSpPr/>
          <p:nvPr/>
        </p:nvSpPr>
        <p:spPr>
          <a:xfrm>
            <a:off x="45720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BB3A-BD1B-4891-A41A-973014894CF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1752480" y="761760"/>
            <a:ext cx="7010640" cy="1981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Thu thập, xử lý, truyền đạt thông 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Xây dựng chương trình, kế hoạ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Chuẩn bị tài liệu cho lãnh đạo giải quyết công việc, hội họ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50" name="Horizontal Scroll 6"/>
          <p:cNvSpPr/>
          <p:nvPr/>
        </p:nvSpPr>
        <p:spPr>
          <a:xfrm>
            <a:off x="1600200" y="0"/>
            <a:ext cx="7238880" cy="8049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4. NHIỆM VỤ VĂN PHÒ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51" name="Right Arrow Callout 7"/>
          <p:cNvSpPr/>
          <p:nvPr/>
        </p:nvSpPr>
        <p:spPr>
          <a:xfrm>
            <a:off x="152280" y="762120"/>
            <a:ext cx="1524240" cy="1981080"/>
          </a:xfrm>
          <a:prstGeom prst="rightArrowCallout">
            <a:avLst>
              <a:gd name="adj1" fmla="val 48804"/>
              <a:gd name="adj2" fmla="val 49990"/>
              <a:gd name="adj3" fmla="val 5356"/>
              <a:gd name="adj4" fmla="val 88069"/>
            </a:avLst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ÔNG TIN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52" name="Right Arrow Callout 8"/>
          <p:cNvSpPr/>
          <p:nvPr/>
        </p:nvSpPr>
        <p:spPr>
          <a:xfrm>
            <a:off x="152280" y="2819520"/>
            <a:ext cx="1524240" cy="1904760"/>
          </a:xfrm>
          <a:prstGeom prst="rightArrowCallout">
            <a:avLst>
              <a:gd name="adj1" fmla="val 48798"/>
              <a:gd name="adj2" fmla="val 49986"/>
              <a:gd name="adj3" fmla="val 5356"/>
              <a:gd name="adj4" fmla="val 88069"/>
            </a:avLst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Ổ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ỨC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53" name="Right Arrow Callout 9"/>
          <p:cNvSpPr/>
          <p:nvPr/>
        </p:nvSpPr>
        <p:spPr>
          <a:xfrm>
            <a:off x="152280" y="4800600"/>
            <a:ext cx="1524240" cy="762120"/>
          </a:xfrm>
          <a:prstGeom prst="rightArrowCallout">
            <a:avLst>
              <a:gd name="adj1" fmla="val 48810"/>
              <a:gd name="adj2" fmla="val 50000"/>
              <a:gd name="adj3" fmla="val 5361"/>
              <a:gd name="adj4" fmla="val 88069"/>
            </a:avLst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HI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HỚ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54" name="Right Arrow Callout 10"/>
          <p:cNvSpPr/>
          <p:nvPr/>
        </p:nvSpPr>
        <p:spPr>
          <a:xfrm>
            <a:off x="152280" y="5638680"/>
            <a:ext cx="1524240" cy="762120"/>
          </a:xfrm>
          <a:prstGeom prst="rightArrowCallout">
            <a:avLst>
              <a:gd name="adj1" fmla="val 48810"/>
              <a:gd name="adj2" fmla="val 50000"/>
              <a:gd name="adj3" fmla="val 5361"/>
              <a:gd name="adj4" fmla="val 88069"/>
            </a:avLst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ÍNH TOÁN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1752480" y="2819520"/>
            <a:ext cx="7010640" cy="1981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Soạn thảo, ban hành VB, theo dõi đôn đốc việc thực hiện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Tổ chức hội họp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Tổ chức giao tiếp đối nội, đối ngoại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1752480" y="4876920"/>
            <a:ext cx="7010640" cy="4572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Quản lý, lưu trữ VB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1752480" y="5410080"/>
            <a:ext cx="7010640" cy="9907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Quản lý nhân sự, tiền lương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Quản lý tài sản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58" name="Footer Placeholder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4C30-6D98-4881-BDAB-013E47DF46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60" name="Date Placeholder 4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FF63-8C5D-44B6-B541-7E8DCF64B33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61" name="Rectangle 3"/>
          <p:cNvSpPr/>
          <p:nvPr/>
        </p:nvSpPr>
        <p:spPr>
          <a:xfrm>
            <a:off x="457200" y="2438280"/>
            <a:ext cx="8229600" cy="38862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Administrative principles (a head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Office issuing the guidance, professional inspection to office subordinate organizations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62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63" name="Horizontal Scroll 7"/>
          <p:cNvSpPr/>
          <p:nvPr/>
        </p:nvSpPr>
        <p:spPr>
          <a:xfrm>
            <a:off x="304920" y="33480"/>
            <a:ext cx="8534160" cy="15667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STRUCTURE &amp; ORGANIZATION OF THE OFFIC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64" name="Horizontal Scroll 8"/>
          <p:cNvSpPr/>
          <p:nvPr/>
        </p:nvSpPr>
        <p:spPr>
          <a:xfrm>
            <a:off x="380880" y="1676520"/>
            <a:ext cx="838224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1. PRINCIPLE OF OPERATION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65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4743-E40C-40AA-8500-0780E25A2E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67" name="Date Placeholder 5"/>
          <p:cNvSpPr/>
          <p:nvPr/>
        </p:nvSpPr>
        <p:spPr>
          <a:xfrm>
            <a:off x="45720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DCE1-4F55-4E95-8ECC-CA3F3A3F1980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guyên tắc hành chính (thủ trưởng lãnh đạ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Văn phòng tổ chức cấp trên hướng dẫn, kiểm tra chuyên môn văn phòng tổ chức cấp dướ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70" name="Horizontal Scroll 6"/>
          <p:cNvSpPr/>
          <p:nvPr/>
        </p:nvSpPr>
        <p:spPr>
          <a:xfrm>
            <a:off x="304920" y="109440"/>
            <a:ext cx="853416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CƠ CẤU, TỔ CHỨC VĂN PHÒ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71" name="Horizontal Scroll 7"/>
          <p:cNvSpPr/>
          <p:nvPr/>
        </p:nvSpPr>
        <p:spPr>
          <a:xfrm>
            <a:off x="380880" y="1143000"/>
            <a:ext cx="838224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1. NGUYÊN TẮC HOẠT ĐỘNG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72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1194" dur="indefinite" restart="never" nodeType="tmRoot">
          <p:childTnLst>
            <p:seq>
              <p:cTn id="1195" dur="indefinite" nodeType="mainSeq">
                <p:childTnLst>
                  <p:par>
                    <p:cTn id="1196" fill="hold">
                      <p:stCondLst>
                        <p:cond delay="0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3DA3-4879-46D9-BBAB-C7CC51C6D9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74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0FD3-C606-4FC7-95F9-943D87338CF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76" name="Horizontal Scroll 4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2. OFFICE ORGANIZATIO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77" name="Horizontal Scroll 5"/>
          <p:cNvSpPr/>
          <p:nvPr/>
        </p:nvSpPr>
        <p:spPr>
          <a:xfrm>
            <a:off x="380880" y="1143000"/>
            <a:ext cx="838224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2.1. FORMS OF ORGANIZATION OFFICE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457200" y="1981080"/>
            <a:ext cx="41148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Focus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a clu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79" name="Rectangle 3"/>
          <p:cNvSpPr/>
          <p:nvPr/>
        </p:nvSpPr>
        <p:spPr>
          <a:xfrm>
            <a:off x="4648320" y="1981080"/>
            <a:ext cx="4038480" cy="426744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Focus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on functio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80" name="Oval 8"/>
          <p:cNvSpPr/>
          <p:nvPr/>
        </p:nvSpPr>
        <p:spPr>
          <a:xfrm>
            <a:off x="2057400" y="198108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81" name="Oval 9"/>
          <p:cNvSpPr/>
          <p:nvPr/>
        </p:nvSpPr>
        <p:spPr>
          <a:xfrm>
            <a:off x="6248520" y="198108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82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1D53-B46F-44E0-9345-29567E3610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84" name="Date Placeholder 5"/>
          <p:cNvSpPr/>
          <p:nvPr/>
        </p:nvSpPr>
        <p:spPr>
          <a:xfrm>
            <a:off x="457200" y="6245280"/>
            <a:ext cx="2514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4200-EA16-4435-B746-91129D707E6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85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86" name="Horizontal Scroll 6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2. TỔ CHỨC VĂN PHÒ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87" name="Horizontal Scroll 7"/>
          <p:cNvSpPr/>
          <p:nvPr/>
        </p:nvSpPr>
        <p:spPr>
          <a:xfrm>
            <a:off x="380880" y="1143000"/>
            <a:ext cx="838224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2.1. HÌNH THỨC TỔ CHỨC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grpSp>
        <p:nvGrpSpPr>
          <p:cNvPr id="488" name="Group 13"/>
          <p:cNvGrpSpPr/>
          <p:nvPr/>
        </p:nvGrpSpPr>
        <p:grpSpPr>
          <a:xfrm>
            <a:off x="457200" y="1981080"/>
            <a:ext cx="4114800" cy="4267440"/>
            <a:chOff x="457200" y="1981080"/>
            <a:chExt cx="4114800" cy="4267440"/>
          </a:xfrm>
        </p:grpSpPr>
        <p:sp>
          <p:nvSpPr>
            <p:cNvPr id="489" name="Rectangle 3"/>
            <p:cNvSpPr/>
            <p:nvPr/>
          </p:nvSpPr>
          <p:spPr>
            <a:xfrm>
              <a:off x="457200" y="1981080"/>
              <a:ext cx="4114800" cy="426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NI-Times"/>
              </a:endParaRPr>
            </a:p>
            <a:p>
              <a:pPr marL="343080" indent="-343080" algn="ctr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NI-Times"/>
              </a:endParaRPr>
            </a:p>
            <a:p>
              <a:pPr marL="343080" indent="-343080" algn="ctr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29"/>
                  </a:solidFill>
                  <a:latin typeface="Arial"/>
                </a:rPr>
                <a:t>Tập trung</a:t>
              </a:r>
              <a:endParaRPr b="0" lang="en-US" sz="3600" spc="-1" strike="noStrike">
                <a:solidFill>
                  <a:srgbClr val="000000"/>
                </a:solidFill>
                <a:latin typeface="VNI-Times"/>
              </a:endParaRPr>
            </a:p>
            <a:p>
              <a:pPr marL="343080" indent="-343080" algn="ctr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29"/>
                  </a:solidFill>
                  <a:latin typeface="Arial"/>
                </a:rPr>
                <a:t>một đầu mối</a:t>
              </a:r>
              <a:endParaRPr b="0" lang="en-US" sz="3600" spc="-1" strike="noStrike">
                <a:solidFill>
                  <a:srgbClr val="000000"/>
                </a:solidFill>
                <a:latin typeface="VNI-Times"/>
              </a:endParaRPr>
            </a:p>
            <a:p>
              <a:pPr marL="343080" indent="-343080" algn="ctr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29"/>
                  </a:solidFill>
                  <a:latin typeface="Arial"/>
                </a:rPr>
                <a:t>(Tập trung)</a:t>
              </a:r>
              <a:endParaRPr b="0" lang="en-US" sz="36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490" name="Oval 11"/>
            <p:cNvSpPr/>
            <p:nvPr/>
          </p:nvSpPr>
          <p:spPr>
            <a:xfrm>
              <a:off x="2057400" y="1981080"/>
              <a:ext cx="914400" cy="914400"/>
            </a:xfrm>
            <a:prstGeom prst="ellipse">
              <a:avLst/>
            </a:prstGeom>
            <a:solidFill>
              <a:srgbClr val="000029"/>
            </a:solidFill>
            <a:ln w="9360">
              <a:solidFill>
                <a:srgbClr val="000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</p:grpSp>
      <p:grpSp>
        <p:nvGrpSpPr>
          <p:cNvPr id="491" name="Group 14"/>
          <p:cNvGrpSpPr/>
          <p:nvPr/>
        </p:nvGrpSpPr>
        <p:grpSpPr>
          <a:xfrm>
            <a:off x="4648320" y="1981080"/>
            <a:ext cx="4038480" cy="4267440"/>
            <a:chOff x="4648320" y="1981080"/>
            <a:chExt cx="4038480" cy="4267440"/>
          </a:xfrm>
        </p:grpSpPr>
        <p:sp>
          <p:nvSpPr>
            <p:cNvPr id="492" name="Rectangle 3"/>
            <p:cNvSpPr/>
            <p:nvPr/>
          </p:nvSpPr>
          <p:spPr>
            <a:xfrm>
              <a:off x="4648320" y="1981080"/>
              <a:ext cx="4038480" cy="4267440"/>
            </a:xfrm>
            <a:prstGeom prst="rect">
              <a:avLst/>
            </a:prstGeom>
            <a:noFill/>
            <a:ln w="9360">
              <a:solidFill>
                <a:srgbClr val="000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NI-Times"/>
              </a:endParaRPr>
            </a:p>
            <a:p>
              <a:pPr marL="343080" indent="-343080" algn="ctr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NI-Times"/>
              </a:endParaRPr>
            </a:p>
            <a:p>
              <a:pPr marL="343080" indent="-343080" algn="ctr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29"/>
                  </a:solidFill>
                  <a:latin typeface="Arial"/>
                </a:rPr>
                <a:t>Tập trung</a:t>
              </a:r>
              <a:endParaRPr b="0" lang="en-US" sz="3600" spc="-1" strike="noStrike">
                <a:solidFill>
                  <a:srgbClr val="000000"/>
                </a:solidFill>
                <a:latin typeface="VNI-Times"/>
              </a:endParaRPr>
            </a:p>
            <a:p>
              <a:pPr marL="343080" indent="-343080" algn="ctr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29"/>
                  </a:solidFill>
                  <a:latin typeface="Arial"/>
                </a:rPr>
                <a:t>theo chức năng</a:t>
              </a:r>
              <a:endParaRPr b="0" lang="en-US" sz="3600" spc="-1" strike="noStrike">
                <a:solidFill>
                  <a:srgbClr val="000000"/>
                </a:solidFill>
                <a:latin typeface="VNI-Times"/>
              </a:endParaRPr>
            </a:p>
            <a:p>
              <a:pPr marL="343080" indent="-343080" algn="ctr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29"/>
                  </a:solidFill>
                  <a:latin typeface="Arial"/>
                </a:rPr>
                <a:t>(Phân tán)</a:t>
              </a:r>
              <a:endParaRPr b="0" lang="en-US" sz="36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493" name="Oval 12"/>
            <p:cNvSpPr/>
            <p:nvPr/>
          </p:nvSpPr>
          <p:spPr>
            <a:xfrm>
              <a:off x="6248520" y="1981080"/>
              <a:ext cx="914400" cy="914400"/>
            </a:xfrm>
            <a:prstGeom prst="ellipse">
              <a:avLst/>
            </a:prstGeom>
            <a:solidFill>
              <a:srgbClr val="000029"/>
            </a:solidFill>
            <a:ln w="9360">
              <a:solidFill>
                <a:srgbClr val="000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</p:grpSp>
      <p:sp>
        <p:nvSpPr>
          <p:cNvPr id="494" name="Footer Placeholder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1252" dur="indefinite" restart="never" nodeType="tmRoot">
          <p:childTnLst>
            <p:seq>
              <p:cTn id="1253" dur="indefinite" nodeType="mainSeq">
                <p:childTnLst>
                  <p:par>
                    <p:cTn id="1254" fill="hold">
                      <p:stCondLst>
                        <p:cond delay="0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1350"/>
                            </p:stCondLst>
                            <p:childTnLst>
                              <p:par>
                                <p:cTn id="126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6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2350"/>
                            </p:stCondLst>
                            <p:childTnLst>
                              <p:par>
                                <p:cTn id="12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0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3350"/>
                            </p:stCondLst>
                            <p:childTnLst>
                              <p:par>
                                <p:cTn id="12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4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BF19-CE4A-4D78-BBE9-694D68233D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3" name="Date Placeholder 5"/>
          <p:cNvSpPr/>
          <p:nvPr/>
        </p:nvSpPr>
        <p:spPr>
          <a:xfrm>
            <a:off x="4572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849F-7489-40AC-903C-0FD26E7BAE0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Số tín chỉ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 2 (30 tiết lý thuyế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Chương trình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 2 Phần 9 Chươ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Tiểu luận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 Nhóm 3 - 5 SV (nộp TL và thuyết trình trên lớ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Hình thức thi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 Trắc nghiệ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Giữa kỳ: Trắc nghiệm (50 câu/60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Cuối kỳ: Trắc nghiệm (50 câu/60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Nghỉ học ≥ 6 tiết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 Cấm thi cuối k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6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TỔNG QUÁT VỀ MÔN HỌC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7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0"/>
                            </p:stCondLst>
                            <p:childTnLst>
                              <p:par>
                                <p:cTn id="23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7000"/>
                            </p:stCondLst>
                            <p:childTnLst>
                              <p:par>
                                <p:cTn id="26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8000"/>
                            </p:stCondLst>
                            <p:childTnLst>
                              <p:par>
                                <p:cTn id="27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FB5B-AFA9-44DD-BAED-57D0C0380D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96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2B07-4D61-45D9-A12B-AFF8CAC694A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All activities </a:t>
            </a:r>
            <a:r>
              <a:rPr b="1" i="1" lang="en-US" sz="3600" spc="-1" strike="noStrike">
                <a:solidFill>
                  <a:srgbClr val="000029"/>
                </a:solidFill>
                <a:latin typeface="Arial"/>
              </a:rPr>
              <a:t>operating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under the office of the administrator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Advantages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easy operating, inspection, personnel, allocation means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Downside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hard specialization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98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99" name="Horizontal Scroll 5"/>
          <p:cNvSpPr/>
          <p:nvPr/>
        </p:nvSpPr>
        <p:spPr>
          <a:xfrm>
            <a:off x="304920" y="109440"/>
            <a:ext cx="845820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CUS A CLUE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00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fill="hold">
                      <p:stCondLst>
                        <p:cond delay="0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5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fill="hold">
                            <p:stCondLst>
                              <p:cond delay="1900"/>
                            </p:stCondLst>
                            <p:childTnLst>
                              <p:par>
                                <p:cTn id="128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89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93D5-6923-4BEF-AA0F-ECFA381B3A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02" name="Date Placeholder 4"/>
          <p:cNvSpPr/>
          <p:nvPr/>
        </p:nvSpPr>
        <p:spPr>
          <a:xfrm>
            <a:off x="457200" y="6245280"/>
            <a:ext cx="2514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470F-71BE-4B7A-B993-1045ECF04E4A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457200" y="1066680"/>
            <a:ext cx="8229600" cy="5257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Không chia nhỏ thành phòng ba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Mọi hoạt động của VP đặt dưới sự </a:t>
            </a:r>
            <a:r>
              <a:rPr b="1" i="1" lang="en-US" sz="3600" spc="-1" strike="noStrike">
                <a:solidFill>
                  <a:srgbClr val="000029"/>
                </a:solidFill>
                <a:latin typeface="Arial"/>
              </a:rPr>
              <a:t>điều hành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của nhà quản trị hành chín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Ưu điểm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Dễ điều hành, kiểm tra, điều động nhân sự, phân bổ phương tiệ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Nhược điểm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Khó chuyên môn hóa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04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05" name="Horizontal Scroll 7"/>
          <p:cNvSpPr/>
          <p:nvPr/>
        </p:nvSpPr>
        <p:spPr>
          <a:xfrm>
            <a:off x="304920" y="109440"/>
            <a:ext cx="845820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ẬP TRUNG MỘT ĐẦU MỐI (TẬP TRUNG)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06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fill="hold">
                      <p:stCondLst>
                        <p:cond delay="0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0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3600"/>
                            </p:stCondLst>
                            <p:childTnLst>
                              <p:par>
                                <p:cTn id="130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04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2362-7475-4148-8CBC-1AD3235D40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08" name="Date Placeholder 2"/>
          <p:cNvSpPr/>
          <p:nvPr/>
        </p:nvSpPr>
        <p:spPr>
          <a:xfrm>
            <a:off x="4572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B211-A2D0-42C6-B092-359FC81353C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457200" y="990720"/>
            <a:ext cx="8229600" cy="53337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49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The office is divided into several functional expertis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ts val="49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All office activities </a:t>
            </a:r>
            <a:r>
              <a:rPr b="1" i="1" lang="en-US" sz="3600" spc="-1" strike="noStrike">
                <a:solidFill>
                  <a:srgbClr val="000029"/>
                </a:solidFill>
                <a:latin typeface="Arial"/>
              </a:rPr>
              <a:t>under the supervision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of the administrator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ts val="49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Advantages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Work specializatio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ts val="49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Disadvantages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Easy violation boss regime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11" name="Horizontal Scroll 5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CUS ON FUNCTION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12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CAAC-3AF8-4CB1-9E37-1206FD726E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14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29F7-81A9-4C77-A8BE-BCAFB3DBE21D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VP được chia ra thành nhiều phòng chức năng theo chuyên mô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Toàn bộ hoạt động VP đặt dưới sự </a:t>
            </a:r>
            <a:r>
              <a:rPr b="1" i="1" lang="en-US" sz="3600" spc="-1" strike="noStrike">
                <a:solidFill>
                  <a:srgbClr val="000029"/>
                </a:solidFill>
                <a:latin typeface="Arial"/>
              </a:rPr>
              <a:t>giám sát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của nhà quản trị hành chí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17" name="Horizontal Scroll 6"/>
          <p:cNvSpPr/>
          <p:nvPr/>
        </p:nvSpPr>
        <p:spPr>
          <a:xfrm>
            <a:off x="304920" y="33480"/>
            <a:ext cx="8458200" cy="15667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ẬP TRUNG THEO CHỨC NĂNG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PHÂN TÁN)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18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457200" y="1752480"/>
            <a:ext cx="8229600" cy="45720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Em hãy phân tích những ưu điểm và nhược điểm của hình thức tổ chức văn phòng tập trung theo chức năng (phân tán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2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8CD4-99D5-4F2E-B2C9-8CDABFEE94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22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A139-B475-490C-8AA0-56B679149030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23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24" name="Horizontal Scroll 7"/>
          <p:cNvSpPr/>
          <p:nvPr/>
        </p:nvSpPr>
        <p:spPr>
          <a:xfrm>
            <a:off x="304920" y="33480"/>
            <a:ext cx="8458200" cy="15667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ÂU HỎI KIỂM TRA 10 PHÚ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2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62E9-CFBA-44EA-8D2F-FA04B19936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2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3D42-409F-4A68-A8D5-B30B3F273C9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457200" y="1600200"/>
            <a:ext cx="8229600" cy="47242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Ưu điểm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Chuyên môn hóa công việc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Nhược điểm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Dễ vi phạm chế độ một thủ trưởng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29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30" name="Horizontal Scroll 6"/>
          <p:cNvSpPr/>
          <p:nvPr/>
        </p:nvSpPr>
        <p:spPr>
          <a:xfrm>
            <a:off x="304920" y="33480"/>
            <a:ext cx="8458200" cy="15667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ƯU, NHƯỢC ĐIỂM VĂN PHÒNG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ẬP TRUNG THEO CHỨC NĂNG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6FF3-30C9-4A1D-AD00-9768213C61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3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D33E-2F9D-49D4-BD21-39FEA602FECC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533" name="Picture 2" descr="http://www.cicb.vn/images/stories/cocau_viet.jpg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534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535" name="Picture 6" descr="http://cicb.vn/templates/cic-trilm/images_trilm/header-vietnamese.png"/>
          <p:cNvPicPr/>
          <p:nvPr/>
        </p:nvPicPr>
        <p:blipFill>
          <a:blip r:embed="rId2"/>
          <a:stretch/>
        </p:blipFill>
        <p:spPr>
          <a:xfrm>
            <a:off x="193680" y="-1522440"/>
            <a:ext cx="9439200" cy="64764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5c5c99"/>
            </a:outerShdw>
          </a:effectLst>
        </p:spPr>
      </p:pic>
      <p:sp>
        <p:nvSpPr>
          <p:cNvPr id="537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885B-27FF-458C-ADB9-901CCCD783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3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382E-98C7-4920-8E20-496C27729D1E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457200" y="838080"/>
            <a:ext cx="8229600" cy="55627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Leadership Office:</a:t>
            </a:r>
            <a:br>
              <a:rPr sz="3600"/>
            </a:b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Chief Office</a:t>
            </a:r>
            <a:br>
              <a:rPr sz="3600"/>
            </a:b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Deputy Chief of staff</a:t>
            </a:r>
            <a:br>
              <a:rPr sz="3600"/>
            </a:b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Functions:</a:t>
            </a:r>
            <a:br>
              <a:rPr sz="3600"/>
            </a:b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Clerical</a:t>
            </a:r>
            <a:br>
              <a:rPr sz="3600"/>
            </a:b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Synthesis</a:t>
            </a:r>
            <a:br>
              <a:rPr sz="3600"/>
            </a:b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Human Resource Management</a:t>
            </a:r>
            <a:br>
              <a:rPr sz="3600"/>
            </a:b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Accounting and Cashier</a:t>
            </a:r>
            <a:br>
              <a:rPr sz="3600"/>
            </a:b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Material facilities management</a:t>
            </a:r>
            <a:br>
              <a:rPr sz="3600"/>
            </a:b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Protection, receptionist, odd job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42" name="Horizontal Scroll 6"/>
          <p:cNvSpPr/>
          <p:nvPr/>
        </p:nvSpPr>
        <p:spPr>
          <a:xfrm>
            <a:off x="304920" y="33480"/>
            <a:ext cx="8458200" cy="8809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2.2. ORGANIZATIONAL STRUCTURE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43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5EC0-6DA8-48B6-8CE7-AAF397B30E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45" name="Date Placeholder 5"/>
          <p:cNvSpPr/>
          <p:nvPr/>
        </p:nvSpPr>
        <p:spPr>
          <a:xfrm>
            <a:off x="45720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BF96-8879-49E8-9715-0FDE7EF1EEC3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000" spc="-1" strike="noStrike">
                <a:solidFill>
                  <a:srgbClr val="000029"/>
                </a:solidFill>
                <a:latin typeface="Arial"/>
              </a:rPr>
              <a:t>Lãnh đạo Văn phò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Chánh Văn phò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Phó Chánh Văn phò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000" spc="-1" strike="noStrike">
                <a:solidFill>
                  <a:srgbClr val="000029"/>
                </a:solidFill>
                <a:latin typeface="Arial"/>
              </a:rPr>
              <a:t>Bộ phận chức nă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Văn th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Tổng hợ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Quản lý nhân s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Kế toán – thủ qu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Quản lý cơ sở vật chất (Quản trị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Bảo vệ, lễ tân, tạp v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48" name="Horizontal Scroll 6"/>
          <p:cNvSpPr/>
          <p:nvPr/>
        </p:nvSpPr>
        <p:spPr>
          <a:xfrm>
            <a:off x="304920" y="33480"/>
            <a:ext cx="8458200" cy="8809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2.2. CƠ CẤU TỔ CHỨC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49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0E81-FE6D-42EB-8AB9-E56EA94448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51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F209-7081-4701-A30B-DFE3E5C401D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552" name="Picture 2" descr="http://dbnd.danang.gov.vn/Portals/0/TOCHUC.png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553" name="Rectangle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600" spc="-1" strike="noStrike">
                <a:solidFill>
                  <a:srgbClr val="ffffff"/>
                </a:solidFill>
                <a:latin typeface="Arial"/>
              </a:rPr>
              <a:t>Văn phòng Đoàn đại biểu Quốc hội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&amp;</a:t>
            </a:r>
            <a:r>
              <a:rPr b="1" lang="vi-VN" sz="3600" spc="-1" strike="noStrike">
                <a:solidFill>
                  <a:srgbClr val="ffffff"/>
                </a:solidFill>
                <a:latin typeface="Arial"/>
              </a:rPr>
              <a:t> Hội đồng nhân dâ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 TP</a:t>
            </a:r>
            <a:r>
              <a:rPr b="1" lang="vi-VN" sz="3600" spc="-1" strike="noStrike">
                <a:solidFill>
                  <a:srgbClr val="ffffff"/>
                </a:solidFill>
                <a:latin typeface="Arial"/>
              </a:rPr>
              <a:t> Đà Nẵ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54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2133360"/>
            <a:ext cx="8229600" cy="4267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Chapter 1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Overview of the Office Adminis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Chapter 2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Information Management &amp; Prof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Chapter 3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Organizing the rece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Chapter 4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Meeting &amp; Management program development pla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FFAA-5B2C-489A-B0EA-FB9E48774D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0" name="Date Placeholder 4"/>
          <p:cNvSpPr/>
          <p:nvPr/>
        </p:nvSpPr>
        <p:spPr>
          <a:xfrm>
            <a:off x="457200" y="622944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6195-A596-418B-96AD-34C7CDEF3283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2" name="Horizontal Scroll 6"/>
          <p:cNvSpPr/>
          <p:nvPr/>
        </p:nvSpPr>
        <p:spPr>
          <a:xfrm>
            <a:off x="304920" y="0"/>
            <a:ext cx="845820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URSE PROGRAM (1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457200" y="1066680"/>
            <a:ext cx="8229600" cy="106704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VIEW OF OFFICEMANAGEMENT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4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AC30-0F67-473F-9AC7-FC0270D58C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56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F299-9E02-4DC6-8066-FE461A836720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57" name="Rectangle 3"/>
          <p:cNvSpPr/>
          <p:nvPr/>
        </p:nvSpPr>
        <p:spPr>
          <a:xfrm>
            <a:off x="0" y="0"/>
            <a:ext cx="9144000" cy="129780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600" spc="-1" strike="noStrike">
                <a:solidFill>
                  <a:srgbClr val="ffffff"/>
                </a:solidFill>
                <a:latin typeface="Arial"/>
              </a:rPr>
              <a:t>Văn phòng Tòa án nhân dân tối ca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558" name="Picture 2" descr="http://www.toaan.gov.vn/portal/pls/portal/docs/1/4229271.JPG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559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C5B3-FE85-4C17-AE00-F21BA10116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61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0BEF-0F30-4E21-AD9B-287CC99A51BC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457200" y="1066680"/>
            <a:ext cx="3962520" cy="51055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Management responses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64" name="Horizontal Scroll 5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OFFICE MANAGEMENT METHODS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4572000" y="1066680"/>
            <a:ext cx="4114800" cy="51055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Management program, planned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66" name="Oval 7"/>
          <p:cNvSpPr/>
          <p:nvPr/>
        </p:nvSpPr>
        <p:spPr>
          <a:xfrm>
            <a:off x="1905120" y="106668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67" name="Oval 8"/>
          <p:cNvSpPr/>
          <p:nvPr/>
        </p:nvSpPr>
        <p:spPr>
          <a:xfrm>
            <a:off x="6172200" y="106668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68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8960-5148-439A-8843-64655373F4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70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C1C4-08A7-4F88-AC96-5FBE4E40338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456840" y="1066680"/>
            <a:ext cx="3962520" cy="51055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Quản l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theo cá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ứng ph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73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CÁC PHƯƠNG PHÁP QUẢN LÝ V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74" name="Rectangle 3"/>
          <p:cNvSpPr/>
          <p:nvPr/>
        </p:nvSpPr>
        <p:spPr>
          <a:xfrm>
            <a:off x="4572000" y="1066680"/>
            <a:ext cx="4114800" cy="51055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Quản lý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theo các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lập chương trình,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kế hoạc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75" name="Oval 8"/>
          <p:cNvSpPr/>
          <p:nvPr/>
        </p:nvSpPr>
        <p:spPr>
          <a:xfrm>
            <a:off x="1905120" y="106668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76" name="Oval 9"/>
          <p:cNvSpPr/>
          <p:nvPr/>
        </p:nvSpPr>
        <p:spPr>
          <a:xfrm>
            <a:off x="6172200" y="106668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77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BBB0-6E63-48CA-8D17-4BFD4A5541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79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8E18-394F-4A47-834C-698BF1E4D00D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80" name="Rectangle 3"/>
          <p:cNvSpPr/>
          <p:nvPr/>
        </p:nvSpPr>
        <p:spPr>
          <a:xfrm>
            <a:off x="457200" y="1066680"/>
            <a:ext cx="8305920" cy="518184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There is no specific plan for the job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The first to do it, react, respond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Passive managemen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Decision management is always changing because they do not choose the optimal solutio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Staff easy to lose confidence in leadership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81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82" name="Horizontal Scroll 5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EMENT RESPONSES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83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68D2-3FE5-480B-8628-C16AB69754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85" name="Date Placeholder 5"/>
          <p:cNvSpPr/>
          <p:nvPr/>
        </p:nvSpPr>
        <p:spPr>
          <a:xfrm>
            <a:off x="45720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AFE1-BD6E-41E8-810E-B04B255DB523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990720" y="990360"/>
            <a:ext cx="7772400" cy="43434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Không có kế hoạch cụ th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Đị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h đâu làm đó, phản ứng, đối ph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Bị động trong quản l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Q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uyết định quản lý luôn thay đổi vì chưa chọn được giải pháp tối ư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hân viên dễ mất lòng tin lãnh đ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88" name="Horizontal Scroll 6"/>
          <p:cNvSpPr/>
          <p:nvPr/>
        </p:nvSpPr>
        <p:spPr>
          <a:xfrm>
            <a:off x="304920" y="33480"/>
            <a:ext cx="8534160" cy="95724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ẢN LÝ THEO CÁCH ỨNG PHÓ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89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90" name="Rectangle 3"/>
          <p:cNvSpPr/>
          <p:nvPr/>
        </p:nvSpPr>
        <p:spPr>
          <a:xfrm>
            <a:off x="990720" y="5410080"/>
            <a:ext cx="7772400" cy="9144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Phát huy tính sáng tạ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91" name="Rectangle 3"/>
          <p:cNvSpPr/>
          <p:nvPr/>
        </p:nvSpPr>
        <p:spPr>
          <a:xfrm rot="5400000">
            <a:off x="-1562400" y="2857680"/>
            <a:ext cx="434340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Nhược điểm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92" name="Rectangle 3"/>
          <p:cNvSpPr/>
          <p:nvPr/>
        </p:nvSpPr>
        <p:spPr>
          <a:xfrm rot="5400000">
            <a:off x="151920" y="5562360"/>
            <a:ext cx="91440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Ưu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4CA1-C24C-4D2F-B953-A48A657234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94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5920-5EF2-4B6F-96DF-833B82816C9E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95" name="Rectangle 3"/>
          <p:cNvSpPr/>
          <p:nvPr/>
        </p:nvSpPr>
        <p:spPr>
          <a:xfrm>
            <a:off x="457200" y="1219320"/>
            <a:ext cx="8229600" cy="5181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Is there a specific plan for the job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Having a plan to deal with situations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Allocation of powers and responsibilities to staff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The active participant in the work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97" name="Horizontal Scroll 5"/>
          <p:cNvSpPr/>
          <p:nvPr/>
        </p:nvSpPr>
        <p:spPr>
          <a:xfrm>
            <a:off x="304920" y="33480"/>
            <a:ext cx="8458200" cy="118584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EMENT PROGRAM, PLANNED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98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F9C3-D06D-4AE7-A2F9-2E8D79B85A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00" name="Date Placeholder 5"/>
          <p:cNvSpPr/>
          <p:nvPr/>
        </p:nvSpPr>
        <p:spPr>
          <a:xfrm>
            <a:off x="45720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5664-F3EB-46B3-ACB9-814F3B95C7F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Có kế hoạch cụ thể cho công việ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Có phương án giải quyết tình huố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Giao quyền hạn, trách nhiệm cho nhân viê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hân viên chủ động trong thực hiện công việ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03" name="Horizontal Scroll 6"/>
          <p:cNvSpPr/>
          <p:nvPr/>
        </p:nvSpPr>
        <p:spPr>
          <a:xfrm>
            <a:off x="304920" y="33480"/>
            <a:ext cx="8458200" cy="141444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ẢN LÝ THEO CÁCH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ẬP CHƯƠNG TRÌNH, KẾ HOẠCH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04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9729-097E-42A6-8659-CC536AE405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06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9247-5F33-4966-B90E-FBCD1F6E788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07" name="Rectangle 3"/>
          <p:cNvSpPr/>
          <p:nvPr/>
        </p:nvSpPr>
        <p:spPr>
          <a:xfrm>
            <a:off x="380880" y="1066680"/>
            <a:ext cx="8382240" cy="53341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ot apply purely one method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eed to combine the two methods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The work must be planned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Unforeseen contingencies: respons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Through response, managers have more experience and creativity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Is the standard response evaluation staff capacity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08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09" name="Horizontal Scroll 5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FACT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10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7122-23D8-4635-8EE4-1848C33C08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12" name="Date Placeholder 5"/>
          <p:cNvSpPr/>
          <p:nvPr/>
        </p:nvSpPr>
        <p:spPr>
          <a:xfrm>
            <a:off x="45720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A237-2998-455B-973B-45D72634B67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38224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Không áp dụng thuần túy 1 phương pháp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Cần kết hợp hai phương pháp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Công việc phải được lập kế hoạch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Tình huống bất ngờ ngoài dự kiến: ứng phó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Thông qua ứng phó, nhà quản trị có thêm kinh nghiệm, sáng tạo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Ứng phó là tiêu chuẩn đánh giá năng lực cán bộ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15" name="Horizontal Scroll 6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ỰC TẾ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16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0075-0792-499E-B1AA-84A4BB838E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18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AE65-FD21-4789-B552-4C36C8F64D7B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19" name="Rectangle 3"/>
          <p:cNvSpPr/>
          <p:nvPr/>
        </p:nvSpPr>
        <p:spPr>
          <a:xfrm>
            <a:off x="457200" y="2438280"/>
            <a:ext cx="8229600" cy="221004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Create the best work environmen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Convenient seati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Ensure that confidential documents, materials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20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21" name="Horizontal Scroll 5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 OFFICE LAYOU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22" name="Horizontal Scroll 6"/>
          <p:cNvSpPr/>
          <p:nvPr/>
        </p:nvSpPr>
        <p:spPr>
          <a:xfrm>
            <a:off x="398520" y="1066680"/>
            <a:ext cx="8305920" cy="7621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1. PURPOSE &amp; REQUIREMENTS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23" name="Rectangle 3"/>
          <p:cNvSpPr/>
          <p:nvPr/>
        </p:nvSpPr>
        <p:spPr>
          <a:xfrm>
            <a:off x="457200" y="5257800"/>
            <a:ext cx="8229600" cy="11430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Make the most of, the office area</a:t>
            </a:r>
            <a:br>
              <a:rPr sz="3600"/>
            </a:b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Reduce travel time between parts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24" name="Horizontal Scroll 8"/>
          <p:cNvSpPr/>
          <p:nvPr/>
        </p:nvSpPr>
        <p:spPr>
          <a:xfrm>
            <a:off x="380880" y="1828800"/>
            <a:ext cx="4114800" cy="6858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rpose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25" name="Horizontal Scroll 9"/>
          <p:cNvSpPr/>
          <p:nvPr/>
        </p:nvSpPr>
        <p:spPr>
          <a:xfrm>
            <a:off x="380880" y="4648320"/>
            <a:ext cx="4114800" cy="6858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26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AC7B-112F-4C20-9652-390AE24790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90DA-C368-40AB-BA6F-8F84C82B4089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8" name="Content Placeholder 2"/>
          <p:cNvSpPr/>
          <p:nvPr/>
        </p:nvSpPr>
        <p:spPr>
          <a:xfrm>
            <a:off x="457200" y="2133720"/>
            <a:ext cx="8229600" cy="4267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Arial"/>
              </a:rPr>
              <a:t>Chapter 5:</a:t>
            </a:r>
            <a:r>
              <a:rPr b="0" lang="en-US" sz="2800" spc="-1" strike="noStrike">
                <a:solidFill>
                  <a:srgbClr val="000029"/>
                </a:solidFill>
                <a:latin typeface="Arial"/>
              </a:rPr>
              <a:t> Overview of documents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Arial"/>
              </a:rPr>
              <a:t>Chapter 6:</a:t>
            </a:r>
            <a:r>
              <a:rPr b="0" lang="en-US" sz="2800" spc="-1" strike="noStrike">
                <a:solidFill>
                  <a:srgbClr val="000029"/>
                </a:solidFill>
                <a:latin typeface="Arial"/>
              </a:rPr>
              <a:t> Procedures &amp; techniques presented documents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Arial"/>
              </a:rPr>
              <a:t>Chapter 7:</a:t>
            </a:r>
            <a:r>
              <a:rPr b="0" lang="en-US" sz="2800" spc="-1" strike="noStrike">
                <a:solidFill>
                  <a:srgbClr val="000029"/>
                </a:solidFill>
                <a:latin typeface="Arial"/>
              </a:rPr>
              <a:t> Style the administrative language in the documents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Arial"/>
              </a:rPr>
              <a:t>Chapter 8:</a:t>
            </a:r>
            <a:r>
              <a:rPr b="0" lang="en-US" sz="2800" spc="-1" strike="noStrike">
                <a:solidFill>
                  <a:srgbClr val="000029"/>
                </a:solidFill>
                <a:latin typeface="Arial"/>
              </a:rPr>
              <a:t> The process of drafting &amp; issuing documents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Arial"/>
              </a:rPr>
              <a:t>Chapter 9:</a:t>
            </a:r>
            <a:r>
              <a:rPr b="0" lang="en-US" sz="2800" spc="-1" strike="noStrike">
                <a:solidFill>
                  <a:srgbClr val="000029"/>
                </a:solidFill>
                <a:latin typeface="Arial"/>
              </a:rPr>
              <a:t> Technical drafting, presents some common administrative documents.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0" name="Horizontal Scroll 7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URSE PROGRAM (2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457200" y="1066680"/>
            <a:ext cx="8229600" cy="106704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CHNICAL DRAFTING, TEXT LAYOUT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1D33-7636-425C-B954-CE2E054676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28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814E-EFF4-40B4-A5B4-827022D8999D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16765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</a:rPr>
              <a:t>Tạo môi trường làm việc tốt nhấ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</a:rPr>
              <a:t>Thuận tiện tiếp khác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Đảm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</a:rPr>
              <a:t> bảo giữ bí mật văn bản, tài liệu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31" name="Horizontal Scroll 6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 BỐ TRÍ VĂN PHÒ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32" name="Horizontal Scroll 7"/>
          <p:cNvSpPr/>
          <p:nvPr/>
        </p:nvSpPr>
        <p:spPr>
          <a:xfrm>
            <a:off x="398520" y="1066680"/>
            <a:ext cx="8305920" cy="7621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1. MỤC ĐÍCH, YÊU CẦU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457200" y="4800600"/>
            <a:ext cx="8229600" cy="16002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</a:rPr>
              <a:t>Tận dụng tối đa, cơ động diện tích VP</a:t>
            </a:r>
            <a:endParaRPr b="0" lang="en-US" sz="3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</a:rPr>
              <a:t>Giảm thiểu thời gian di chuyển giữa các bộ phận.</a:t>
            </a:r>
            <a:endParaRPr b="0" lang="en-US" sz="3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34" name="Horizontal Scroll 9"/>
          <p:cNvSpPr/>
          <p:nvPr/>
        </p:nvSpPr>
        <p:spPr>
          <a:xfrm>
            <a:off x="380880" y="1828800"/>
            <a:ext cx="4114800" cy="7621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ục đích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35" name="Horizontal Scroll 10"/>
          <p:cNvSpPr/>
          <p:nvPr/>
        </p:nvSpPr>
        <p:spPr>
          <a:xfrm>
            <a:off x="380880" y="4191120"/>
            <a:ext cx="4114800" cy="6858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êu cầu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36" name="Footer Placeholder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8EE7-D9FF-4C6F-ADF8-058BD0B687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38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82E3-BBC6-4D84-BE17-D3324ABDC2F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39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40" name="Horizontal Scroll 4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2. METHODS OFFICE LAYOU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41" name="Rectangle 3"/>
          <p:cNvSpPr/>
          <p:nvPr/>
        </p:nvSpPr>
        <p:spPr>
          <a:xfrm>
            <a:off x="457200" y="1066680"/>
            <a:ext cx="3886200" cy="51055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Close spac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Layout offic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42" name="Rectangle 3"/>
          <p:cNvSpPr/>
          <p:nvPr/>
        </p:nvSpPr>
        <p:spPr>
          <a:xfrm>
            <a:off x="4572000" y="1066680"/>
            <a:ext cx="4114800" cy="51055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Open spac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office layou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43" name="Oval 7"/>
          <p:cNvSpPr/>
          <p:nvPr/>
        </p:nvSpPr>
        <p:spPr>
          <a:xfrm>
            <a:off x="1905120" y="106668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44" name="Oval 8"/>
          <p:cNvSpPr/>
          <p:nvPr/>
        </p:nvSpPr>
        <p:spPr>
          <a:xfrm>
            <a:off x="6172200" y="106668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45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CF7E-B091-43C5-9A27-7DC67F397C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4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D1CB-7770-4EF4-92C2-AD3D1F368B9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48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49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2. PHƯƠNG PHÁP BỐ TRÍ V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50" name="Rectangle 3"/>
          <p:cNvSpPr/>
          <p:nvPr/>
        </p:nvSpPr>
        <p:spPr>
          <a:xfrm>
            <a:off x="457200" y="1066680"/>
            <a:ext cx="3886200" cy="51055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Văn phò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bố trí the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không gia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đó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51" name="Rectangle 3"/>
          <p:cNvSpPr/>
          <p:nvPr/>
        </p:nvSpPr>
        <p:spPr>
          <a:xfrm>
            <a:off x="4572000" y="1066680"/>
            <a:ext cx="4114800" cy="51055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Văn phò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bố trí the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không gia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mở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52" name="Oval 10"/>
          <p:cNvSpPr/>
          <p:nvPr/>
        </p:nvSpPr>
        <p:spPr>
          <a:xfrm>
            <a:off x="1905120" y="106668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53" name="Oval 11"/>
          <p:cNvSpPr/>
          <p:nvPr/>
        </p:nvSpPr>
        <p:spPr>
          <a:xfrm>
            <a:off x="6172200" y="106668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54" name="Footer Placeholder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B2B0-42AE-4221-8F57-5F73FB52CE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56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BF93-AE8F-44D6-8790-771D54A65EAF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57" name="Rectangle 3"/>
          <p:cNvSpPr/>
          <p:nvPr/>
        </p:nvSpPr>
        <p:spPr>
          <a:xfrm>
            <a:off x="457200" y="990720"/>
            <a:ext cx="8229600" cy="53337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■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ffice split: Each unit a separate room, the door closed.</a:t>
            </a:r>
            <a:endParaRPr b="0" lang="en-US" sz="35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◘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35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urity job</a:t>
            </a:r>
            <a:endParaRPr b="0" lang="en-US" sz="35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o ensure the privacy of employees</a:t>
            </a:r>
            <a:endParaRPr b="0" lang="en-US" sz="35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uitable work should focus on high</a:t>
            </a:r>
            <a:endParaRPr b="0" lang="en-US" sz="35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◘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Disadvantages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Cost area, increasing the cost of electricity, office equipment</a:t>
            </a:r>
            <a:endParaRPr b="0" lang="en-US" sz="35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59" name="Horizontal Scroll 5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OSE SPACE LAYOUT OFFIC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60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4690-D4B1-409E-A310-33FDFCB2F9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62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16AC-A8A7-4436-9AAA-46FCF77B330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63" name="Rectangle 3"/>
          <p:cNvSpPr/>
          <p:nvPr/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Văn phòng chia nhỏ: Từng bộ phận bố trí phòng riêng, cửa đóng kín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Ưu điểm: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Bảo mật công việc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Bảo đảm tính riêng tư của nhân viê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Phù hợp công việc cần tập trung ca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</a:t>
            </a:r>
            <a:r>
              <a:rPr b="1" i="1" lang="en-US" sz="36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Nhược điểm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Tốn diện tích, tăng chi phí điện, thiết bị VP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65" name="Horizontal Scroll 8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ĂN PHÒNG KHÔNG GIAN ĐÓ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66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6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F694-78EC-4DEF-8C89-C715779505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6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67FF-01BE-4CAF-9957-721C4DF3E3A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670" name="Picture 2" descr="http://cuanhualoithep.com/wp-content/uploads/vach-kinh-pano1.jpg"/>
          <p:cNvPicPr/>
          <p:nvPr/>
        </p:nvPicPr>
        <p:blipFill>
          <a:blip r:embed="rId1"/>
          <a:stretch/>
        </p:blipFill>
        <p:spPr>
          <a:xfrm>
            <a:off x="304920" y="1295280"/>
            <a:ext cx="8534160" cy="5029200"/>
          </a:xfrm>
          <a:prstGeom prst="rect">
            <a:avLst/>
          </a:prstGeom>
          <a:ln w="0">
            <a:noFill/>
          </a:ln>
        </p:spPr>
      </p:pic>
      <p:sp>
        <p:nvSpPr>
          <p:cNvPr id="671" name="Rectangle 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72" name="Horizontal Scroll 6"/>
          <p:cNvSpPr/>
          <p:nvPr/>
        </p:nvSpPr>
        <p:spPr>
          <a:xfrm>
            <a:off x="228600" y="33480"/>
            <a:ext cx="8686800" cy="118584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ĂN PHÒNG KHÔNG GIAN ĐÓ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AEBB-BE65-434E-8B3F-42ABFC8004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74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B6A0-7D45-40DD-9134-9AD3740B9C80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Các bộ phận bố trí trong phòng lớ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</a:t>
            </a:r>
            <a:r>
              <a:rPr b="1" i="1" lang="en-US" sz="36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Ưu điểm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Tiết kiệm chi phí, diện tí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Thuận tiện trong giao tiếp giữa các bộ phậ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Dễ quản lý nhân viên về thời g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</a:t>
            </a:r>
            <a:r>
              <a:rPr b="1" i="1" lang="en-US" sz="36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Nhược điểm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Không phù hợp công việc cần tập trung c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77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ĂN PHÒNG KHÔNG GIAN MỞ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78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FA4D-61A1-4C1C-9C85-94A2D33C6A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80" name="Date Placeholder 5"/>
          <p:cNvSpPr/>
          <p:nvPr/>
        </p:nvSpPr>
        <p:spPr>
          <a:xfrm>
            <a:off x="457200" y="624528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3EA8-ACF7-400E-A958-D26A7F03D9E6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681" name="Picture 2" descr="http://www.donnhatrongoi.info/Uploads/Image/van_phong.jpg"/>
          <p:cNvPicPr/>
          <p:nvPr/>
        </p:nvPicPr>
        <p:blipFill>
          <a:blip r:embed="rId1"/>
          <a:stretch/>
        </p:blipFill>
        <p:spPr>
          <a:xfrm>
            <a:off x="304920" y="1219320"/>
            <a:ext cx="8534160" cy="5105160"/>
          </a:xfrm>
          <a:prstGeom prst="rect">
            <a:avLst/>
          </a:prstGeom>
          <a:ln w="0">
            <a:noFill/>
          </a:ln>
        </p:spPr>
      </p:pic>
      <p:sp>
        <p:nvSpPr>
          <p:cNvPr id="682" name="Rectangle 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83" name="Horizontal Scroll 7"/>
          <p:cNvSpPr/>
          <p:nvPr/>
        </p:nvSpPr>
        <p:spPr>
          <a:xfrm>
            <a:off x="228600" y="0"/>
            <a:ext cx="8686800" cy="118584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Ô HÌNH VĂN PHÒNG MỞ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684" name="Picture 8" descr="http://vneconomy2.vcmedia.vn/zoom/500_312/Images/Uploaded/Share/2011/02/08/044.jpg"/>
          <p:cNvPicPr/>
          <p:nvPr/>
        </p:nvPicPr>
        <p:blipFill>
          <a:blip r:embed="rId2"/>
          <a:stretch/>
        </p:blipFill>
        <p:spPr>
          <a:xfrm>
            <a:off x="257040" y="1219320"/>
            <a:ext cx="8658360" cy="5181480"/>
          </a:xfrm>
          <a:prstGeom prst="rect">
            <a:avLst/>
          </a:prstGeom>
          <a:ln w="0">
            <a:noFill/>
          </a:ln>
        </p:spPr>
      </p:pic>
      <p:sp>
        <p:nvSpPr>
          <p:cNvPr id="685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65BE-2728-48A2-AF0D-3F3AFE5946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87" name="Date Placeholder 4"/>
          <p:cNvSpPr/>
          <p:nvPr/>
        </p:nvSpPr>
        <p:spPr>
          <a:xfrm>
            <a:off x="457200" y="624528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13CB-384E-4F05-B89B-C961AFAC3D7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688" name="Picture 2" descr="http://ssp.com.vn/store_editor/image/Sanphamvadichvu/Chothuevanphong/van%20phong%202.jpg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5105160"/>
          </a:xfrm>
          <a:prstGeom prst="rect">
            <a:avLst/>
          </a:prstGeom>
          <a:ln w="0">
            <a:noFill/>
          </a:ln>
        </p:spPr>
      </p:pic>
      <p:sp>
        <p:nvSpPr>
          <p:cNvPr id="689" name="Rectangle 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0" name="Horizontal Scroll 7"/>
          <p:cNvSpPr/>
          <p:nvPr/>
        </p:nvSpPr>
        <p:spPr>
          <a:xfrm>
            <a:off x="228600" y="0"/>
            <a:ext cx="8686800" cy="118584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Ô HÌNH VĂN PHÒNG MỞ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1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BF5D-4276-4F3B-8BD5-B92C097CD4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3" name="Date Placeholder 2"/>
          <p:cNvSpPr/>
          <p:nvPr/>
        </p:nvSpPr>
        <p:spPr>
          <a:xfrm>
            <a:off x="45720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AE40-E5B4-455B-8DDB-E1D93043281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4" name="Rectangle 3"/>
          <p:cNvSpPr/>
          <p:nvPr/>
        </p:nvSpPr>
        <p:spPr>
          <a:xfrm>
            <a:off x="457200" y="990720"/>
            <a:ext cx="830592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Equipment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Telephone, fax, photo-copy machine, computers ..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Furniture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Tables, chairs, filing cabinets, racks document ..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Modernization of the office: Computerization &amp; telecommunicatio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Paperless office, electronic documents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Electronic office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5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6" name="Horizontal Scroll 5"/>
          <p:cNvSpPr/>
          <p:nvPr/>
        </p:nvSpPr>
        <p:spPr>
          <a:xfrm>
            <a:off x="304920" y="0"/>
            <a:ext cx="853416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3. OFFICE EQUIPMEN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7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E243-317C-4B14-BCE6-1F1C65E026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3" name="Date Placeholder 5"/>
          <p:cNvSpPr/>
          <p:nvPr/>
        </p:nvSpPr>
        <p:spPr>
          <a:xfrm>
            <a:off x="457200" y="624528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D160-1218-45E5-A25C-48C48E5D10A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743200" y="2133360"/>
            <a:ext cx="5943600" cy="5331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Khái quát về QT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6" name="Horizontal Scroll 6"/>
          <p:cNvSpPr/>
          <p:nvPr/>
        </p:nvSpPr>
        <p:spPr>
          <a:xfrm>
            <a:off x="304920" y="33480"/>
            <a:ext cx="8458200" cy="95724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ƯƠNG TRÌNH MÔN HỌC (1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457200" y="990720"/>
            <a:ext cx="8229600" cy="99036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ẦN 1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ỔNG QUAN VỀ QUẢN TRỊ VĂN PHÒNG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58" name="Picture 9" descr="https://encrypted-tbn1.gstatic.com/images?q=tbn:ANd9GcRz0-7y_77Ycxnori6GErNJ3ju76oqe8Xd_a6hhufYClLZGMaYo4A"/>
          <p:cNvPicPr/>
          <p:nvPr/>
        </p:nvPicPr>
        <p:blipFill>
          <a:blip r:embed="rId1"/>
          <a:stretch/>
        </p:blipFill>
        <p:spPr>
          <a:xfrm>
            <a:off x="485640" y="5105520"/>
            <a:ext cx="8201160" cy="129528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159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0" name="Rounded Rectangle 10"/>
          <p:cNvSpPr/>
          <p:nvPr/>
        </p:nvSpPr>
        <p:spPr>
          <a:xfrm>
            <a:off x="457200" y="2133720"/>
            <a:ext cx="2209680" cy="53316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Chương 1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2743200" y="2743200"/>
            <a:ext cx="5943600" cy="5335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Quản trị thông tin &amp; hồ sơ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2" name="Rounded Rectangle 13"/>
          <p:cNvSpPr/>
          <p:nvPr/>
        </p:nvSpPr>
        <p:spPr>
          <a:xfrm>
            <a:off x="457200" y="2743200"/>
            <a:ext cx="2209680" cy="5335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Chương 2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2743200" y="3352680"/>
            <a:ext cx="5943600" cy="5335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Tổ chức công tác lễ tân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2743200" y="3962520"/>
            <a:ext cx="5943600" cy="10666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Quản trị hội họp &amp; xây dựng chương trình, kế hoạch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5" name="Rounded Rectangle 16"/>
          <p:cNvSpPr/>
          <p:nvPr/>
        </p:nvSpPr>
        <p:spPr>
          <a:xfrm>
            <a:off x="457200" y="3352680"/>
            <a:ext cx="2209680" cy="5335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Chương 3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6" name="Rounded Rectangle 17"/>
          <p:cNvSpPr/>
          <p:nvPr/>
        </p:nvSpPr>
        <p:spPr>
          <a:xfrm>
            <a:off x="457200" y="3962520"/>
            <a:ext cx="2209680" cy="106668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Chương 4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1DF5-2D39-4C3E-AB19-75738C75AC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9" name="Date Placeholder 5"/>
          <p:cNvSpPr/>
          <p:nvPr/>
        </p:nvSpPr>
        <p:spPr>
          <a:xfrm>
            <a:off x="45720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3DFD-8594-4528-BDE2-922B95864C69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3341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Thiết bị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Điện thoại, máy fax, máy photo-copy, máy vi tính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Đồ dùng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Bàn, ghế, tủ hồ sơ, giá để tài liệu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Hiện đại hóa công tác VP: Tin học hóa, viễn thông hó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VP không giấy, văn thư điện tử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Văn phòng điện tử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02" name="Horizontal Scroll 6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3. TRANG THIẾT BỊ VĂN PHÒ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03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Ô HÌNH VĂN PHÒNG ĐIỆN T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7D00-041A-4DEC-B6C5-E37242D9B6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06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131B-63DF-41A1-884C-60D49FD4493D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707" name="Picture 6" descr="http://doanhnghiepmoi.net/UploadImages/VANPHONGDIENTU.png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708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BC58-AFA1-4A34-8665-5B26A4DCB3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10" name="Date Placeholder 4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03AB-30D3-48DC-8823-7A2B284C6F5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711" name="Picture 2" descr="http://egov.iuh.edu.vn/Resources/Icons/Design/bgLogin.png"/>
          <p:cNvPicPr/>
          <p:nvPr/>
        </p:nvPicPr>
        <p:blipFill>
          <a:blip r:embed="rId1"/>
          <a:stretch/>
        </p:blipFill>
        <p:spPr>
          <a:xfrm>
            <a:off x="380880" y="1066680"/>
            <a:ext cx="8382240" cy="533412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13" name="Horizontal Scroll 6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Ệ THỐNG VĂN THƯ ĐIỆN TỬ IU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14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4F2B-8837-4C9B-919D-6146093D4E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16" name="Date Placeholder 2"/>
          <p:cNvSpPr/>
          <p:nvPr/>
        </p:nvSpPr>
        <p:spPr>
          <a:xfrm>
            <a:off x="457200" y="624528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420A-BD82-4E93-8B89-40FD324AB59B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17" name="Rectangle 3"/>
          <p:cNvSpPr/>
          <p:nvPr/>
        </p:nvSpPr>
        <p:spPr>
          <a:xfrm>
            <a:off x="457200" y="1066680"/>
            <a:ext cx="8458200" cy="106704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1" lang="en-US" sz="3200" spc="-1" strike="noStrike">
                <a:solidFill>
                  <a:srgbClr val="000029"/>
                </a:solidFill>
                <a:latin typeface="Arial"/>
              </a:rPr>
              <a:t>Office tradition: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     The actual activity in the office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19" name="Horizontal Scroll 5"/>
          <p:cNvSpPr/>
          <p:nvPr/>
        </p:nvSpPr>
        <p:spPr>
          <a:xfrm>
            <a:off x="304920" y="33480"/>
            <a:ext cx="861048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. FORMS OF OFFICE OPERATIONS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20" name="Horizontal Scroll 6"/>
          <p:cNvSpPr/>
          <p:nvPr/>
        </p:nvSpPr>
        <p:spPr>
          <a:xfrm>
            <a:off x="457200" y="990720"/>
            <a:ext cx="3809880" cy="6858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ffice tradition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21" name="Rectangle 3"/>
          <p:cNvSpPr/>
          <p:nvPr/>
        </p:nvSpPr>
        <p:spPr>
          <a:xfrm>
            <a:off x="457200" y="2362320"/>
            <a:ext cx="8458200" cy="4038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■ </a:t>
            </a:r>
            <a:r>
              <a:rPr b="1" lang="en-US" sz="3200" spc="-1" strike="noStrike">
                <a:solidFill>
                  <a:srgbClr val="000029"/>
                </a:solidFill>
                <a:latin typeface="Arial"/>
              </a:rPr>
              <a:t>Virtual Office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:   No actual work at the office</a:t>
            </a:r>
            <a:br>
              <a:rPr sz="3200"/>
            </a:b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● Office for rent 0m ²: Registered address founded company, branches, representative offices, set the table name company, receive &amp; send faxes, letters, mailers &amp; other utilities rent on demand: seats, meeting rooms...</a:t>
            </a:r>
            <a:br>
              <a:rPr sz="3200"/>
            </a:b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● Virtual office is only suitable representative offices, small businesses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22" name="Horizontal Scroll 8"/>
          <p:cNvSpPr/>
          <p:nvPr/>
        </p:nvSpPr>
        <p:spPr>
          <a:xfrm>
            <a:off x="457200" y="2286000"/>
            <a:ext cx="3200400" cy="6858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rtual Office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23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24" name="Oval 10"/>
          <p:cNvSpPr/>
          <p:nvPr/>
        </p:nvSpPr>
        <p:spPr>
          <a:xfrm>
            <a:off x="0" y="1066680"/>
            <a:ext cx="457200" cy="60984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25" name="Oval 11"/>
          <p:cNvSpPr/>
          <p:nvPr/>
        </p:nvSpPr>
        <p:spPr>
          <a:xfrm>
            <a:off x="0" y="2362320"/>
            <a:ext cx="457200" cy="60948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5A64-F2E4-45B2-8E1A-05ADAAB6DF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27" name="Date Placeholder 5"/>
          <p:cNvSpPr/>
          <p:nvPr/>
        </p:nvSpPr>
        <p:spPr>
          <a:xfrm>
            <a:off x="457200" y="624528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7C3A-C9E1-40F8-B32E-262381AC698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/>
          </p:nvPr>
        </p:nvSpPr>
        <p:spPr>
          <a:xfrm>
            <a:off x="456840" y="1219320"/>
            <a:ext cx="8381880" cy="7617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</a:rPr>
              <a:t>VP truyền thống: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 Hoạt động thực tế tại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30" name="Horizontal Scroll 6"/>
          <p:cNvSpPr/>
          <p:nvPr/>
        </p:nvSpPr>
        <p:spPr>
          <a:xfrm>
            <a:off x="304920" y="33480"/>
            <a:ext cx="861048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. HÌNH THỨC HOẠT ĐỘNG CỦA V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31" name="Rectangle 3"/>
          <p:cNvSpPr/>
          <p:nvPr/>
        </p:nvSpPr>
        <p:spPr>
          <a:xfrm>
            <a:off x="457200" y="2209680"/>
            <a:ext cx="8381880" cy="4114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</a:rPr>
              <a:t>VP ảo: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  Không hoạt động thực tế tại VP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VP cho thuê 0m²: Địa chỉ đăng ký thành lập Cty, Chi nhánh, VPĐD, đặt bảng tên Cty, nhận &amp; gởi fax, thư từ bưu phẩm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●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Các tiện ích khác thuê theo nhu cầu: chỗ ngồi, phòng họp, photocopy, máy in…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VP ảo chỉ thích hợp VPĐD, DN nhỏ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32" name="Horizontal Scroll 8"/>
          <p:cNvSpPr/>
          <p:nvPr/>
        </p:nvSpPr>
        <p:spPr>
          <a:xfrm>
            <a:off x="457200" y="2133720"/>
            <a:ext cx="1752480" cy="7617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P ảo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33" name="Horizontal Scroll 9"/>
          <p:cNvSpPr/>
          <p:nvPr/>
        </p:nvSpPr>
        <p:spPr>
          <a:xfrm>
            <a:off x="457200" y="1143000"/>
            <a:ext cx="3733920" cy="7621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P truyền thống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34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35" name="Oval 11"/>
          <p:cNvSpPr/>
          <p:nvPr/>
        </p:nvSpPr>
        <p:spPr>
          <a:xfrm>
            <a:off x="0" y="1219320"/>
            <a:ext cx="457200" cy="60948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36" name="Oval 12"/>
          <p:cNvSpPr/>
          <p:nvPr/>
        </p:nvSpPr>
        <p:spPr>
          <a:xfrm>
            <a:off x="0" y="2209680"/>
            <a:ext cx="457200" cy="60984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7A3B-1E84-4748-A112-559E93EF8C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38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3AA9-626E-47F9-A689-2E5E9FE6876A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739" name="Picture 2" descr="http://images03.jaovat.com/ui/4/07/51/1348481685_441080651_14-Cho-thue-van-phong-tron-goi-tai-137-Nguyen-Ngoc-V-Ha-Noi-0977177155-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2" descr="http://raovat.haiphonginfo.vn/Images/Items/%E1%BA%A3nh%289%2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1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0BC2-506F-4311-9141-FF1EE4FB7F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43" name="Date Placeholder 4"/>
          <p:cNvSpPr/>
          <p:nvPr/>
        </p:nvSpPr>
        <p:spPr>
          <a:xfrm>
            <a:off x="457200" y="624528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D30F-2D1D-424E-99B5-DFF3B16AD22C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744" name="Picture 2" descr="http://www.goffice.vn/vn/images/stories/hinhanh/37/1.jpg"/>
          <p:cNvPicPr/>
          <p:nvPr/>
        </p:nvPicPr>
        <p:blipFill>
          <a:blip r:embed="rId1"/>
          <a:stretch/>
        </p:blipFill>
        <p:spPr>
          <a:xfrm>
            <a:off x="304920" y="1219320"/>
            <a:ext cx="3504960" cy="510516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745" name="Title 1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46" name="Title 1"/>
          <p:cNvSpPr/>
          <p:nvPr/>
        </p:nvSpPr>
        <p:spPr>
          <a:xfrm>
            <a:off x="3886200" y="1219320"/>
            <a:ext cx="1371600" cy="510516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ỊCH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Ụ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O THUÊ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ĂN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ÒNG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ẢO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47" name="Title 1"/>
          <p:cNvSpPr/>
          <p:nvPr/>
        </p:nvSpPr>
        <p:spPr>
          <a:xfrm>
            <a:off x="0" y="0"/>
            <a:ext cx="4572000" cy="1143000"/>
          </a:xfrm>
          <a:prstGeom prst="rect">
            <a:avLst/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aigon Trade Center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(37 Tôn Đức Thắng)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0" y="-360"/>
            <a:ext cx="4572000" cy="1143000"/>
          </a:xfrm>
          <a:prstGeom prst="rect">
            <a:avLst/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Saigon Tower</a:t>
            </a:r>
            <a:br>
              <a:rPr sz="3200"/>
            </a:b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(29 Lê Duẩ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50" name="Rounded Rectangle 12"/>
          <p:cNvSpPr/>
          <p:nvPr/>
        </p:nvSpPr>
        <p:spPr>
          <a:xfrm>
            <a:off x="304920" y="5715000"/>
            <a:ext cx="19047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</a:rPr>
              <a:t>G-Office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751" name="Picture 14" descr="Regus Virtual Office in Ho Chi Minh City, Saigon Tower"/>
          <p:cNvPicPr/>
          <p:nvPr/>
        </p:nvPicPr>
        <p:blipFill>
          <a:blip r:embed="rId2"/>
          <a:stretch/>
        </p:blipFill>
        <p:spPr>
          <a:xfrm>
            <a:off x="5334120" y="1219320"/>
            <a:ext cx="3581280" cy="510516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752" name="Rounded Rectangle 14"/>
          <p:cNvSpPr/>
          <p:nvPr/>
        </p:nvSpPr>
        <p:spPr>
          <a:xfrm>
            <a:off x="5334120" y="5715000"/>
            <a:ext cx="19047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</a:rPr>
              <a:t>Regus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Slide Number Placeholder 1"/>
          <p:cNvSpPr/>
          <p:nvPr/>
        </p:nvSpPr>
        <p:spPr>
          <a:xfrm>
            <a:off x="6553080" y="62326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06F8-8585-492E-B36D-41A2EE4B5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54" name="Date Placeholder 2"/>
          <p:cNvSpPr/>
          <p:nvPr/>
        </p:nvSpPr>
        <p:spPr>
          <a:xfrm>
            <a:off x="457200" y="622944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CD32-A191-466B-AA28-13DD1BD4FE3E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55" name="Rectangle 3"/>
          <p:cNvSpPr/>
          <p:nvPr/>
        </p:nvSpPr>
        <p:spPr>
          <a:xfrm>
            <a:off x="33840" y="-9062640"/>
            <a:ext cx="572364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ảng giá dịch vụ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ảng giá gói cước văn phòng ảo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756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5c5c99"/>
            </a:outerShdw>
          </a:effectLst>
        </p:spPr>
      </p:pic>
      <p:graphicFrame>
        <p:nvGraphicFramePr>
          <p:cNvPr id="757" name=""/>
          <p:cNvGraphicFramePr/>
          <p:nvPr/>
        </p:nvGraphicFramePr>
        <p:xfrm>
          <a:off x="228600" y="1676520"/>
          <a:ext cx="8610480" cy="2971800"/>
        </p:xfrm>
        <a:graphic>
          <a:graphicData uri="http://schemas.openxmlformats.org/drawingml/2006/table">
            <a:tbl>
              <a:tblPr/>
              <a:tblGrid>
                <a:gridCol w="4305240"/>
                <a:gridCol w="4305240"/>
              </a:tblGrid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29"/>
                          </a:solidFill>
                          <a:latin typeface="Arial"/>
                        </a:rPr>
                        <a:t>Gói cướ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29"/>
                          </a:solidFill>
                          <a:latin typeface="Arial"/>
                        </a:rPr>
                        <a:t>HD Tow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579240">
                <a:tc>
                  <a:txBody>
                    <a:bodyPr lIns="10080" rIns="10080" tIns="10080" bIns="10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29"/>
                          </a:solidFill>
                          <a:latin typeface="Arial"/>
                        </a:rPr>
                        <a:t>Basic Clas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29"/>
                          </a:solidFill>
                          <a:latin typeface="Arial"/>
                        </a:rPr>
                        <a:t>780.000 VNĐ/thá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77800">
                <a:tc>
                  <a:txBody>
                    <a:bodyPr lIns="10080" rIns="10080" tIns="10080" bIns="10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29"/>
                          </a:solidFill>
                          <a:latin typeface="Arial"/>
                        </a:rPr>
                        <a:t>Economy Clas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29"/>
                          </a:solidFill>
                          <a:latin typeface="Arial"/>
                        </a:rPr>
                        <a:t>1.180.000 VNĐ/thá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78160">
                <a:tc>
                  <a:txBody>
                    <a:bodyPr lIns="10080" rIns="10080" tIns="10080" bIns="10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29"/>
                          </a:solidFill>
                          <a:latin typeface="Arial"/>
                        </a:rPr>
                        <a:t>Business Clas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29"/>
                          </a:solidFill>
                          <a:latin typeface="Arial"/>
                        </a:rPr>
                        <a:t>1.680.000 VNĐ/thá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77800">
                <a:tc>
                  <a:txBody>
                    <a:bodyPr lIns="10080" rIns="10080" tIns="10080" bIns="10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29"/>
                          </a:solidFill>
                          <a:latin typeface="Arial"/>
                        </a:rPr>
                        <a:t>First Clas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29"/>
                          </a:solidFill>
                          <a:latin typeface="Arial"/>
                        </a:rPr>
                        <a:t>2.500.000 VNĐ/thá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sp>
        <p:nvSpPr>
          <p:cNvPr id="758" name="Rectangle 12"/>
          <p:cNvSpPr/>
          <p:nvPr/>
        </p:nvSpPr>
        <p:spPr>
          <a:xfrm>
            <a:off x="228600" y="4648320"/>
            <a:ext cx="8610480" cy="167616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Arial"/>
              </a:rPr>
              <a:t>Cty C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vi-V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Đầu tư </a:t>
            </a:r>
            <a:r>
              <a:rPr b="1" lang="vi-VN" sz="3200" spc="-1" strike="noStrike">
                <a:solidFill>
                  <a:srgbClr val="ffffff"/>
                </a:solidFill>
                <a:latin typeface="Arial"/>
              </a:rPr>
              <a:t>Hữu Liên.</a:t>
            </a:r>
            <a:br>
              <a:rPr sz="3200"/>
            </a:br>
            <a:r>
              <a:rPr b="1" lang="vi-VN" sz="3200" spc="-1" strike="noStrike">
                <a:solidFill>
                  <a:srgbClr val="ffffff"/>
                </a:solidFill>
                <a:latin typeface="Arial"/>
              </a:rPr>
              <a:t>Lầu 5, HD Tower, 25bis Nguyễn Thị Minh Khai, Bến Nghé, Q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vi-VN" sz="3200" spc="-1" strike="noStrike">
                <a:solidFill>
                  <a:srgbClr val="ffffff"/>
                </a:solidFill>
                <a:latin typeface="Arial"/>
              </a:rPr>
              <a:t> 1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P.</a:t>
            </a:r>
            <a:r>
              <a:rPr b="1" lang="vi-VN" sz="3200" spc="-1" strike="noStrike">
                <a:solidFill>
                  <a:srgbClr val="ffffff"/>
                </a:solidFill>
                <a:latin typeface="Arial"/>
              </a:rPr>
              <a:t>HC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59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FEF6-F10D-4461-B0FF-2B63345E90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61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9D0F-B0BD-4E7D-85B6-4496639BA27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762" name="Picture 2" descr="http://www.sohovina.com/data/Picture/Cho%20ngoiu%20ca%20nhan_1331349708.jpg"/>
          <p:cNvPicPr/>
          <p:nvPr/>
        </p:nvPicPr>
        <p:blipFill>
          <a:blip r:embed="rId1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4" descr="http://www.sohovina.com/data/Picture/Phong%20hop_1331349562.jp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0056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6" descr="http://www.sohovina.com/data/Picture/Sanh%20tiep%20khach%285%29_1331601725.jpg"/>
          <p:cNvPicPr/>
          <p:nvPr/>
        </p:nvPicPr>
        <p:blipFill>
          <a:blip r:embed="rId3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8" descr="http://www.sohovina.com/data/Picture/Tien%20ich%20tai%20soho%286%29_1331601808.jpg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10" descr="http://www.soffice.vn/files/news/283/6d402d68-f3c7-4465-bd5e-2897eebaeb33.jpg"/>
          <p:cNvPicPr/>
          <p:nvPr/>
        </p:nvPicPr>
        <p:blipFill>
          <a:blip r:embed="rId5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14" descr="http://www.soffice.vn/files/news/303/bbb35732-1d21-4811-81bd-83d195c7667b.JPG"/>
          <p:cNvPicPr/>
          <p:nvPr/>
        </p:nvPicPr>
        <p:blipFill>
          <a:blip r:embed="rId6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16" descr="http://www.soffice.vn/files/assets/canhcam/25-bis_daidien.jpg"/>
          <p:cNvPicPr/>
          <p:nvPr/>
        </p:nvPicPr>
        <p:blipFill>
          <a:blip r:embed="rId7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769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20BD-7C67-462B-8FC0-F42EC241EC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71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F757-2885-4087-97BF-E47BA1317D6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772" name="Picture 2" descr="http://www.executivespacesolutions.com/wp-content/uploads/Virtual-Office-Solutions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4"/>
          <p:cNvSpPr/>
          <p:nvPr/>
        </p:nvSpPr>
        <p:spPr>
          <a:xfrm>
            <a:off x="655308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6539-684E-491A-8AED-F4B06A3BC8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8" name="Date Placeholder 5"/>
          <p:cNvSpPr/>
          <p:nvPr/>
        </p:nvSpPr>
        <p:spPr>
          <a:xfrm>
            <a:off x="4572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4748-11D7-4BE3-A6D5-AD0489B95F2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743200" y="2133360"/>
            <a:ext cx="5943600" cy="5331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Khái quát về V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1" name="Horizontal Scroll 8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ƯƠNG TRÌNH MÔN HỌC (2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457200" y="1066680"/>
            <a:ext cx="8229600" cy="99072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ẦN 2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Ỹ THUẬT SOẠN THẢO, TRÌNH BÀY VB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3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4" name="Rounded Rectangle 10"/>
          <p:cNvSpPr/>
          <p:nvPr/>
        </p:nvSpPr>
        <p:spPr>
          <a:xfrm>
            <a:off x="457200" y="2133720"/>
            <a:ext cx="2209680" cy="53316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Chương 5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2743200" y="2743200"/>
            <a:ext cx="5943600" cy="5335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Thể thức, kỹ thuật trình bày VB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2743200" y="3352680"/>
            <a:ext cx="5943600" cy="9907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Phong cách ngôn ngữ trong VB hành chính - công vụ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2743200" y="4419720"/>
            <a:ext cx="5943600" cy="9903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Quy trình soạn thảo ban hành VB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2743200" y="5486400"/>
            <a:ext cx="5943600" cy="9907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Kỹ thuật soạn thảo, trình bày VB hành chính thông dụng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9" name="Rounded Rectangle 15"/>
          <p:cNvSpPr/>
          <p:nvPr/>
        </p:nvSpPr>
        <p:spPr>
          <a:xfrm>
            <a:off x="457200" y="2743200"/>
            <a:ext cx="2209680" cy="5335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Chương 6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0" name="Rounded Rectangle 16"/>
          <p:cNvSpPr/>
          <p:nvPr/>
        </p:nvSpPr>
        <p:spPr>
          <a:xfrm>
            <a:off x="457200" y="3352680"/>
            <a:ext cx="2209680" cy="9907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Chương 7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1" name="Rounded Rectangle 17"/>
          <p:cNvSpPr/>
          <p:nvPr/>
        </p:nvSpPr>
        <p:spPr>
          <a:xfrm>
            <a:off x="457200" y="4419720"/>
            <a:ext cx="2209680" cy="99036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Chương 8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2" name="Rounded Rectangle 18"/>
          <p:cNvSpPr/>
          <p:nvPr/>
        </p:nvSpPr>
        <p:spPr>
          <a:xfrm>
            <a:off x="457200" y="5486400"/>
            <a:ext cx="2209680" cy="9907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Chương 9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14F2-B812-4243-BC95-87B8AF7119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75" name="Date Placeholder 2"/>
          <p:cNvSpPr/>
          <p:nvPr/>
        </p:nvSpPr>
        <p:spPr>
          <a:xfrm>
            <a:off x="45720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50E1-8A21-4AD6-A696-5F2FF85EF87A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76" name="Rectangle 3"/>
          <p:cNvSpPr/>
          <p:nvPr/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1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Office?</a:t>
            </a:r>
            <a:br>
              <a:rPr sz="3600"/>
            </a:b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2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The basic functions of the office?</a:t>
            </a:r>
            <a:br>
              <a:rPr sz="3600"/>
            </a:b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3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Organizational structure of the office?</a:t>
            </a:r>
            <a:br>
              <a:rPr sz="3600"/>
            </a:b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4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The forms of the office?</a:t>
            </a:r>
            <a:br>
              <a:rPr sz="3600"/>
            </a:b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5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Analysis of the role of the office for agencies &amp; organizations?</a:t>
            </a:r>
            <a:br>
              <a:rPr sz="3600"/>
            </a:b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6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Office management methods, advantages &amp; disadvantages?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77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78" name="Horizontal Scroll 5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79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8DDA-97CF-4E22-8A3E-638A5B08C6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81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A9D5-CC35-4A13-8F60-F04E69E56B43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1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Văn phòng là gì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2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Các chức năng cơ bản của văn phò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3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Cơ cấu tổ chức văn phò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4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Các hình thức tổ chức văn phò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5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Phân tích vai trò của văn phòng đối với cơ quan, tổ chức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6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Nêu các phương pháp quản lý văn phòng, ưu nhược điể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84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ÂU HỎI ÔN TẬ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85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03:20:02Z</dcterms:created>
  <dc:creator>Bài giảng QTVP_Thầy Nam Hà</dc:creator>
  <dc:description/>
  <dc:language>en-US</dc:language>
  <cp:lastModifiedBy>ntc</cp:lastModifiedBy>
  <dcterms:modified xsi:type="dcterms:W3CDTF">2014-03-23T17:30:44Z</dcterms:modified>
  <cp:revision>677</cp:revision>
  <dc:subject/>
  <dc:title>Chương 1</dc:title>
</cp:coreProperties>
</file>