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7234-A0D2-4E13-828F-336BCFAA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CB3C5-9373-432F-818D-379C4A99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D763B-798B-49B4-9F40-2CECABF9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DF3B5-E291-4024-8834-1CC0AA62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A2BF-8D4E-48D4-9A70-7DC95D25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E951-CF0C-4019-9B32-90D91A25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B3B6-E424-4F4E-8145-AE54B724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C2DA-8792-4FF1-A8DF-A3638142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C510-5BA0-47AA-B66B-60474BF3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3A57-8872-45AA-8209-32BB9CFE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AD5B-07A7-45C7-BCD6-A0C56A64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E7998-AA56-4E57-94E0-50E09B34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947C-ED9C-4E95-A359-02D89B11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10ED-E1B7-4BFC-841C-B42B1B64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7A84-5742-4404-A81F-604DD5EB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8F4F-62C0-4A82-B5E8-94291F11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05C6-F9C6-4F80-BDAB-1AEF57BD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68913-6537-4B7A-B11C-2E49C7AD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38A9-E5E0-49FB-8588-6D3554C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B2657-EB67-41E2-B177-FB3A2DE0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E5BC-7A75-44C1-8312-6EAFD516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0B52-806D-4DD3-B903-A5A8E568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AAA7-A409-4E99-8DB7-F01C3C0E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F89CB-343C-4930-8B56-DB2018BA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15CB-B396-46D2-912C-AB09F505AF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D0A4-EC4D-4B7F-B9BB-48AEA295831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D7B8-0813-4FCF-97F3-8DB875ED596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F8EF-4FF3-4558-94F4-6306839B89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0043-F2E6-487B-AF9B-FA7DA110ED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8718-9076-4FCF-8B6D-0494D17A676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Bevel 5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30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2</a:t>
            </a:r>
            <a:endParaRPr b="0" lang="en-US" sz="5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RÌNH BÀY THÔNG BÁO</a:t>
            </a:r>
            <a:endParaRPr b="0" lang="en-US" sz="5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0" name="Frame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2B5B-9975-4E7B-9B33-06C3F757A7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C32E-84A5-4D3D-9644-9156A610B93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thông bá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hể ban hà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gọi, thời gian ban hà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óm tắt nội d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ời gian, phạm vi thực hiệ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Horizontal Scroll 5"/>
          <p:cNvSpPr/>
          <p:nvPr/>
        </p:nvSpPr>
        <p:spPr>
          <a:xfrm>
            <a:off x="304920" y="33480"/>
            <a:ext cx="8458200" cy="1490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2. THÔNG BÁO VỀ VĂN BẢN MỚI, CHỦ TRƯƠNG, CHÍNH S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D929-0765-47BD-97F9-F37FDC2A3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921D-5C90-48DF-8632-8707EA5B9C6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77" name="Picture 2" descr="http://www.khtc.ueh.edu.vn/Upload/TinTuc/ngansach.jpg"/>
          <p:cNvPicPr/>
          <p:nvPr/>
        </p:nvPicPr>
        <p:blipFill>
          <a:blip r:embed="rId1"/>
          <a:stretch/>
        </p:blipFill>
        <p:spPr>
          <a:xfrm>
            <a:off x="4552920" y="0"/>
            <a:ext cx="459108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http://pleiku.gialai.edu.vn/upload/editor/image/NH%202010-2011/157_SGD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049E-F3FD-42BC-9C3C-214314263D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3DD7-A835-4D15-B50E-A48BD1FA0B2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thông bá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sở pháp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ủa hoạt động 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ý do tiến hành hoạt động 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ời gian, phạm vi tiế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3" name="Horizontal Scroll 5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3. THÔNG BÁO VỀ HOẠT ĐỘNG QUẢN LÝ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0ECA-E52E-4E26-989B-6C27B45E61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0623-1312-4EDA-B206-C6A2C13A771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6" name="Picture 2" descr="http://www.lhu.edu.vn/Data/News/232/images/imageas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87" name="Picture 4" descr="http://forum.duytan.edu.vn/Uploads/5d012f50-a812-41ae-82f4-aef0fe54d287.pn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88" name="Picture 6" descr="http://www.vinacorp.vn/Upload/News/image/CTCP%20%C4%90%E1%BA%A1t%20Ph%C6%B0%C6%A1ng%20-%20Thong%20bao%20tra%20co%20tuc%20dot%202-sua.JPG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www.dlu.edu.vn/ImageUpload/2012322104218455scan0021.jpg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90" name="Frame 7"/>
          <p:cNvSpPr/>
          <p:nvPr/>
        </p:nvSpPr>
        <p:spPr>
          <a:xfrm>
            <a:off x="-7632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Frame 8"/>
          <p:cNvSpPr/>
          <p:nvPr/>
        </p:nvSpPr>
        <p:spPr>
          <a:xfrm>
            <a:off x="449568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5D60-D49B-4F52-B932-9358B0B591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2F42-D675-4DE5-AF6B-23B1E54B5C6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4" name="Picture 2" descr="http://haugiang.edu.vn/UserFiles/HEAD733/Image/Picture%2001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95" name="Picture 4" descr="http://www.vidipha.com.vn/tu%20lieu/DHCD%202012/chu%20ky%20moi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1B3A-1232-45D8-A301-ADB08790D8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5D07-4FE3-442E-B57C-CA7E68282D5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thông bá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óm tắt nhiệm vụ được gi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yêu cầu khi thực hiện nhiệm v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iện pháp cần áp dụng để hoàn thành nhiệm vụ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Horizontal Scroll 5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. THÔNG BÁO VỀ NHIỆM VỤ ĐƯỢC GI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0BA1-23CD-4EA3-82D4-4CCF604A3E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6E25-C2D8-437A-B382-CAED9A35270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03" name="Picture 2" descr="http://amc.edu.vn/Upload/Thong-bao-tap-chung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204" name="Picture 4" descr="http://www.shs.com.vn/Sites/QuoteVN/SiteRoot/documents/Doc/Thong%20b%C3%A1o%20website-%20VRG1.pn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05" name="Multiply 5"/>
          <p:cNvSpPr/>
          <p:nvPr/>
        </p:nvSpPr>
        <p:spPr>
          <a:xfrm>
            <a:off x="2209680" y="0"/>
            <a:ext cx="4724640" cy="6858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8FCD-9782-45C6-BCB0-48AB7498E5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1976-39AE-4DCE-B3D2-0976883B875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8C90-B90A-4068-B4BF-9849F0CCEB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4354-EDDA-4873-A058-FAD3AC7EADF0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1676520"/>
            <a:ext cx="91440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ÔNG BÁO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………...............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Kính gởi: ……………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Phaàn môû ñaàu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 Muïc ñích, chuû theå, thaåm quyeàn thoâng baùo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Phaàn noäi dung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 Nhöõng nội dung caàn thoâng baùo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Phaàn keát thuùc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 Yeâu caàu thöïc hieän, thôøi gian toå chöùc vaø hieäu löïc thi haønh, quy taéc xöû söï seõ ñöôïc aùp duïng neáu vi phaïm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3657600" y="274320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TB-GĐ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4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ÁM ĐỐ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hư trên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2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Frame 13"/>
          <p:cNvSpPr/>
          <p:nvPr/>
        </p:nvSpPr>
        <p:spPr>
          <a:xfrm>
            <a:off x="-76320" y="0"/>
            <a:ext cx="9220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41F3-84D2-4887-A294-95301D017C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5214-62E9-4319-99CD-9658718BB92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52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yêu cầu của thông bá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ấu trúc của thông báo và những nội dung chính của các loại thông bá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3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380988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oạn Thông báo của GĐ Cty TNHH Hòa Bình gửi Phòng Đăng ký kinh doanh – Sở KH&amp;ĐT TP.HCM và Chi cục Thuế quận Gò Vấp về việc thay đổi địa chỉ trụ sở Cty. (30 phút) 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5" name="Horizontal Scroll 7"/>
          <p:cNvSpPr/>
          <p:nvPr/>
        </p:nvSpPr>
        <p:spPr>
          <a:xfrm>
            <a:off x="304920" y="285264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ÀI TẬP TRÊN LỚ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73C4-531F-4346-BD4B-CE486C024E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32B5-2CDB-4305-BA04-ACA3B104C92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3" name="Bevel 3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30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2</a:t>
            </a:r>
            <a:endParaRPr b="0" lang="en-US" sz="5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RÌNH BÀY THÔNG BÁO</a:t>
            </a:r>
            <a:endParaRPr b="0" lang="en-US" sz="5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F31F-0559-4EED-87AF-FB00510B38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0782-9522-4CB6-9431-0BAF9D7C383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502920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ái niệm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Yêu cầu của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ấu trúc của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loại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ài tậ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21" name="Picture 6" descr="http://choigame24h.net/thanh-cat-tu-han/wp-content/uploads/2012/11/thong-bao.png"/>
          <p:cNvPicPr/>
          <p:nvPr/>
        </p:nvPicPr>
        <p:blipFill>
          <a:blip r:embed="rId1"/>
          <a:stretch/>
        </p:blipFill>
        <p:spPr>
          <a:xfrm>
            <a:off x="5486400" y="1143000"/>
            <a:ext cx="3200400" cy="51814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22" name="Frame 7"/>
          <p:cNvSpPr/>
          <p:nvPr/>
        </p:nvSpPr>
        <p:spPr>
          <a:xfrm>
            <a:off x="380880" y="1066680"/>
            <a:ext cx="8305920" cy="533412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3693-DEF7-411C-8654-573059C6E6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B0D3-7CB1-4D9B-902A-C72F44AA356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52578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à loại văn bản hành chính đa nă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uyền đạt quyết định, tin tức, sự việ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ông tin về hoạt động của CQ, 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uyền đạt chủ trương, chính sá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KHÁI NIỆ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28" name="Picture 6" descr="http://cite.ueb.edu.vn/sites/default/files/thongbao_4.jpg"/>
          <p:cNvPicPr/>
          <p:nvPr/>
        </p:nvPicPr>
        <p:blipFill>
          <a:blip r:embed="rId1"/>
          <a:stretch/>
        </p:blipFill>
        <p:spPr>
          <a:xfrm>
            <a:off x="5791320" y="990720"/>
            <a:ext cx="2914560" cy="5410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D287-8219-4852-AC6F-D113E345F8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41D0-1F29-4EAF-818B-4A41E323CE6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ông tin nhanh chóng, kịp thờ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ắn gọn, cụ thể, dễ hiể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ông lập luận, nhận định dài dò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Xác định rõ nội dung cần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Xác định mục đích và thẩm quyền ra thông bá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YÊU CẨU CỦA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4" name="Picture 6" descr="http://us.123rf.com/400wm/400/400/snake3d/snake3d1103/snake3d110300038/9099154-propaganda-megafono-annunciare-originale-elegante-altoparlante-colorato-notizie-multimediali-blog-on.jpg"/>
          <p:cNvPicPr/>
          <p:nvPr/>
        </p:nvPicPr>
        <p:blipFill>
          <a:blip r:embed="rId1"/>
          <a:stretch/>
        </p:blipFill>
        <p:spPr>
          <a:xfrm>
            <a:off x="4572000" y="4419720"/>
            <a:ext cx="4114800" cy="1981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8055-7E26-4084-8F5F-E7B50E540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4661-83B9-4096-B8F2-402F3CFC541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752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i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ần mở đầu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Nêu mục đích, chủ thể, thẩm quyền ra thông báo, đối tượng nhận thông bá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9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ẤU TRÚC CỦA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57200" y="3124080"/>
            <a:ext cx="8229600" cy="8384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i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ần nội dung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Nội dung cần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i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ần kết thúc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Nhấn mạnh nội dung cần thông báo, xác định thời hạn có hiệu lực và quy tắc xử sự sẽ áp dụng nếu có vi phạm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Horizontal Scroll 9"/>
          <p:cNvSpPr/>
          <p:nvPr/>
        </p:nvSpPr>
        <p:spPr>
          <a:xfrm>
            <a:off x="457200" y="1066680"/>
            <a:ext cx="35053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mở đ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Horizontal Scroll 10"/>
          <p:cNvSpPr/>
          <p:nvPr/>
        </p:nvSpPr>
        <p:spPr>
          <a:xfrm>
            <a:off x="457200" y="3048120"/>
            <a:ext cx="350532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Horizontal Scroll 11"/>
          <p:cNvSpPr/>
          <p:nvPr/>
        </p:nvSpPr>
        <p:spPr>
          <a:xfrm>
            <a:off x="457200" y="4038480"/>
            <a:ext cx="35053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kết thú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3ED7-ECF4-42FB-9049-70A07D167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E076-366A-42FD-98F8-EAA76195F5B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CÁC LOẠI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Oval 10"/>
          <p:cNvSpPr/>
          <p:nvPr/>
        </p:nvSpPr>
        <p:spPr>
          <a:xfrm>
            <a:off x="380880" y="114300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380880" y="243828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Oval 12"/>
          <p:cNvSpPr/>
          <p:nvPr/>
        </p:nvSpPr>
        <p:spPr>
          <a:xfrm>
            <a:off x="380880" y="373392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380880" y="502920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14264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sự việ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1676520" y="243828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văn bản mới, chủ trương, chính s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Title 1"/>
          <p:cNvSpPr/>
          <p:nvPr/>
        </p:nvSpPr>
        <p:spPr>
          <a:xfrm>
            <a:off x="1676520" y="373392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hoạt động quản lý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1676520" y="502920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nhiệm vụ được gi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3A38-A199-4C5A-A6B6-500DEC5D30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56AF-DA8F-4B08-8F7E-081CE29023E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57200" y="106668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ội nghị, hội chợ, triển lãm, sự kiện, vụ việc…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hính cần thông báo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hể tiến hành, mục đích, thời gian, thời hạn, địa điểm, thành phần, đối tượng tham dự…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, kết quả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1. THÔNG BÁO VỀ SỰ VIỆ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7D57-3BD7-405A-B15D-BC676E0662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452D-C6DB-454B-98F9-FAA4D8B10F9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64" name="Picture 2" descr="http://www.ued.edu.vn/khoatamlygiaoduc/file.php/1/KHOA_TAM_LY_/TB_so_2_HNNCKH_DHDN_nam_2012.jpg"/>
          <p:cNvPicPr/>
          <p:nvPr/>
        </p:nvPicPr>
        <p:blipFill>
          <a:blip r:embed="rId1"/>
          <a:stretch/>
        </p:blipFill>
        <p:spPr>
          <a:xfrm>
            <a:off x="0" y="-9360"/>
            <a:ext cx="4572000" cy="68673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65" name="Picture 4" descr="http://ulsasontay.edu.vn/upload/images/hncbvc0001.jpg"/>
          <p:cNvPicPr/>
          <p:nvPr/>
        </p:nvPicPr>
        <p:blipFill>
          <a:blip r:embed="rId2"/>
          <a:stretch/>
        </p:blipFill>
        <p:spPr>
          <a:xfrm>
            <a:off x="4591080" y="0"/>
            <a:ext cx="455292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66" name="Picture 6" descr="http://www.hcmuarc.edu.vn/upload/product/resize/1359001125_picture-220www.jpg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67" name="Frame 7"/>
          <p:cNvSpPr/>
          <p:nvPr/>
        </p:nvSpPr>
        <p:spPr>
          <a:xfrm>
            <a:off x="-7632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Frame 8"/>
          <p:cNvSpPr/>
          <p:nvPr/>
        </p:nvSpPr>
        <p:spPr>
          <a:xfrm>
            <a:off x="449568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69" name="Picture 8" descr="http://www.ueh.edu.vn/userfiles/image/ImgVanBan/P_TC-HC/Nam2011/1306_TB_DHKT.gif"/>
          <p:cNvPicPr/>
          <p:nvPr/>
        </p:nvPicPr>
        <p:blipFill>
          <a:blip r:embed="rId4"/>
          <a:stretch/>
        </p:blipFill>
        <p:spPr>
          <a:xfrm>
            <a:off x="0" y="152280"/>
            <a:ext cx="4572000" cy="655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10-23T03:21:00Z</dcterms:modified>
  <cp:revision>314</cp:revision>
  <dc:subject/>
  <dc:title>Chương 9.2</dc:title>
</cp:coreProperties>
</file>