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561566-896E-465E-871D-1CD3270B0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D85F48-3369-4DA2-A025-DEDA3E57B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5DA956-1197-4963-B782-273E83464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7FF727-0934-4564-AF90-EFB6E4646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105AD-6D1C-4772-A5ED-643D99FC6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BEE8A-4674-464D-A538-765F96466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A79F9-FFE5-4810-AD04-030A52EB5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F1C52-62D1-4A51-9753-D669FBD00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530DF-6FAE-40B6-BC09-F6F271D0B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43415-1F20-4668-8795-3CC84F43F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0D591-C2E1-405B-A53E-BBD0E412F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1E9AAE-72D8-4CF1-A0AB-43CE6CFC6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0D01B-C71A-4A49-9640-17CC2B689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D2CDE-422D-40E2-8F3A-5D204CDBD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4A826-88B7-4ED1-9BC7-72880E2C7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7A75E-286C-499E-92DB-8DBE44AA1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ABF82-E8E9-42CA-A822-72BF9D7BE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B4AFF-A182-43F8-9E89-B9356A13A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06E2D9-AFCD-491F-8F12-4F0A0A22C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49B5F0-BF63-48B2-8220-B01A97501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0BF1D-A1D0-40A5-81A3-25074DC8B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20982C-D2FF-4015-A2F8-D298B7555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BE5D6D-B0BA-4F39-AC73-52D6A2E33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9685D1-17B3-41BA-8EF6-C38A7C10E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90B15-3DA1-4A73-9F46-65D54EEDBD5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F3CF6-0FFC-47C4-9DEE-06DE8C280BBC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68459-29D4-4E39-A56B-0D85357FF805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6EACC-5D3A-41CC-90D0-50B702F7D6C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vanban.chinhphu.vn/portal/page/portal/chinhphu/hethongvanban?class_id=1&amp;_page=1&amp;mode=detail&amp;document_id=166075" TargetMode="External"/><Relationship Id="rId2" Type="http://schemas.openxmlformats.org/officeDocument/2006/relationships/hyperlink" Target="http://vanban.chinhphu.vn/portal/page/portal/chinhphu/hethongvanban?class_id=1&amp;_page=1&amp;mode=detail&amp;document_id=166075" TargetMode="External"/><Relationship Id="rId3" Type="http://schemas.openxmlformats.org/officeDocument/2006/relationships/hyperlink" Target="http://vanban.chinhphu.vn/portal/page/portal/chinhphu/hethongvanban?class_id=1&amp;_page=1&amp;mode=detail&amp;document_id=165442" TargetMode="External"/><Relationship Id="rId4" Type="http://schemas.openxmlformats.org/officeDocument/2006/relationships/hyperlink" Target="http://vanban.chinhphu.vn/portal/page/portal/chinhphu/hethongvanban?class_id=1&amp;_page=1&amp;mode=detail&amp;document_id=165872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C47D2-D789-4226-BEC9-071DE7A242B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07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1A94E-909B-40D4-B0FD-41F9084A598C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76320" y="0"/>
            <a:ext cx="9067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CHƯƠNG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KỸ THUẬ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SOẠN THẢO &amp; TRÌNH BÀ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VĂN BẢN HÀNH CHÍN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rame 5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000029"/>
          </a:solidFill>
          <a:ln w="9360">
            <a:solidFill>
              <a:srgbClr val="0000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10" name="Minus 6"/>
          <p:cNvSpPr/>
          <p:nvPr/>
        </p:nvSpPr>
        <p:spPr>
          <a:xfrm>
            <a:off x="2666880" y="1676520"/>
            <a:ext cx="3886200" cy="228600"/>
          </a:xfrm>
          <a:prstGeom prst="pie">
            <a:avLst/>
          </a:prstGeom>
          <a:solidFill>
            <a:srgbClr val="000029"/>
          </a:solidFill>
          <a:ln w="9360">
            <a:solidFill>
              <a:srgbClr val="0000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-44280"/>
            <a:ext cx="9144000" cy="773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4680" rIns="94680" tIns="51480" bIns="514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B2F7A-61D1-4101-9719-16E0FFF8CBC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84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FAA66-469B-4ECC-820E-0F8E95866765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457200" y="838080"/>
            <a:ext cx="4114800" cy="556272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Quy định chế độ, chính sách trong nội bộ tổ chức.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Quyết định công tác nhân sự, lao động tiền lương, sản xuất kinh doanh ...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86" name="Horizontal Scroll 5"/>
          <p:cNvSpPr/>
          <p:nvPr/>
        </p:nvSpPr>
        <p:spPr>
          <a:xfrm>
            <a:off x="304920" y="76320"/>
            <a:ext cx="8534160" cy="83808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2. QUYẾT ĐỊNH HÀNH CHÍNH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187" name="Picture 2" descr="http://ud.udn.vn/Vanban%5CQD_DHDN%5C2010%5C5342-QD-BGDDT.jpg"/>
          <p:cNvPicPr/>
          <p:nvPr/>
        </p:nvPicPr>
        <p:blipFill>
          <a:blip r:embed="rId1"/>
          <a:stretch/>
        </p:blipFill>
        <p:spPr>
          <a:xfrm>
            <a:off x="4572000" y="838080"/>
            <a:ext cx="4191120" cy="5562720"/>
          </a:xfrm>
          <a:prstGeom prst="rect">
            <a:avLst/>
          </a:prstGeom>
          <a:ln w="9360">
            <a:solidFill>
              <a:srgbClr val="00002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CADD2-A2A3-402D-A93E-8BEFB0FEEEF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89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080E4-6F4F-480B-8B92-D76D4AA5BA75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90" name="Rectangle 3"/>
          <p:cNvSpPr/>
          <p:nvPr/>
        </p:nvSpPr>
        <p:spPr>
          <a:xfrm>
            <a:off x="457200" y="762120"/>
            <a:ext cx="4114800" cy="56386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Tiến hành các thủ tục điều tra, truy tố, xét xử các vụ án hình sự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Giải quyết các vụ án dân sự, thương mại, hành chính, lao động tại Tòa án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Thi hành án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91" name="Rectangle 6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92" name="Horizontal Scroll 7"/>
          <p:cNvSpPr/>
          <p:nvPr/>
        </p:nvSpPr>
        <p:spPr>
          <a:xfrm>
            <a:off x="304920" y="0"/>
            <a:ext cx="8534160" cy="83808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3. QUYẾT ĐỊNH TƯ PHÁP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193" name="Picture 4" descr="http://dantrivn.files.wordpress.com/2012/05/1-quyet-dinh-khoi-to-vu-an.jpg"/>
          <p:cNvPicPr/>
          <p:nvPr/>
        </p:nvPicPr>
        <p:blipFill>
          <a:blip r:embed="rId1"/>
          <a:stretch/>
        </p:blipFill>
        <p:spPr>
          <a:xfrm>
            <a:off x="4686480" y="762120"/>
            <a:ext cx="4076640" cy="5638680"/>
          </a:xfrm>
          <a:prstGeom prst="rect">
            <a:avLst/>
          </a:prstGeom>
          <a:ln w="9360">
            <a:solidFill>
              <a:srgbClr val="00002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B13B8-FFD0-4E1A-8EE9-C478FE4126A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95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C3A81-ED86-42EF-ABB6-EEC13169E984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196" name="Picture 2" descr="http://3.bp.blogspot.com/_pzFtZGcCch4/TOW7KhiJSBI/AAAAAAAACas/nw_6MZi72Ss/s1600/untitled.JPG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4" descr="http://2.bp.blogspot.com/_pzFtZGcCch4/TOW8iwKXwBI/AAAAAAAACa8/N2JwBXQxwxg/s1600/untitled.JPG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0AA55-1F3F-4113-84EC-5B5B667E63F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99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A7803-69C7-47C9-A799-C19EC99D6B48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8144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Chủ tịch nước, Thủ tướng Chính phủ, Tổng Kiểm toán Nhà nước, Ủy ban nhân dân các cấp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title"/>
          </p:nvPr>
        </p:nvSpPr>
        <p:spPr>
          <a:xfrm>
            <a:off x="0" y="-44280"/>
            <a:ext cx="9144000" cy="773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4680" rIns="94680" tIns="51480" bIns="514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Horizontal Scroll 6"/>
          <p:cNvSpPr/>
          <p:nvPr/>
        </p:nvSpPr>
        <p:spPr>
          <a:xfrm>
            <a:off x="304920" y="76320"/>
            <a:ext cx="8458200" cy="9144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THẨM QUYỀN BAN HÀNH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03" name="Horizontal Scroll 7"/>
          <p:cNvSpPr/>
          <p:nvPr/>
        </p:nvSpPr>
        <p:spPr>
          <a:xfrm>
            <a:off x="380880" y="990720"/>
            <a:ext cx="8382240" cy="83808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1. QUYẾT ĐỊNH QPPL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04" name="Rectangle 3"/>
          <p:cNvSpPr/>
          <p:nvPr/>
        </p:nvSpPr>
        <p:spPr>
          <a:xfrm>
            <a:off x="457200" y="4648320"/>
            <a:ext cx="8229600" cy="167616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Người đứng đầu cơ quan, tổ chức, đơn vị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05" name="Horizontal Scroll 9"/>
          <p:cNvSpPr/>
          <p:nvPr/>
        </p:nvSpPr>
        <p:spPr>
          <a:xfrm>
            <a:off x="380880" y="3886200"/>
            <a:ext cx="8382240" cy="83808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2. QUYẾT ĐỊNH HÀNH CHÍNH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-6120"/>
            <a:ext cx="9144000" cy="773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4680" rIns="94680" tIns="51480" bIns="514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1F3D9-EEF6-4D55-BAFA-6B9D52E3F25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0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08519-318D-4D54-A80E-CD78E2C6C3AA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09" name="Rectangle 3"/>
          <p:cNvSpPr/>
          <p:nvPr/>
        </p:nvSpPr>
        <p:spPr>
          <a:xfrm>
            <a:off x="457200" y="838080"/>
            <a:ext cx="8229600" cy="556272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Thủ trưởng các cơ quan tư pháp: Cơ quan điều tra, Viện kiểm sát, Tòa án, Thi hành án.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Các chức danh tư pháp: Điều tra viên, Kiểm sát viên, Thẩm phán, Chấp hành viên.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10" name="Horizontal Scroll 5"/>
          <p:cNvSpPr/>
          <p:nvPr/>
        </p:nvSpPr>
        <p:spPr>
          <a:xfrm>
            <a:off x="380880" y="76320"/>
            <a:ext cx="8382240" cy="83808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3. QUYẾT ĐỊNH TƯ PHÁP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055C4-0741-4608-9776-E66D729F925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12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F1730-8AD4-4561-BE40-AD443F7FFF44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304560" y="1447920"/>
            <a:ext cx="1447560" cy="4114800"/>
          </a:xfrm>
          <a:prstGeom prst="rect">
            <a:avLst/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1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1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I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1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HẦ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title"/>
          </p:nvPr>
        </p:nvSpPr>
        <p:spPr>
          <a:xfrm>
            <a:off x="0" y="-44280"/>
            <a:ext cx="9144000" cy="773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4680" rIns="94680" tIns="51480" bIns="514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Horizontal Scroll 6"/>
          <p:cNvSpPr/>
          <p:nvPr/>
        </p:nvSpPr>
        <p:spPr>
          <a:xfrm>
            <a:off x="304920" y="76320"/>
            <a:ext cx="8458200" cy="83808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CẤU TRÚC CỦA QUYẾT ĐỊNH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16" name="Right Arrow 10"/>
          <p:cNvSpPr/>
          <p:nvPr/>
        </p:nvSpPr>
        <p:spPr>
          <a:xfrm>
            <a:off x="1841400" y="1447920"/>
            <a:ext cx="825480" cy="16761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0029"/>
          </a:solidFill>
          <a:ln w="9360">
            <a:solidFill>
              <a:srgbClr val="0000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17" name="Right Arrow 11"/>
          <p:cNvSpPr/>
          <p:nvPr/>
        </p:nvSpPr>
        <p:spPr>
          <a:xfrm>
            <a:off x="1841400" y="3886200"/>
            <a:ext cx="825480" cy="16765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0029"/>
          </a:solidFill>
          <a:ln w="9360">
            <a:solidFill>
              <a:srgbClr val="0000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18" name="Rounded Rectangle 12"/>
          <p:cNvSpPr/>
          <p:nvPr/>
        </p:nvSpPr>
        <p:spPr>
          <a:xfrm>
            <a:off x="2743200" y="1447920"/>
            <a:ext cx="5867280" cy="1676160"/>
          </a:xfrm>
          <a:prstGeom prst="roundRect">
            <a:avLst>
              <a:gd name="adj" fmla="val 30458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ĂN CỨ BAN HÀNH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19" name="Rounded Rectangle 13"/>
          <p:cNvSpPr/>
          <p:nvPr/>
        </p:nvSpPr>
        <p:spPr>
          <a:xfrm>
            <a:off x="2743200" y="3886200"/>
            <a:ext cx="5867280" cy="1676520"/>
          </a:xfrm>
          <a:prstGeom prst="roundRect">
            <a:avLst>
              <a:gd name="adj" fmla="val 30458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ỘI DUNG ĐIỀU CHỈNH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F0C18-7261-4B07-9CF2-44533956278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21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C76C9-771D-4666-A3D3-EBBAD1418207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grpSp>
        <p:nvGrpSpPr>
          <p:cNvPr id="222" name="Group 14"/>
          <p:cNvGrpSpPr/>
          <p:nvPr/>
        </p:nvGrpSpPr>
        <p:grpSpPr>
          <a:xfrm>
            <a:off x="304920" y="1219320"/>
            <a:ext cx="8458200" cy="4952880"/>
            <a:chOff x="304920" y="1219320"/>
            <a:chExt cx="8458200" cy="4952880"/>
          </a:xfrm>
        </p:grpSpPr>
        <p:sp>
          <p:nvSpPr>
            <p:cNvPr id="223" name="Rectangle 4"/>
            <p:cNvSpPr/>
            <p:nvPr/>
          </p:nvSpPr>
          <p:spPr>
            <a:xfrm>
              <a:off x="304920" y="3352680"/>
              <a:ext cx="2666880" cy="1752480"/>
            </a:xfrm>
            <a:prstGeom prst="rect">
              <a:avLst/>
            </a:prstGeom>
            <a:solidFill>
              <a:srgbClr val="000029"/>
            </a:solidFill>
            <a:ln w="57240">
              <a:solidFill>
                <a:srgbClr val="0000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ĂN CỨ</a:t>
              </a: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BAN HÀNH</a:t>
              </a: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224" name="Rectangle 5"/>
            <p:cNvSpPr/>
            <p:nvPr/>
          </p:nvSpPr>
          <p:spPr>
            <a:xfrm>
              <a:off x="3581640" y="2362320"/>
              <a:ext cx="2361960" cy="1676160"/>
            </a:xfrm>
            <a:prstGeom prst="rect">
              <a:avLst/>
            </a:prstGeom>
            <a:solidFill>
              <a:srgbClr val="000029"/>
            </a:solidFill>
            <a:ln w="57240">
              <a:solidFill>
                <a:srgbClr val="0000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ĂN CỨ</a:t>
              </a:r>
              <a:endParaRPr b="0" lang="en-US" sz="2800" spc="-1" strike="noStrike">
                <a:solidFill>
                  <a:srgbClr val="000000"/>
                </a:solidFill>
                <a:latin typeface="VNI-Time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HÁP LÝ</a:t>
              </a:r>
              <a:endParaRPr b="0" lang="en-US" sz="28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225" name="Rectangle 7"/>
            <p:cNvSpPr/>
            <p:nvPr/>
          </p:nvSpPr>
          <p:spPr>
            <a:xfrm>
              <a:off x="3581640" y="4419720"/>
              <a:ext cx="2361960" cy="1752480"/>
            </a:xfrm>
            <a:prstGeom prst="rect">
              <a:avLst/>
            </a:prstGeom>
            <a:solidFill>
              <a:srgbClr val="000029"/>
            </a:solidFill>
            <a:ln w="57240">
              <a:solidFill>
                <a:srgbClr val="0000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ĂN CỨ</a:t>
              </a:r>
              <a:endParaRPr b="0" lang="en-US" sz="2800" spc="-1" strike="noStrike">
                <a:solidFill>
                  <a:srgbClr val="000000"/>
                </a:solidFill>
                <a:latin typeface="VNI-Time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HỰC TẾ</a:t>
              </a:r>
              <a:endParaRPr b="0" lang="en-US" sz="28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226" name="Rectangle 8"/>
            <p:cNvSpPr/>
            <p:nvPr/>
          </p:nvSpPr>
          <p:spPr>
            <a:xfrm>
              <a:off x="6477120" y="1219320"/>
              <a:ext cx="2286000" cy="1752480"/>
            </a:xfrm>
            <a:prstGeom prst="rect">
              <a:avLst/>
            </a:prstGeom>
            <a:solidFill>
              <a:srgbClr val="000029"/>
            </a:solidFill>
            <a:ln w="57240">
              <a:solidFill>
                <a:srgbClr val="0000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ĂN CỨ</a:t>
              </a:r>
              <a:endParaRPr b="0" lang="en-US" sz="2800" spc="-1" strike="noStrike">
                <a:solidFill>
                  <a:srgbClr val="000000"/>
                </a:solidFill>
                <a:latin typeface="VNI-Time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HẨM</a:t>
              </a:r>
              <a:endParaRPr b="0" lang="en-US" sz="2800" spc="-1" strike="noStrike">
                <a:solidFill>
                  <a:srgbClr val="000000"/>
                </a:solidFill>
                <a:latin typeface="VNI-Time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QUYỀN</a:t>
              </a:r>
              <a:endParaRPr b="0" lang="en-US" sz="28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227" name="Rectangle 9"/>
            <p:cNvSpPr/>
            <p:nvPr/>
          </p:nvSpPr>
          <p:spPr>
            <a:xfrm>
              <a:off x="6477120" y="3276720"/>
              <a:ext cx="2286000" cy="1752480"/>
            </a:xfrm>
            <a:prstGeom prst="rect">
              <a:avLst/>
            </a:prstGeom>
            <a:solidFill>
              <a:srgbClr val="000029"/>
            </a:solidFill>
            <a:ln w="57240">
              <a:solidFill>
                <a:srgbClr val="0000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ĂN CỨ</a:t>
              </a:r>
              <a:endParaRPr b="0" lang="en-US" sz="2800" spc="-1" strike="noStrike">
                <a:solidFill>
                  <a:srgbClr val="000000"/>
                </a:solidFill>
                <a:latin typeface="VNI-Time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ÁP DỤNG</a:t>
              </a:r>
              <a:endParaRPr b="0" lang="en-US" sz="28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228" name="AutoShape 14"/>
            <p:cNvSpPr/>
            <p:nvPr/>
          </p:nvSpPr>
          <p:spPr>
            <a:xfrm>
              <a:off x="3048120" y="2362320"/>
              <a:ext cx="457200" cy="3809880"/>
            </a:xfrm>
            <a:custGeom>
              <a:avLst/>
              <a:gdLst>
                <a:gd name="textAreaLeft" fmla="*/ 292320 w 457200"/>
                <a:gd name="textAreaRight" fmla="*/ 457560 w 457200"/>
                <a:gd name="textAreaTop" fmla="*/ 120600 h 3809880"/>
                <a:gd name="textAreaBottom" fmla="*/ 3689280 h 3809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093"/>
                    <a:pt x="10800" y="2186"/>
                  </a:cubicBezTo>
                  <a:lnTo>
                    <a:pt x="10800" y="8614"/>
                  </a:lnTo>
                  <a:cubicBezTo>
                    <a:pt x="10800" y="9707"/>
                    <a:pt x="5400" y="10800"/>
                    <a:pt x="0" y="10800"/>
                  </a:cubicBezTo>
                  <a:cubicBezTo>
                    <a:pt x="5400" y="10800"/>
                    <a:pt x="10800" y="11893"/>
                    <a:pt x="10800" y="12986"/>
                  </a:cubicBezTo>
                  <a:lnTo>
                    <a:pt x="10800" y="19414"/>
                  </a:lnTo>
                  <a:cubicBezTo>
                    <a:pt x="10800" y="20507"/>
                    <a:pt x="16200" y="21600"/>
                    <a:pt x="21600" y="21600"/>
                  </a:cubicBezTo>
                </a:path>
              </a:pathLst>
            </a:custGeom>
            <a:solidFill>
              <a:srgbClr val="000029"/>
            </a:solidFill>
            <a:ln w="57240">
              <a:solidFill>
                <a:srgbClr val="0000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229" name="AutoShape 15"/>
            <p:cNvSpPr/>
            <p:nvPr/>
          </p:nvSpPr>
          <p:spPr>
            <a:xfrm>
              <a:off x="5943600" y="1219320"/>
              <a:ext cx="457200" cy="3809880"/>
            </a:xfrm>
            <a:custGeom>
              <a:avLst/>
              <a:gdLst>
                <a:gd name="textAreaLeft" fmla="*/ 292320 w 457200"/>
                <a:gd name="textAreaRight" fmla="*/ 457560 w 457200"/>
                <a:gd name="textAreaTop" fmla="*/ 106920 h 3809880"/>
                <a:gd name="textAreaBottom" fmla="*/ 3702960 h 3809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69"/>
                    <a:pt x="10800" y="1937"/>
                  </a:cubicBezTo>
                  <a:lnTo>
                    <a:pt x="10800" y="8863"/>
                  </a:lnTo>
                  <a:cubicBezTo>
                    <a:pt x="10800" y="9832"/>
                    <a:pt x="5400" y="10800"/>
                    <a:pt x="0" y="10800"/>
                  </a:cubicBezTo>
                  <a:cubicBezTo>
                    <a:pt x="5400" y="10800"/>
                    <a:pt x="10800" y="11769"/>
                    <a:pt x="10800" y="12737"/>
                  </a:cubicBezTo>
                  <a:lnTo>
                    <a:pt x="10800" y="19663"/>
                  </a:lnTo>
                  <a:cubicBezTo>
                    <a:pt x="10800" y="20632"/>
                    <a:pt x="16200" y="21600"/>
                    <a:pt x="21600" y="21600"/>
                  </a:cubicBezTo>
                </a:path>
              </a:pathLst>
            </a:custGeom>
            <a:solidFill>
              <a:srgbClr val="000029"/>
            </a:solidFill>
            <a:ln w="57240">
              <a:solidFill>
                <a:srgbClr val="0000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</p:grp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0" y="-44280"/>
            <a:ext cx="9144000" cy="773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4680" rIns="94680" tIns="51480" bIns="514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Horizontal Scroll 13"/>
          <p:cNvSpPr/>
          <p:nvPr/>
        </p:nvSpPr>
        <p:spPr>
          <a:xfrm>
            <a:off x="304920" y="76320"/>
            <a:ext cx="8458200" cy="83808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1. CĂN CỨ BAN HÀNH (1)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AE059-5E39-42E5-86B3-7BE7CADADB3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33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894A7-4436-4816-AF3C-0C929D15E625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457200" y="1447920"/>
            <a:ext cx="8229600" cy="121896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 fontScale="93000"/>
          </a:bodyPr>
          <a:p>
            <a:pPr marL="31896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Chứng minh quyền hạn của chủ thể ban hành QĐ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title"/>
          </p:nvPr>
        </p:nvSpPr>
        <p:spPr>
          <a:xfrm>
            <a:off x="0" y="-44280"/>
            <a:ext cx="9144000" cy="773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4680" rIns="94680" tIns="51480" bIns="514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Horizontal Scroll 6"/>
          <p:cNvSpPr/>
          <p:nvPr/>
        </p:nvSpPr>
        <p:spPr>
          <a:xfrm>
            <a:off x="304920" y="0"/>
            <a:ext cx="8458200" cy="83808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1. CĂN CỨ BAN HÀNH (2)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37" name="Horizontal Scroll 7"/>
          <p:cNvSpPr/>
          <p:nvPr/>
        </p:nvSpPr>
        <p:spPr>
          <a:xfrm>
            <a:off x="380880" y="762120"/>
            <a:ext cx="5105520" cy="76176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ĂN CỨ THẨM QUYỀN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38" name="Rectangle 3"/>
          <p:cNvSpPr/>
          <p:nvPr/>
        </p:nvSpPr>
        <p:spPr>
          <a:xfrm>
            <a:off x="457200" y="3352680"/>
            <a:ext cx="8229600" cy="121932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Cơ sở pháp lý sử dụng trong nội dung điều chỉnh của QĐ.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39" name="Horizontal Scroll 9"/>
          <p:cNvSpPr/>
          <p:nvPr/>
        </p:nvSpPr>
        <p:spPr>
          <a:xfrm>
            <a:off x="380880" y="2666880"/>
            <a:ext cx="4191120" cy="76212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ĂN CỨ ÁP DỤNG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40" name="Rectangle 3"/>
          <p:cNvSpPr/>
          <p:nvPr/>
        </p:nvSpPr>
        <p:spPr>
          <a:xfrm>
            <a:off x="457200" y="5181480"/>
            <a:ext cx="8229600" cy="121932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Điều kiện hoặc cơ sở thực tiễn để ban hành QĐ.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41" name="Horizontal Scroll 11"/>
          <p:cNvSpPr/>
          <p:nvPr/>
        </p:nvSpPr>
        <p:spPr>
          <a:xfrm>
            <a:off x="380880" y="4495680"/>
            <a:ext cx="4191120" cy="76212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ĂN CỨ THỰC TẾ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0A516-1F0C-4F81-A83B-0EFB6D93084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43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30BFE-748E-4733-9E07-E3913C39589D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457200" y="2895120"/>
            <a:ext cx="8229600" cy="350532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Điều 1: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Quy định về hành vi, đối tượng, mức độ và thời gian điều chỉn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Điều 2: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Điều khoản thi hàn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(ngày có hiệu lực của Quyết định; người có trách nhiệm thi hành Quyết định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title"/>
          </p:nvPr>
        </p:nvSpPr>
        <p:spPr>
          <a:xfrm>
            <a:off x="0" y="-44280"/>
            <a:ext cx="9144000" cy="773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4680" rIns="94680" tIns="51480" bIns="514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Horizontal Scroll 6"/>
          <p:cNvSpPr/>
          <p:nvPr/>
        </p:nvSpPr>
        <p:spPr>
          <a:xfrm>
            <a:off x="380880" y="76320"/>
            <a:ext cx="8305920" cy="83808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2. NỘI DUNG ĐIỀU CHỈNH (1)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47" name="Rectangle 7"/>
          <p:cNvSpPr/>
          <p:nvPr/>
        </p:nvSpPr>
        <p:spPr>
          <a:xfrm>
            <a:off x="457200" y="1066680"/>
            <a:ext cx="8229600" cy="1752840"/>
          </a:xfrm>
          <a:prstGeom prst="rect">
            <a:avLst/>
          </a:prstGeom>
          <a:solidFill>
            <a:srgbClr val="000029"/>
          </a:solidFill>
          <a:ln w="9360">
            <a:solidFill>
              <a:srgbClr val="0000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YẾT ĐỊNH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/v nâng lương, khen thưởng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2 Điều) *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5FD20-5725-4290-B754-ED628C7BDE4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49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B70FC-EC22-45CA-AF88-1A54F4F40433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457200" y="2895120"/>
            <a:ext cx="8229600" cy="350532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Điều 1: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Quy định về hành vi, đối tượng, mức độ và thời gian điều chỉn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Điều 2: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Quy định lương, phụ cấp, trợ cấp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Điều 3: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Điều khoản thi hàn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title"/>
          </p:nvPr>
        </p:nvSpPr>
        <p:spPr>
          <a:xfrm>
            <a:off x="0" y="-44280"/>
            <a:ext cx="9144000" cy="773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4680" rIns="94680" tIns="51480" bIns="514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Horizontal Scroll 6"/>
          <p:cNvSpPr/>
          <p:nvPr/>
        </p:nvSpPr>
        <p:spPr>
          <a:xfrm>
            <a:off x="380880" y="76320"/>
            <a:ext cx="8305920" cy="83808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2. NỘI DUNG ĐIỀU CHỈNH (2)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53" name="Rectangle 7"/>
          <p:cNvSpPr/>
          <p:nvPr/>
        </p:nvSpPr>
        <p:spPr>
          <a:xfrm>
            <a:off x="457200" y="1066680"/>
            <a:ext cx="8229600" cy="1752840"/>
          </a:xfrm>
          <a:prstGeom prst="rect">
            <a:avLst/>
          </a:prstGeom>
          <a:solidFill>
            <a:srgbClr val="000029"/>
          </a:solidFill>
          <a:ln w="9360">
            <a:solidFill>
              <a:srgbClr val="0000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YẾT ĐỊNH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/v bổ nhiệm, điều động,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o thôi việc (3 điều):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CHAPTER 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TECHNICAL DRAFTING &amp; PRESENTING OFFICIAL DOCUMENTS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F2E78-C09D-40FC-98EB-63CA65BC875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13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FD82E-9668-4D8C-A110-09326A0F9CF1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14" name="Frame 5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000029"/>
          </a:solidFill>
          <a:ln w="9360">
            <a:solidFill>
              <a:srgbClr val="0000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15" name="Minus 6"/>
          <p:cNvSpPr/>
          <p:nvPr/>
        </p:nvSpPr>
        <p:spPr>
          <a:xfrm>
            <a:off x="2590920" y="1676520"/>
            <a:ext cx="3886200" cy="228600"/>
          </a:xfrm>
          <a:prstGeom prst="pie">
            <a:avLst/>
          </a:prstGeom>
          <a:solidFill>
            <a:srgbClr val="000029"/>
          </a:solidFill>
          <a:ln w="9360">
            <a:solidFill>
              <a:srgbClr val="0000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A1438-FBF2-4F0B-90F6-F29B071D22B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55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823E3-5386-47EF-8471-12C50DBE90D0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457200" y="2133360"/>
            <a:ext cx="8229600" cy="42670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Điều 1: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Quy định về hành vi, đối tượng, mức độ và thời gian điều chỉn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Điều 2: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Quy định chức năng, nhiệm vụ, quyền hạn của tổ chức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Điều 3: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Quy định về cơ cấu tổ chức, nhân sự của tổ chức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Điều 4: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Điều khoản thi hàn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title"/>
          </p:nvPr>
        </p:nvSpPr>
        <p:spPr>
          <a:xfrm>
            <a:off x="0" y="-44280"/>
            <a:ext cx="9144000" cy="773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4680" rIns="94680" tIns="51480" bIns="514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Horizontal Scroll 6"/>
          <p:cNvSpPr/>
          <p:nvPr/>
        </p:nvSpPr>
        <p:spPr>
          <a:xfrm>
            <a:off x="304920" y="76320"/>
            <a:ext cx="8458200" cy="83808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2. NỘI DUNG ĐIỀU CHỈNH (3)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59" name="Rectangle 7"/>
          <p:cNvSpPr/>
          <p:nvPr/>
        </p:nvSpPr>
        <p:spPr>
          <a:xfrm>
            <a:off x="457200" y="914400"/>
            <a:ext cx="8229600" cy="1143000"/>
          </a:xfrm>
          <a:prstGeom prst="rect">
            <a:avLst/>
          </a:prstGeom>
          <a:solidFill>
            <a:srgbClr val="000029"/>
          </a:solidFill>
          <a:ln w="9360">
            <a:solidFill>
              <a:srgbClr val="0000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YẾT ĐỊNH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/v thành lập tổ chức, đơn vị (4 điều) *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0C72F-60E0-40F5-9D71-9D3D9A623F4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61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6E681-9D25-4BC1-AFE1-3AD68B34ED43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0" y="1676160"/>
            <a:ext cx="9144000" cy="419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QUYẾT ĐỊN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Về việc nâng lương, khen thưởng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GIÁM ĐỐC CÔNG T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Căn cứ thẩm quyền;</a:t>
            </a:r>
            <a:r>
              <a:rPr b="1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1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Căn cứ áp dụng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Căn cứ thực tế,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QUYẾT ĐỊNH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1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Điều 1: </a:t>
            </a:r>
            <a:r>
              <a:rPr b="0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Quy định về hành vi, đối tượng, mức độ, thời gian điều chỉnh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1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Điều 2:</a:t>
            </a:r>
            <a:r>
              <a:rPr b="0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Điều khoản thi hành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6"/>
          <p:cNvSpPr/>
          <p:nvPr/>
        </p:nvSpPr>
        <p:spPr>
          <a:xfrm>
            <a:off x="3657600" y="2438280"/>
            <a:ext cx="1828800" cy="0"/>
          </a:xfrm>
          <a:prstGeom prst="line">
            <a:avLst/>
          </a:prstGeom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64" name="Rectangle 8"/>
          <p:cNvSpPr/>
          <p:nvPr/>
        </p:nvSpPr>
        <p:spPr>
          <a:xfrm>
            <a:off x="0" y="0"/>
            <a:ext cx="3657600" cy="1676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ÔNG TY TNHH HÒA BÌNH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Số:        /QĐ-GĐ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65" name="Rectangle 9"/>
          <p:cNvSpPr/>
          <p:nvPr/>
        </p:nvSpPr>
        <p:spPr>
          <a:xfrm>
            <a:off x="3657600" y="0"/>
            <a:ext cx="5486400" cy="1676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ỘNG HÒA XÃ HỘI CHỦ NGHĨA VIỆT NAM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Độc lập – Tự do – Hạnh phúc</a:t>
            </a:r>
            <a:endParaRPr b="0" lang="en-US" sz="21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Địa danh, ngày …… tháng …… năm ….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66" name="Line 4"/>
          <p:cNvSpPr/>
          <p:nvPr/>
        </p:nvSpPr>
        <p:spPr>
          <a:xfrm>
            <a:off x="914400" y="609480"/>
            <a:ext cx="1752480" cy="0"/>
          </a:xfrm>
          <a:prstGeom prst="line">
            <a:avLst/>
          </a:prstGeom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67" name="Rectangle 12"/>
          <p:cNvSpPr/>
          <p:nvPr/>
        </p:nvSpPr>
        <p:spPr>
          <a:xfrm>
            <a:off x="4572000" y="5867280"/>
            <a:ext cx="457200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ÁM ĐỐC</a:t>
            </a:r>
            <a:endParaRPr b="0" lang="en-US" sz="21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68" name="Rectangle 13"/>
          <p:cNvSpPr/>
          <p:nvPr/>
        </p:nvSpPr>
        <p:spPr>
          <a:xfrm>
            <a:off x="0" y="5867280"/>
            <a:ext cx="457200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Nơi nhận: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>
              <a:lnSpc>
                <a:spcPct val="80000"/>
              </a:lnSpc>
              <a:buClr>
                <a:srgbClr val="00002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………………</a:t>
            </a:r>
            <a:r>
              <a:rPr b="0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. ;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>
              <a:lnSpc>
                <a:spcPct val="80000"/>
              </a:lnSpc>
              <a:buClr>
                <a:srgbClr val="00002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Lưu VT, PHC (3).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69" name="Line 7"/>
          <p:cNvSpPr/>
          <p:nvPr/>
        </p:nvSpPr>
        <p:spPr>
          <a:xfrm>
            <a:off x="4800600" y="914400"/>
            <a:ext cx="3200400" cy="0"/>
          </a:xfrm>
          <a:prstGeom prst="line">
            <a:avLst/>
          </a:prstGeom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9F8A3-D3C0-4C0F-8F70-927A4B5DAE1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71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4B59C-D996-45A3-BF6F-5A651C6A2ACA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7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09C59-7940-4652-A470-40202FF137E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73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3E208-94B5-46F5-B492-1221E3C86BF2}" type="datetime2">
              <a:rPr b="0" lang="en-US" sz="1200" spc="-1" strike="noStrike">
                <a:solidFill>
                  <a:srgbClr val="000000"/>
                </a:solidFill>
                <a:latin typeface="Arial"/>
              </a:rPr>
              <a:t>Friday, July 31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74" name="Rectangle 3"/>
          <p:cNvSpPr/>
          <p:nvPr/>
        </p:nvSpPr>
        <p:spPr>
          <a:xfrm>
            <a:off x="0" y="1676520"/>
            <a:ext cx="9144000" cy="419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QUYẾT ĐỊNH</a:t>
            </a:r>
            <a:endParaRPr b="0" lang="en-US" sz="22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Về việc </a:t>
            </a:r>
            <a:r>
              <a:rPr b="1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bổ nhiệm, điều động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GIÁM ĐỐC CÔNG TY</a:t>
            </a:r>
            <a:endParaRPr b="0" lang="en-US" sz="21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Căn cứ thẩm quyền;</a:t>
            </a:r>
            <a:r>
              <a:rPr b="1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1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Căn cứ áp dụng;</a:t>
            </a:r>
            <a:endParaRPr b="0" lang="en-US" sz="21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Căn cứ thực tế,</a:t>
            </a:r>
            <a:endParaRPr b="0" lang="en-US" sz="21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QUYẾT ĐỊNH</a:t>
            </a:r>
            <a:endParaRPr b="0" lang="en-US" sz="21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    </a:t>
            </a:r>
            <a:r>
              <a:rPr b="1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Điều 1: </a:t>
            </a:r>
            <a:r>
              <a:rPr b="0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Quy định về hành vi, đối tượng, mức độ, thời gian điều chỉnh.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    </a:t>
            </a:r>
            <a:r>
              <a:rPr b="1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Điều 2:</a:t>
            </a:r>
            <a:r>
              <a:rPr b="0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Quy định về lương và phụ cấp.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    </a:t>
            </a:r>
            <a:r>
              <a:rPr b="1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Điều 3:</a:t>
            </a:r>
            <a:r>
              <a:rPr b="0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Điều khoản thi hành.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75" name="Line 6"/>
          <p:cNvSpPr/>
          <p:nvPr/>
        </p:nvSpPr>
        <p:spPr>
          <a:xfrm>
            <a:off x="3657600" y="2438280"/>
            <a:ext cx="1828800" cy="0"/>
          </a:xfrm>
          <a:prstGeom prst="line">
            <a:avLst/>
          </a:prstGeom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0" y="0"/>
            <a:ext cx="3657600" cy="1676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ÔNG TY TNHH HÒA BÌNH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Số:        /QĐ-GĐ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77" name="Rectangle 8"/>
          <p:cNvSpPr/>
          <p:nvPr/>
        </p:nvSpPr>
        <p:spPr>
          <a:xfrm>
            <a:off x="3657600" y="0"/>
            <a:ext cx="5486400" cy="1676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ỘNG HÒA XÃ HỘI CHỦ NGHĨA VIỆT NAM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Độc lập – Tự do – Hạnh phúc</a:t>
            </a:r>
            <a:endParaRPr b="0" lang="en-US" sz="21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Địa danh, ngày …… tháng …… năm ….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78" name="Line 4"/>
          <p:cNvSpPr/>
          <p:nvPr/>
        </p:nvSpPr>
        <p:spPr>
          <a:xfrm>
            <a:off x="914400" y="609480"/>
            <a:ext cx="1752480" cy="0"/>
          </a:xfrm>
          <a:prstGeom prst="line">
            <a:avLst/>
          </a:prstGeom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79" name="Rectangle 11"/>
          <p:cNvSpPr/>
          <p:nvPr/>
        </p:nvSpPr>
        <p:spPr>
          <a:xfrm>
            <a:off x="4572000" y="5867280"/>
            <a:ext cx="457200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ÁM ĐỐC</a:t>
            </a:r>
            <a:endParaRPr b="0" lang="en-US" sz="21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80" name="Rectangle 12"/>
          <p:cNvSpPr/>
          <p:nvPr/>
        </p:nvSpPr>
        <p:spPr>
          <a:xfrm>
            <a:off x="0" y="5867280"/>
            <a:ext cx="457200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Nơi nhận: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>
              <a:lnSpc>
                <a:spcPct val="80000"/>
              </a:lnSpc>
              <a:buClr>
                <a:srgbClr val="00002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………………</a:t>
            </a:r>
            <a:r>
              <a:rPr b="0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. ;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>
              <a:lnSpc>
                <a:spcPct val="80000"/>
              </a:lnSpc>
              <a:buClr>
                <a:srgbClr val="00002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Lưu VT, PHC (3).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81" name="Line 7"/>
          <p:cNvSpPr/>
          <p:nvPr/>
        </p:nvSpPr>
        <p:spPr>
          <a:xfrm>
            <a:off x="4800600" y="914400"/>
            <a:ext cx="3200400" cy="0"/>
          </a:xfrm>
          <a:prstGeom prst="line">
            <a:avLst/>
          </a:prstGeom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27563-D674-4AE2-BEF0-A845A7C6F7D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83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5B245-BFC1-4BA8-A3A9-7095E8F59C5D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84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F9860-BD30-4A1E-A167-308D0663673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85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2156D-EDE6-468D-AB9A-E222F88443B7}" type="datetime2">
              <a:rPr b="0" lang="en-US" sz="1200" spc="-1" strike="noStrike">
                <a:solidFill>
                  <a:srgbClr val="000000"/>
                </a:solidFill>
                <a:latin typeface="Arial"/>
              </a:rPr>
              <a:t>Friday, July 31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8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DEB57-EC66-47CA-B210-E6DFFC90367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87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E9322-2D01-436D-B92A-2AAEF83FEA7F}" type="datetime2">
              <a:rPr b="0" lang="en-US" sz="1200" spc="-1" strike="noStrike">
                <a:solidFill>
                  <a:srgbClr val="000000"/>
                </a:solidFill>
                <a:latin typeface="Arial"/>
              </a:rPr>
              <a:t>Friday, July 31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88" name="Rectangle 3"/>
          <p:cNvSpPr/>
          <p:nvPr/>
        </p:nvSpPr>
        <p:spPr>
          <a:xfrm>
            <a:off x="0" y="1676520"/>
            <a:ext cx="9144000" cy="4038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QUYẾT ĐỊNH</a:t>
            </a:r>
            <a:endParaRPr b="0" lang="en-US" sz="22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Về việc thành lập tổ chức, đơn vị</a:t>
            </a:r>
            <a:endParaRPr b="0" lang="en-US" sz="21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THẨM QUYỀN BAN HÀNH</a:t>
            </a:r>
            <a:endParaRPr b="0" lang="en-US" sz="21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Căn cứ thẩm quyền;</a:t>
            </a:r>
            <a:r>
              <a:rPr b="1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1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Căn cứ áp dụng;</a:t>
            </a:r>
            <a:endParaRPr b="0" lang="en-US" sz="21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Căn cứ thực tế,</a:t>
            </a:r>
            <a:endParaRPr b="0" lang="en-US" sz="21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QUYẾT ĐỊNH</a:t>
            </a:r>
            <a:endParaRPr b="0" lang="en-US" sz="21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    </a:t>
            </a:r>
            <a:r>
              <a:rPr b="1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Điều 1: </a:t>
            </a:r>
            <a:r>
              <a:rPr b="0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Quy định về hành vi, đối tượng, mức độ, thời gian điều chỉnh.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    </a:t>
            </a:r>
            <a:r>
              <a:rPr b="1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Điều 2: </a:t>
            </a:r>
            <a:r>
              <a:rPr b="0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Quy định về chức năng, nhiệm vụ của tổ chức được thành lập.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    </a:t>
            </a:r>
            <a:r>
              <a:rPr b="1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Điều 3:</a:t>
            </a:r>
            <a:r>
              <a:rPr b="0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Quy định về cơ cấu tổ chức, nhân sự của tổ chức được thành lập.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    </a:t>
            </a:r>
            <a:r>
              <a:rPr b="1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Điều 4:</a:t>
            </a:r>
            <a:r>
              <a:rPr b="0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Điều khoản thi hành.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89" name="Line 6"/>
          <p:cNvSpPr/>
          <p:nvPr/>
        </p:nvSpPr>
        <p:spPr>
          <a:xfrm>
            <a:off x="3657600" y="2438280"/>
            <a:ext cx="1828800" cy="0"/>
          </a:xfrm>
          <a:prstGeom prst="line">
            <a:avLst/>
          </a:prstGeom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90" name="Rectangle 9"/>
          <p:cNvSpPr/>
          <p:nvPr/>
        </p:nvSpPr>
        <p:spPr>
          <a:xfrm>
            <a:off x="0" y="0"/>
            <a:ext cx="365760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ÊN TỔ CHỨC BAN HÀNH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Số:        /QĐ-…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91" name="Rectangle 10"/>
          <p:cNvSpPr/>
          <p:nvPr/>
        </p:nvSpPr>
        <p:spPr>
          <a:xfrm>
            <a:off x="3657600" y="0"/>
            <a:ext cx="5486400" cy="16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ỘNG HÒA XÃ HỘI CHỦ NGHĨA VIỆT NAM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Độc lập – Tự do – Hạnh phúc</a:t>
            </a:r>
            <a:endParaRPr b="0" lang="en-US" sz="21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Địa danh, ngày …… tháng …… năm ….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92" name="Line 4"/>
          <p:cNvSpPr/>
          <p:nvPr/>
        </p:nvSpPr>
        <p:spPr>
          <a:xfrm>
            <a:off x="914400" y="609480"/>
            <a:ext cx="1752480" cy="0"/>
          </a:xfrm>
          <a:prstGeom prst="line">
            <a:avLst/>
          </a:prstGeom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93" name="Rectangle 11"/>
          <p:cNvSpPr/>
          <p:nvPr/>
        </p:nvSpPr>
        <p:spPr>
          <a:xfrm>
            <a:off x="4572000" y="5791320"/>
            <a:ext cx="45720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ỨC VỤ NGƯỜI KÝ</a:t>
            </a:r>
            <a:endParaRPr b="0" lang="en-US" sz="21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94" name="Rectangle 13"/>
          <p:cNvSpPr/>
          <p:nvPr/>
        </p:nvSpPr>
        <p:spPr>
          <a:xfrm>
            <a:off x="0" y="5791320"/>
            <a:ext cx="45720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Nơi nhận: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>
              <a:lnSpc>
                <a:spcPct val="80000"/>
              </a:lnSpc>
              <a:buClr>
                <a:srgbClr val="00002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………………</a:t>
            </a:r>
            <a:r>
              <a:rPr b="0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. ;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>
              <a:lnSpc>
                <a:spcPct val="80000"/>
              </a:lnSpc>
              <a:buClr>
                <a:srgbClr val="00002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Lưu VT, PHC (3).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95" name="Line 7"/>
          <p:cNvSpPr/>
          <p:nvPr/>
        </p:nvSpPr>
        <p:spPr>
          <a:xfrm>
            <a:off x="4800600" y="914400"/>
            <a:ext cx="3200400" cy="0"/>
          </a:xfrm>
          <a:prstGeom prst="line">
            <a:avLst/>
          </a:prstGeom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8F1D8-980B-4B17-A70B-15815AB27C9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97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9C535-9916-490B-A76F-178D29888E09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298" name="Picture 2" descr="http://dolisa.org/hr/store/1900-2010-qd-ubnd.jpg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4" descr="http://cement-t.com.vn/file_download/di328-20100323.jpg"/>
          <p:cNvPicPr/>
          <p:nvPr/>
        </p:nvPicPr>
        <p:blipFill>
          <a:blip r:embed="rId2"/>
          <a:stretch/>
        </p:blipFill>
        <p:spPr>
          <a:xfrm>
            <a:off x="4610160" y="0"/>
            <a:ext cx="4533840" cy="6858000"/>
          </a:xfrm>
          <a:prstGeom prst="rect">
            <a:avLst/>
          </a:prstGeom>
          <a:ln w="9360">
            <a:solidFill>
              <a:srgbClr val="00002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707FC-2586-4F65-AC40-7DAF146C85B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01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84685-1183-43DD-BDD2-D2FD425B04C2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302" name="Picture 2" descr="http://www.phuhunggia.com/sites/default/files/image/BoNhiemTGD/Quy%E1%BA%BFt%20%C4%91%E1%BB%8Bnh%20b%E1%BB%95%20nhi%E1%BB%87m%20T%E1%BB%95ng%20Gi%C3%A1m%20%C4%91%E1%BB%91c.jpg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4" descr="http://www.motilenct.com.vn/newpage/vi/All_Pic/QDinh_BoNhiem_TGD_2012.jpg"/>
          <p:cNvPicPr/>
          <p:nvPr/>
        </p:nvPicPr>
        <p:blipFill>
          <a:blip r:embed="rId2"/>
          <a:stretch/>
        </p:blipFill>
        <p:spPr>
          <a:xfrm>
            <a:off x="4591080" y="0"/>
            <a:ext cx="4552920" cy="6858000"/>
          </a:xfrm>
          <a:prstGeom prst="rect">
            <a:avLst/>
          </a:prstGeom>
          <a:ln w="0">
            <a:noFill/>
          </a:ln>
        </p:spPr>
      </p:pic>
      <p:sp>
        <p:nvSpPr>
          <p:cNvPr id="304" name="Multiply 5"/>
          <p:cNvSpPr/>
          <p:nvPr/>
        </p:nvSpPr>
        <p:spPr>
          <a:xfrm>
            <a:off x="7543800" y="228600"/>
            <a:ext cx="1295280" cy="1905120"/>
          </a:xfrm>
          <a:prstGeom prst="pi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A87E9-65A4-4D73-BAE0-B83DE887BDF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06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1829E-FC00-4C30-BEF5-9EB67903A2C3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/>
          </p:nvPr>
        </p:nvSpPr>
        <p:spPr>
          <a:xfrm>
            <a:off x="457200" y="914400"/>
            <a:ext cx="8229600" cy="54100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6094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◙ </a:t>
            </a: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Soạn Quyết định bổ nhiệm Trưởng Phòng Kinh doanh của Giám đốc Công ty TNHH Hòa Bìn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title"/>
          </p:nvPr>
        </p:nvSpPr>
        <p:spPr>
          <a:xfrm>
            <a:off x="0" y="-44280"/>
            <a:ext cx="9144000" cy="773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4680" rIns="94680" tIns="51480" bIns="514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Horizontal Scroll 6"/>
          <p:cNvSpPr/>
          <p:nvPr/>
        </p:nvSpPr>
        <p:spPr>
          <a:xfrm>
            <a:off x="304920" y="76320"/>
            <a:ext cx="8458200" cy="83808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ÀI TẬP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10" name="Oval 7"/>
          <p:cNvSpPr/>
          <p:nvPr/>
        </p:nvSpPr>
        <p:spPr>
          <a:xfrm>
            <a:off x="7772400" y="5410080"/>
            <a:ext cx="91440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-6120"/>
            <a:ext cx="9144000" cy="773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4680" rIns="94680" tIns="51480" bIns="514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E2FAD-E77E-4FEA-B4CD-68A2F179A6C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1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43BE3-FEDA-48B9-BFCE-1BE8DD8904ED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19" name="Horizontal Scroll 5"/>
          <p:cNvSpPr/>
          <p:nvPr/>
        </p:nvSpPr>
        <p:spPr>
          <a:xfrm>
            <a:off x="304920" y="0"/>
            <a:ext cx="8534160" cy="103356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ENTS OF CHAPTER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2438280" y="990720"/>
            <a:ext cx="6324840" cy="6094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chnical drafting Decision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2438280" y="1676520"/>
            <a:ext cx="6324840" cy="6094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chnical drafting Notification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2438280" y="2362320"/>
            <a:ext cx="6324840" cy="6094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chnical drafting Report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2438280" y="3048120"/>
            <a:ext cx="6324840" cy="6094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chnical drafting </a:t>
            </a:r>
            <a:r>
              <a:rPr b="0" lang="en-US" sz="4000" spc="-1" strike="noStrike">
                <a:solidFill>
                  <a:srgbClr val="000000"/>
                </a:solidFill>
                <a:latin typeface="VNI-Times"/>
              </a:rPr>
              <a:t>Proposal</a:t>
            </a:r>
            <a:endParaRPr b="0" lang="en-US" sz="40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24" name="Rectangle 3"/>
          <p:cNvSpPr/>
          <p:nvPr/>
        </p:nvSpPr>
        <p:spPr>
          <a:xfrm>
            <a:off x="2438280" y="3733920"/>
            <a:ext cx="6324840" cy="6094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NI-Times"/>
              </a:rPr>
              <a:t>Technical recording the Minutes</a:t>
            </a:r>
            <a:endParaRPr b="0" lang="en-US" sz="34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2438280" y="4419720"/>
            <a:ext cx="6324840" cy="6094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chnical drafting Contract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2438280" y="5105520"/>
            <a:ext cx="6324840" cy="6094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chnical drafting Dispatches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27" name="Rectangle 3"/>
          <p:cNvSpPr/>
          <p:nvPr/>
        </p:nvSpPr>
        <p:spPr>
          <a:xfrm>
            <a:off x="2438280" y="5791320"/>
            <a:ext cx="6324840" cy="6094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chnical drafting Letters Personally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28" name="Rounded Rectangle 14"/>
          <p:cNvSpPr/>
          <p:nvPr/>
        </p:nvSpPr>
        <p:spPr>
          <a:xfrm>
            <a:off x="457200" y="990720"/>
            <a:ext cx="190512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cture 1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29" name="Rounded Rectangle 15"/>
          <p:cNvSpPr/>
          <p:nvPr/>
        </p:nvSpPr>
        <p:spPr>
          <a:xfrm>
            <a:off x="457200" y="1676520"/>
            <a:ext cx="190512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cture </a:t>
            </a:r>
            <a:r>
              <a:rPr b="1" lang="en-US" sz="32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30" name="Rounded Rectangle 22"/>
          <p:cNvSpPr/>
          <p:nvPr/>
        </p:nvSpPr>
        <p:spPr>
          <a:xfrm>
            <a:off x="457200" y="2362320"/>
            <a:ext cx="190512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cture 3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31" name="Rounded Rectangle 23"/>
          <p:cNvSpPr/>
          <p:nvPr/>
        </p:nvSpPr>
        <p:spPr>
          <a:xfrm>
            <a:off x="457200" y="3048120"/>
            <a:ext cx="190512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cture 4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32" name="Rounded Rectangle 24"/>
          <p:cNvSpPr/>
          <p:nvPr/>
        </p:nvSpPr>
        <p:spPr>
          <a:xfrm>
            <a:off x="457200" y="3733920"/>
            <a:ext cx="190512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cture </a:t>
            </a:r>
            <a:r>
              <a:rPr b="1" lang="en-US" sz="32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33" name="Rounded Rectangle 25"/>
          <p:cNvSpPr/>
          <p:nvPr/>
        </p:nvSpPr>
        <p:spPr>
          <a:xfrm>
            <a:off x="457200" y="4419720"/>
            <a:ext cx="190512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cture </a:t>
            </a:r>
            <a:r>
              <a:rPr b="1" lang="en-US" sz="32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34" name="Rounded Rectangle 26"/>
          <p:cNvSpPr/>
          <p:nvPr/>
        </p:nvSpPr>
        <p:spPr>
          <a:xfrm>
            <a:off x="457200" y="5105520"/>
            <a:ext cx="190512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cture </a:t>
            </a:r>
            <a:r>
              <a:rPr b="1" lang="en-US" sz="32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35" name="Rounded Rectangle 27"/>
          <p:cNvSpPr/>
          <p:nvPr/>
        </p:nvSpPr>
        <p:spPr>
          <a:xfrm>
            <a:off x="457200" y="5791320"/>
            <a:ext cx="190512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cture </a:t>
            </a:r>
            <a:r>
              <a:rPr b="1" lang="en-US" sz="32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B756F-D2F4-48D0-B574-96B0D446346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37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E564C-A24D-435A-A26F-60FF38DA15C7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1828800" y="990360"/>
            <a:ext cx="6934320" cy="6094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Kỹ thuật soạn thảo Quyết định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40" name="Horizontal Scroll 6"/>
          <p:cNvSpPr/>
          <p:nvPr/>
        </p:nvSpPr>
        <p:spPr>
          <a:xfrm>
            <a:off x="304920" y="0"/>
            <a:ext cx="8534160" cy="103356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ỘI DUNG CHƯƠNG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1828800" y="1676520"/>
            <a:ext cx="6934320" cy="6094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Kỹ thuật soạn thảo Thông báo</a:t>
            </a:r>
            <a:endParaRPr b="0" lang="en-US" sz="35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1828800" y="2362320"/>
            <a:ext cx="6934320" cy="6094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Kỹ thuật soạn thảo Tờ trình</a:t>
            </a:r>
            <a:endParaRPr b="0" lang="en-US" sz="35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1828800" y="3048120"/>
            <a:ext cx="6934320" cy="6094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Kỹ thuật soạn thảo Báo cáo</a:t>
            </a:r>
            <a:endParaRPr b="0" lang="en-US" sz="35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828800" y="3733920"/>
            <a:ext cx="6934320" cy="6094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Kỹ thuật ghi Biên bản</a:t>
            </a:r>
            <a:endParaRPr b="0" lang="en-US" sz="35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1828800" y="4419720"/>
            <a:ext cx="6934320" cy="6094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Kỹ thuật soạn thảo Hợp đồng</a:t>
            </a:r>
            <a:endParaRPr b="0" lang="en-US" sz="35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1828800" y="5105520"/>
            <a:ext cx="6934320" cy="6094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Kỹ thuật soạn thảo Công văn</a:t>
            </a:r>
            <a:endParaRPr b="0" lang="en-US" sz="35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1828800" y="5791320"/>
            <a:ext cx="6934320" cy="6094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Kỹ thuật soạn thảo Đơn thư cá nhân</a:t>
            </a:r>
            <a:endParaRPr b="0" lang="en-US" sz="35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48" name="Rounded Rectangle 14"/>
          <p:cNvSpPr/>
          <p:nvPr/>
        </p:nvSpPr>
        <p:spPr>
          <a:xfrm>
            <a:off x="457200" y="990720"/>
            <a:ext cx="129528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Bài 1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49" name="Rounded Rectangle 15"/>
          <p:cNvSpPr/>
          <p:nvPr/>
        </p:nvSpPr>
        <p:spPr>
          <a:xfrm>
            <a:off x="457200" y="1676520"/>
            <a:ext cx="129528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Bài 2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50" name="Rounded Rectangle 16"/>
          <p:cNvSpPr/>
          <p:nvPr/>
        </p:nvSpPr>
        <p:spPr>
          <a:xfrm>
            <a:off x="457200" y="2362320"/>
            <a:ext cx="129528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Bài 3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51" name="Rounded Rectangle 17"/>
          <p:cNvSpPr/>
          <p:nvPr/>
        </p:nvSpPr>
        <p:spPr>
          <a:xfrm>
            <a:off x="457200" y="3048120"/>
            <a:ext cx="129528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Bài 4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52" name="Rounded Rectangle 18"/>
          <p:cNvSpPr/>
          <p:nvPr/>
        </p:nvSpPr>
        <p:spPr>
          <a:xfrm>
            <a:off x="457200" y="3733920"/>
            <a:ext cx="129528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Bài 5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53" name="Rounded Rectangle 19"/>
          <p:cNvSpPr/>
          <p:nvPr/>
        </p:nvSpPr>
        <p:spPr>
          <a:xfrm>
            <a:off x="457200" y="4419720"/>
            <a:ext cx="129528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Bài 6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54" name="Rounded Rectangle 20"/>
          <p:cNvSpPr/>
          <p:nvPr/>
        </p:nvSpPr>
        <p:spPr>
          <a:xfrm>
            <a:off x="457200" y="5105520"/>
            <a:ext cx="129528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Bài 7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55" name="Rounded Rectangle 21"/>
          <p:cNvSpPr/>
          <p:nvPr/>
        </p:nvSpPr>
        <p:spPr>
          <a:xfrm>
            <a:off x="457200" y="5791320"/>
            <a:ext cx="129528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Bài 8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D590A-C52B-485E-BDE1-7FCB5B0B420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57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CA110-D9C9-47C9-AD3C-2058B43D5AF5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15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6D0D7-9B11-4F5F-A90C-BE41162F116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60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DF203-358E-41B4-B9B1-978D5A15A33A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61" name="Bevel 3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2153"/>
            </a:avLst>
          </a:prstGeom>
          <a:solidFill>
            <a:srgbClr val="ffffff"/>
          </a:solidFill>
          <a:ln w="9360">
            <a:solidFill>
              <a:srgbClr val="0000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62" name="Rectangle 3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BÀI 1</a:t>
            </a:r>
            <a:endParaRPr b="0" lang="en-US" sz="48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10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KỸ THUẬT SOẠN THẢO</a:t>
            </a:r>
            <a:endParaRPr b="0" lang="en-US" sz="52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10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TRÌNH BÀY QUYẾT ĐỊNH</a:t>
            </a:r>
            <a:endParaRPr b="0" lang="en-US" sz="52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SỐ TIẾT GIẢNG: 1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TỰ HỌC: 2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63" name="Minus 5"/>
          <p:cNvSpPr/>
          <p:nvPr/>
        </p:nvSpPr>
        <p:spPr>
          <a:xfrm>
            <a:off x="3276720" y="1905120"/>
            <a:ext cx="2590560" cy="228600"/>
          </a:xfrm>
          <a:prstGeom prst="pie">
            <a:avLst/>
          </a:prstGeom>
          <a:solidFill>
            <a:srgbClr val="000029"/>
          </a:solidFill>
          <a:ln w="9360">
            <a:solidFill>
              <a:srgbClr val="0000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E2573-68EA-4135-8F98-5FFA92BEB93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65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5C532-50BF-47A4-B6CD-33911DD09F5E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814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Khái niệ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Thẩm quyền ban hàn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Cấu trúc của quyết địn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Mẫu quyết địn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Bài tập trên lớp: Soạn Quyết địn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68" name="Horizontal Scroll 6"/>
          <p:cNvSpPr/>
          <p:nvPr/>
        </p:nvSpPr>
        <p:spPr>
          <a:xfrm>
            <a:off x="304920" y="0"/>
            <a:ext cx="8458200" cy="103356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ỘI DUNG BÀI GIẢNG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55C51-9B65-4615-BF84-3659DBA9B37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70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53AC8-35CC-4F43-A0B9-10B4E6B082B1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21932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Quy định chế độ, chính sách, nhiệm vụ quyền hạn tổ chức bộ máy nhà nước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73" name="Horizontal Scroll 6"/>
          <p:cNvSpPr/>
          <p:nvPr/>
        </p:nvSpPr>
        <p:spPr>
          <a:xfrm>
            <a:off x="228600" y="0"/>
            <a:ext cx="8610480" cy="103356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KHÁI NIỆM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74" name="Horizontal Scroll 7"/>
          <p:cNvSpPr/>
          <p:nvPr/>
        </p:nvSpPr>
        <p:spPr>
          <a:xfrm>
            <a:off x="304920" y="990720"/>
            <a:ext cx="8458200" cy="83808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1. QUYẾT ĐỊNH QUY PHẠM PHÁP LUẬT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457200" y="3048120"/>
          <a:ext cx="8229600" cy="3352680"/>
        </p:xfrm>
        <a:graphic>
          <a:graphicData uri="http://schemas.openxmlformats.org/drawingml/2006/table">
            <a:tbl>
              <a:tblPr/>
              <a:tblGrid>
                <a:gridCol w="2133720"/>
                <a:gridCol w="1371600"/>
                <a:gridCol w="4724280"/>
              </a:tblGrid>
              <a:tr h="36972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29"/>
                          </a:solidFill>
                          <a:latin typeface="Times New Roman"/>
                          <a:ea typeface="Times New Roman"/>
                        </a:rPr>
                        <a:t>Số/Ký hiệ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29"/>
                          </a:solidFill>
                          <a:latin typeface="Times New Roman"/>
                          <a:ea typeface="Times New Roman"/>
                        </a:rPr>
                        <a:t>Ngà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29"/>
                          </a:solidFill>
                          <a:latin typeface="Times New Roman"/>
                          <a:ea typeface="Times New Roman"/>
                        </a:rPr>
                        <a:t>Trích yếu nội du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256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2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29"/>
                          </a:solidFill>
                          <a:latin typeface="Times New Roman"/>
                          <a:ea typeface="Times New Roman"/>
                        </a:rPr>
                        <a:t>16/2013/QĐ-TT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29"/>
                          </a:solidFill>
                          <a:latin typeface="Times New Roman"/>
                          <a:ea typeface="Times New Roman"/>
                        </a:rPr>
                        <a:t>04/03/201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666699"/>
                          </a:solidFill>
                          <a:uFillTx/>
                          <a:latin typeface="Times New Roman"/>
                          <a:ea typeface="Times New Roman"/>
                          <a:hlinkClick r:id="rId1"/>
                        </a:rPr>
                        <a:t>  Về việc mua, bán vàng miếng trên thị trườ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666699"/>
                          </a:solidFill>
                          <a:uFillTx/>
                          <a:latin typeface="Times New Roman"/>
                          <a:ea typeface="Times New Roman"/>
                          <a:hlinkClick r:id="rId2"/>
                        </a:rPr>
                        <a:t>  trong nước của Ngân hàng Nhà nướ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7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29"/>
                          </a:solidFill>
                          <a:latin typeface="Times New Roman"/>
                          <a:ea typeface="Times New Roman"/>
                        </a:rPr>
                        <a:t>05/2013/QĐ-TT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29"/>
                          </a:solidFill>
                          <a:latin typeface="Times New Roman"/>
                          <a:ea typeface="Times New Roman"/>
                        </a:rPr>
                        <a:t>15/01/201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000" spc="-1" strike="noStrike" u="sng">
                          <a:solidFill>
                            <a:srgbClr val="666699"/>
                          </a:solidFill>
                          <a:uFillTx/>
                          <a:latin typeface="Times New Roman"/>
                          <a:ea typeface="Times New Roman"/>
                          <a:hlinkClick r:id="rId3"/>
                        </a:rPr>
                        <a:t>Quy định việc công dân Việt Nam ra nước ngoài học tập</a:t>
                      </a:r>
                      <a:r>
                        <a:rPr b="0" lang="vi-VN" sz="2000" spc="-1" strike="noStrike">
                          <a:solidFill>
                            <a:srgbClr val="00002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2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29"/>
                          </a:solidFill>
                          <a:latin typeface="Times New Roman"/>
                          <a:ea typeface="Times New Roman"/>
                        </a:rPr>
                        <a:t>15/2013/QĐ-TT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29"/>
                          </a:solidFill>
                          <a:latin typeface="Times New Roman"/>
                          <a:ea typeface="Times New Roman"/>
                        </a:rPr>
                        <a:t>23/02/201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666699"/>
                          </a:solidFill>
                          <a:uFillTx/>
                          <a:latin typeface="Times New Roman"/>
                          <a:ea typeface="Times New Roman"/>
                          <a:hlinkClick r:id="rId4"/>
                        </a:rPr>
                        <a:t>  Về tín dụng đối với hộ cận nghèo</a:t>
                      </a:r>
                      <a:r>
                        <a:rPr b="0" lang="en-US" sz="2000" spc="-1" strike="noStrike">
                          <a:solidFill>
                            <a:srgbClr val="00002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29"/>
                          </a:solidFill>
                          <a:latin typeface="Times New Roman"/>
                          <a:ea typeface="Times New Roman"/>
                        </a:rPr>
                        <a:t>50/2012/QĐ-UB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29"/>
                          </a:solidFill>
                          <a:latin typeface="Times New Roman"/>
                          <a:ea typeface="Times New Roman"/>
                        </a:rPr>
                        <a:t>14/11/2012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1800" spc="-1" strike="noStrike">
                          <a:solidFill>
                            <a:srgbClr val="000029"/>
                          </a:solidFill>
                          <a:latin typeface="Times New Roman"/>
                          <a:ea typeface="Times New Roman"/>
                        </a:rPr>
                        <a:t>Ban hành Quy định chức năng, nhiệm vụ, quyền hạn và cơ cấu tổ chức của Sở Kế hoạch và Đầu tư tỉnh Bình Dươ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33E1E-C708-44A9-BE18-5B09A20CEEE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77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13683-988A-48C7-A324-B402CBEE8C4A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78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442D3-15EF-4F48-861A-57B2E76A5B3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79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D1AFA-EA01-4246-945D-C94C5D086087}" type="datetime2">
              <a:rPr b="0" lang="en-US" sz="1200" spc="-1" strike="noStrike">
                <a:solidFill>
                  <a:srgbClr val="000000"/>
                </a:solidFill>
                <a:latin typeface="Arial"/>
              </a:rPr>
              <a:t>Friday, July 31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180" name="Picture 2" descr="http://tapchihuongnghiep.com.vn/Pictures/Gallery/Large/Quyet-dinh-1.gif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4" descr="http://www.uct.edu.vn/sites/default/files/tinhdchung/DSC_3239.JPG"/>
          <p:cNvPicPr/>
          <p:nvPr/>
        </p:nvPicPr>
        <p:blipFill>
          <a:blip r:embed="rId2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7T03:20:02Z</dcterms:created>
  <dc:creator>Bài giảng QTVP_Thầy Nam Hà</dc:creator>
  <dc:description/>
  <dc:language>en-US</dc:language>
  <cp:lastModifiedBy>ntc</cp:lastModifiedBy>
  <dcterms:modified xsi:type="dcterms:W3CDTF">2013-10-23T03:20:11Z</dcterms:modified>
  <cp:revision>397</cp:revision>
  <dc:subject/>
  <dc:title>Chương 9.1</dc:title>
</cp:coreProperties>
</file>