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B818-F456-4C68-834B-377C6B61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22AB-CEE4-4208-9153-07BEFFD4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155C-5B38-44C2-8922-EBFFE217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3BF7-5E86-413F-8FBA-2F3B064F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EA84-A607-4A7D-A4E1-0D23E56E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1CF3-E9D3-44F2-81B2-65C21361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4145-042E-4562-94A0-76B665D7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AFE9-1E3F-4C60-871B-FB2ABE09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4D45-FCC1-48CA-B0CA-EA3524D3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1A92-D508-4075-B814-6F3EF326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5EC7-3D3B-4EF9-AB6D-5D233B9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1880-F8C2-4F9B-81CE-B89B56C5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EB9E-38AB-4904-A700-E476A2E5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BB53-4053-497F-9782-B104DBC4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957A-6FAC-4945-8828-FD37F65C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CF57-5E8F-4530-9942-62598C8F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F9D9-7FE6-4A48-88B7-05173A78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7D0E-927C-4F13-A593-8B54632F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1B4B-23C1-4A79-9DBD-AFD7B227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6445-393F-4F1B-9C19-A654A92D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788A-5057-487B-8B7E-003A1EC6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0AE6-1FEC-4583-A912-2D3A473C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8C22D-7234-4F04-8B19-CA910374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1B6E-8758-4FF6-BAB1-173326CB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163F-6348-4AEA-90CC-6A98D63B3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9A36-19C4-44FB-B367-72BBB0E2F1C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1C69-4744-4D5E-9B86-E671FCB6195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BC1B-0237-4A16-AED2-3F6AD864B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19B1-3BAE-4A6C-963B-538D8D520C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8BC7-DD52-4B84-8A39-3192985A98E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3</a:t>
            </a:r>
            <a:br>
              <a:rPr sz="4000"/>
            </a:br>
            <a:br>
              <a:rPr sz="4000"/>
            </a:br>
            <a:r>
              <a:rPr b="1" lang="en-US" sz="5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Ờ TRÌNH</a:t>
            </a:r>
            <a:br>
              <a:rPr sz="5800"/>
            </a:br>
            <a:br>
              <a:rPr sz="4000"/>
            </a:br>
            <a:r>
              <a:rPr b="1" lang="en-US" sz="4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br>
              <a:rPr sz="4000"/>
            </a:br>
            <a:r>
              <a:rPr b="1" lang="en-US" sz="4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8712-F0A1-4D22-B391-F29982667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FD0F-B6C1-4480-975A-464330A66B2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Yêu cầu của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ẫu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tập: Soạn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Horizontal Scroll 6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AF2C-D9B7-43FD-A6C0-E4DF8ED43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28BA-9E5D-44DD-98C2-60936C0C67D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loại văn bản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ùng cho CQ, TC cấp dư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: Đề xuất, xin phê duyệt vấn đề thuộc thẩm quyền quyết định của CQ, TC cấp trê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4DAD-8395-4A53-8955-D28001017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1B8E-1F03-4F16-883B-C07837B4377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êu tính cấp thiết của vấn đề xin phê duyệt, đề xu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ấn đề xin phê duyệt, đề xuất phải được diễn giải bằng phương á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giải pháp thực hiện phải mang tính khả th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Horizontal Scroll 5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YÊU C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23E6-BC2B-4336-A3DB-32ECF7B5D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451D-367F-4DCE-8C29-05AB6804996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1752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hận định tình hình thực tế (thuận lợi, khó khăn) từ đó chỉ ra tính cấp thiết của vấn đề xin phê duyệt, đề xu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Horizontal Scroll 5"/>
          <p:cNvSpPr/>
          <p:nvPr/>
        </p:nvSpPr>
        <p:spPr>
          <a:xfrm>
            <a:off x="457200" y="0"/>
            <a:ext cx="82296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TỜ TRÌ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Horizontal Scroll 6"/>
          <p:cNvSpPr/>
          <p:nvPr/>
        </p:nvSpPr>
        <p:spPr>
          <a:xfrm>
            <a:off x="533520" y="91440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09480" y="4191120"/>
            <a:ext cx="80010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đề xuất, phương án thực hiệ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Horizontal Scroll 8"/>
          <p:cNvSpPr/>
          <p:nvPr/>
        </p:nvSpPr>
        <p:spPr>
          <a:xfrm>
            <a:off x="533520" y="342900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09480" y="5638680"/>
            <a:ext cx="80010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Ý nghĩa, tác dụng của đề xuấ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Horizontal Scroll 10"/>
          <p:cNvSpPr/>
          <p:nvPr/>
        </p:nvSpPr>
        <p:spPr>
          <a:xfrm>
            <a:off x="533520" y="487692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938C-F443-435E-A967-81A494C0C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D58E-7469-42CD-96A8-FF9C200DFDF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TTr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28600" y="5867280"/>
            <a:ext cx="37339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114800" y="5867280"/>
            <a:ext cx="5029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ỀN HẠN, CHỨC VỤ NGƯỜI KÝ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1752480"/>
            <a:ext cx="9144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     </a:t>
            </a:r>
            <a:r>
              <a:rPr b="1" lang="en-US" sz="2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Ờ TRÌNH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. . . . . . . . . . . . . . 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ính gởi: …………………………………………………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mở đầu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hận định tình hình, phân tích thuận lợi, khó khăn làm cơ sở cho việc đề xuất vấn đề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nội dung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nội dung của đề xuất, các phương án thực hiện, dự kiến vấn đề có thể phát sinh khi thực hiện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 Nêu khó khăn, thuận lợi (chủ quan, khách quan) khi triển khai thực hiện và dự kiến biện pháp khắc phục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kết thúc: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êu ý nghĩa, tác dụng của đề xuất; đề nghị cấp trên xem xét chấp thuận để sớm triển khai thực hiện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886200" y="2590920"/>
            <a:ext cx="16765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914400" y="609480"/>
            <a:ext cx="16765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724280" y="914400"/>
            <a:ext cx="32767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33FE-43B0-4348-A56B-8D2511AF6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45E3-6209-4D17-8672-59C59DA2788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47" name="Picture 2" descr="http://trustbank.com.vn/img/Upload/26_10_2011_3_54_56_CH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3.bp.blogspot.com/-m8FhZRqtfPY/TvLwL3RoZOI/AAAAAAAABns/pX4BAgs-ALM/s640/004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Multiply 5"/>
          <p:cNvSpPr/>
          <p:nvPr/>
        </p:nvSpPr>
        <p:spPr>
          <a:xfrm>
            <a:off x="5029200" y="4800600"/>
            <a:ext cx="1828800" cy="19810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DDE-DD9E-4629-911C-109212BED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8F2C-7AF9-4197-AA4A-0E50A7DBA66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Horizontal Scroll 5"/>
          <p:cNvSpPr/>
          <p:nvPr/>
        </p:nvSpPr>
        <p:spPr>
          <a:xfrm>
            <a:off x="380880" y="76320"/>
            <a:ext cx="838224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)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của tờ trình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)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ấu trúc của tờ trình và những nội dung chính của tờ trình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B1F6-7A07-476B-9A40-E80ABCFF4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F1C5-D5CF-4B6D-87DA-25A1FC8A9B7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143000"/>
            <a:ext cx="815328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Giám đốc Chi nhánh Công ty CP Hoa Mai tại Bình Dương, em hãy soạn Tờ trình gởi Tổng Giám đốc Công ty xin tuyển dụng 2 nhân viên cho Phòng Kinh doanh, mua một ô-tô tải 2,5 tấn phục vụ cho công việc kinh doanh của Chi nhá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(Biết: Doanh thu 2013: 10 tỷ; lợi nhuận: 800 triệu; chỉ tiêu doanh thu 2014: 12 tỷ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Horizontal Scroll 5"/>
          <p:cNvSpPr/>
          <p:nvPr/>
        </p:nvSpPr>
        <p:spPr>
          <a:xfrm>
            <a:off x="380880" y="15228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 TRÊN LỚP (45p)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4-02-17T03:32:27Z</dcterms:modified>
  <cp:revision>318</cp:revision>
  <dc:subject/>
  <dc:title>Chương 9.3</dc:title>
</cp:coreProperties>
</file>