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4BC21-82F8-426E-BED7-078025C2A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0AF47-B9A5-482C-993F-257CFCE69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3E10A-7974-41C6-AE32-E2F7FFCE8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E1556-5F4A-49D0-BFD3-CF166B4EB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EE272-E4A2-40BF-AC25-578339B8B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878FF-C2EB-4C2B-BE7A-55EFF7810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B7BE7-2717-4FCA-B2B8-DC7DB59C1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B73DC-16E0-450D-BDC9-2F39405A6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CB54C-831F-4623-A026-6E94FBBEA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56217-B01F-405B-99A3-5921B203A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6DCB6-F38B-4E54-A267-8CE8219A8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0757C-8CA6-41D3-BE60-5F30F31E2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CE650-A2E3-4147-B930-264E70E96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D20A2-AACA-4927-9530-959D12299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1233F-45E8-4F10-B623-3C844136B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E3C22-3825-488B-8D57-F3B900E9C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54181-A8E2-4F8C-BD39-22C84A936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97FE7-BE83-4E6A-906D-D7F218A5D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78647-6DEC-4695-A98F-8F354E3C4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A5986-37A7-4709-B202-2721A4D51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15C1C-EBA9-4E42-B688-2E0879D6E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A6984-D624-44E2-A4D7-9A620408D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C9FDE-3992-4229-B85A-A6636B534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BB485-9DB8-4F34-9829-47BFCC12B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B9EC-32EB-479D-84DC-E24AAD27B456}"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46A9-75C8-4B80-8871-238E49444DE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6EC4-2D4D-4297-ABC3-61D5BE9BD1ED}"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9F9B-32C1-4DD4-81BC-82F97150BEA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Rectangle 4"/>
          <p:cNvSpPr/>
          <p:nvPr/>
        </p:nvSpPr>
        <p:spPr>
          <a:xfrm>
            <a:off x="0" y="0"/>
            <a:ext cx="9109080" cy="681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36"/>
                </a:solidFill>
                <a:uFillTx/>
                <a:latin typeface="Arial"/>
              </a:rPr>
              <a:t>BÀI 7</a:t>
            </a:r>
            <a:endParaRPr b="0" lang="en-US" sz="4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6"/>
                </a:solidFill>
                <a:latin typeface="Arial"/>
              </a:rPr>
              <a:t>KỸ THUẬT SOẠN THẢO</a:t>
            </a:r>
            <a:endParaRPr b="0" lang="en-US" sz="5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36"/>
                </a:solidFill>
                <a:latin typeface="Arial"/>
              </a:rPr>
              <a:t>CÔNG VĂN</a:t>
            </a:r>
            <a:endParaRPr b="0" lang="en-US" sz="6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6"/>
                </a:solidFill>
                <a:latin typeface="Arial"/>
              </a:rPr>
              <a:t>SỐ TIẾT GIẢNG: 1</a:t>
            </a:r>
            <a:endParaRPr b="0" lang="en-US" sz="3200" spc="-1" strike="noStrike">
              <a:solidFill>
                <a:srgbClr val="000000"/>
              </a:solidFill>
              <a:latin typeface="Verdana"/>
            </a:endParaRPr>
          </a:p>
        </p:txBody>
      </p:sp>
      <p:sp>
        <p:nvSpPr>
          <p:cNvPr id="88" name="Date Placeholder 4"/>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16F0-595C-48A2-8884-44F87E2A751B}"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89"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FA6F-8A2D-420C-93E5-A05C5C2AF56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91" name="Frame 7"/>
          <p:cNvSpPr/>
          <p:nvPr/>
        </p:nvSpPr>
        <p:spPr>
          <a:xfrm>
            <a:off x="0" y="0"/>
            <a:ext cx="9144000" cy="6858000"/>
          </a:xfrm>
          <a:prstGeom prst="pie">
            <a:avLst/>
          </a:prstGeom>
          <a:solidFill>
            <a:srgbClr val="000066"/>
          </a:solidFill>
          <a:ln w="9360">
            <a:solidFill>
              <a:srgbClr val="00003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đôn đốc, nhắc nhở</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Nhắc lại chủ trương, chính sách, kế hoạch, quyết định đã chỉ đạo</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Tóm tắt tình hình thực hiện công việc của cấp dưới, đề ra biện pháp tiếp tục thực hiện những mặt còn tồn tại, giao trách nhiệm cho cấp dưới tiếp tục thực hiện và nêu rõ thời gian thực hiệ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Yêu cầu cấp dưới khẩn trương triển khai thực hiện và báo cáo kết quả.</a:t>
            </a:r>
            <a:endParaRPr b="0" lang="en-US" sz="3200" spc="-1" strike="noStrike">
              <a:solidFill>
                <a:srgbClr val="000000"/>
              </a:solidFill>
              <a:latin typeface="Verdana"/>
            </a:endParaRPr>
          </a:p>
        </p:txBody>
      </p:sp>
      <p:sp>
        <p:nvSpPr>
          <p:cNvPr id="133"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9474-A7FF-4185-B2BA-DBE2B610507B}"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34"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8CA4-1DCD-4E6C-AC99-F2F85CA8076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tccb.gialai.edu.vn/upload/editor/454.jpg"/>
          <p:cNvPicPr/>
          <p:nvPr/>
        </p:nvPicPr>
        <p:blipFill>
          <a:blip r:embed="rId1"/>
          <a:stretch/>
        </p:blipFill>
        <p:spPr>
          <a:xfrm>
            <a:off x="0" y="0"/>
            <a:ext cx="4572000" cy="6858000"/>
          </a:xfrm>
          <a:prstGeom prst="rect">
            <a:avLst/>
          </a:prstGeom>
          <a:ln w="0">
            <a:noFill/>
          </a:ln>
        </p:spPr>
      </p:pic>
      <p:pic>
        <p:nvPicPr>
          <p:cNvPr id="137" name="Picture 4" descr="http://tccb.gialai.edu.vn/upload/editor/file/2012/331.jpg"/>
          <p:cNvPicPr/>
          <p:nvPr/>
        </p:nvPicPr>
        <p:blipFill>
          <a:blip r:embed="rId2"/>
          <a:stretch/>
        </p:blipFill>
        <p:spPr>
          <a:xfrm>
            <a:off x="4543560" y="0"/>
            <a:ext cx="4600440" cy="6858000"/>
          </a:xfrm>
          <a:prstGeom prst="rect">
            <a:avLst/>
          </a:prstGeom>
          <a:ln w="0">
            <a:noFill/>
          </a:ln>
        </p:spPr>
      </p:pic>
      <p:pic>
        <p:nvPicPr>
          <p:cNvPr id="138" name="Picture 6" descr="http://gs.ctu.edu.vn/_mauvb/1123_DHCT_DT.jpg"/>
          <p:cNvPicPr/>
          <p:nvPr/>
        </p:nvPicPr>
        <p:blipFill>
          <a:blip r:embed="rId3"/>
          <a:stretch/>
        </p:blipFill>
        <p:spPr>
          <a:xfrm>
            <a:off x="4572000" y="-9360"/>
            <a:ext cx="4572000" cy="6867360"/>
          </a:xfrm>
          <a:prstGeom prst="rect">
            <a:avLst/>
          </a:prstGeom>
          <a:ln w="9360">
            <a:solidFill>
              <a:srgbClr val="0e1215"/>
            </a:solidFill>
            <a:miter/>
          </a:ln>
        </p:spPr>
      </p:pic>
      <p:sp>
        <p:nvSpPr>
          <p:cNvPr id="139" name="Date Placeholder 4"/>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5F0A-4CF5-4F2F-BB19-91B39F1FB106}"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40"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BE71-0037-4E54-8296-3C551E0104C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hướng dẫn, giải thích</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Phân tích sơ bộ nguồn gốc của chủ trương, chính sách, quyết định sẽ được hướng dẫn, giải thích trong công vă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Phân tích ý nghĩa, tác dụng của chủ trương chính sách đó về mặt kinh tế - xã hội. Mục đích của chủ trương chính sách và cách tổ chức thực hiệ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Thể hiện sự quan tâm của đơn vị mình đối với việc hướng dẫn, giải thích.</a:t>
            </a:r>
            <a:endParaRPr b="0" lang="en-US" sz="3200" spc="-1" strike="noStrike">
              <a:solidFill>
                <a:srgbClr val="000000"/>
              </a:solidFill>
              <a:latin typeface="Verdana"/>
            </a:endParaRPr>
          </a:p>
        </p:txBody>
      </p:sp>
      <p:sp>
        <p:nvSpPr>
          <p:cNvPr id="14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E511-48FF-4C26-B564-D29E9D03C63A}"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4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2CBE-D446-4C50-89CF-D4C9CCF6F35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28584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VNI-Times"/>
              </a:rPr>
              <a:t>CAÂU HOÛI OÂN TAÄP</a:t>
            </a:r>
            <a:endParaRPr b="0" lang="en-US" sz="3600" spc="-1" strike="noStrike">
              <a:solidFill>
                <a:srgbClr val="000000"/>
              </a:solidFill>
              <a:latin typeface="Verdana"/>
            </a:endParaRPr>
          </a:p>
        </p:txBody>
      </p:sp>
      <p:sp>
        <p:nvSpPr>
          <p:cNvPr id="148" name="PlaceHolder 2"/>
          <p:cNvSpPr>
            <a:spLocks noGrp="1"/>
          </p:cNvSpPr>
          <p:nvPr>
            <p:ph/>
          </p:nvPr>
        </p:nvSpPr>
        <p:spPr>
          <a:xfrm>
            <a:off x="566640" y="1752480"/>
            <a:ext cx="822024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VNI-Times"/>
              </a:rPr>
              <a:t>Coâng vaên haønh chính laø gì?</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VNI-Times"/>
              </a:rPr>
              <a:t>Neâu ñaëc ñieåm cuûa caùc loaïi coâng vaên?</a:t>
            </a:r>
            <a:endParaRPr b="0" lang="en-US" sz="3600" spc="-1" strike="noStrike">
              <a:solidFill>
                <a:srgbClr val="000000"/>
              </a:solidFill>
              <a:latin typeface="Verdana"/>
            </a:endParaRPr>
          </a:p>
        </p:txBody>
      </p:sp>
      <p:sp>
        <p:nvSpPr>
          <p:cNvPr id="14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3685-40A1-4A02-9A0E-F5907ADF7108}"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5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4A73-41EE-4C8C-AEE3-82B62617FE0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VNI-Times"/>
              </a:rPr>
              <a:t>BAØI TẬP TREÂN LỚP </a:t>
            </a:r>
            <a:r>
              <a:rPr b="0" lang="en-US" sz="3600" spc="-1" strike="noStrike" u="sng">
                <a:solidFill>
                  <a:srgbClr val="336699"/>
                </a:solidFill>
                <a:uFillTx/>
                <a:latin typeface="VNI-Times"/>
              </a:rPr>
              <a:t>(20p)</a:t>
            </a:r>
            <a:endParaRPr b="0" lang="en-US" sz="3600" spc="-1" strike="noStrike">
              <a:solidFill>
                <a:srgbClr val="000000"/>
              </a:solidFill>
              <a:latin typeface="Verdana"/>
            </a:endParaRPr>
          </a:p>
        </p:txBody>
      </p:sp>
      <p:sp>
        <p:nvSpPr>
          <p:cNvPr id="153" name="Date Placeholder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9680-51F3-404E-BD0D-BF6D07B6FF90}"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15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A002-E692-441F-AA18-690DE6D0CF4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6" name="Rectangle 3"/>
          <p:cNvSpPr/>
          <p:nvPr/>
        </p:nvSpPr>
        <p:spPr>
          <a:xfrm>
            <a:off x="500040" y="1752480"/>
            <a:ext cx="82202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8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36"/>
                </a:solidFill>
                <a:latin typeface="VNI-Times"/>
              </a:rPr>
              <a:t>Laø trôï lyù Giaùm ñoác Coâng ty CP SBT, em haõy soaïn Coâng vaên traû lôøi ñôn khieáu naïi cuûa oâng N.V.A. veà vieäc Coâng ty xaû nöôùc thaûi chöa qua xöû lyù ra soâng gaây thieät haïi cho vieäc ñaùnh baét vaø nuoâi troàng thuûy saûn cuûa gia ñình oâng. Yeâu caàu cuûa oâng A: Coâng ty chaám döùt xaû nöôùc thaûi chöa qua xöû lyù vaø boài thöôøng thieät haïi 200 trieäu.</a:t>
            </a:r>
            <a:endParaRPr b="0" lang="en-US" sz="3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NỘI DUNG BÀI GIẢNG</a:t>
            </a:r>
            <a:endParaRPr b="0" lang="en-US" sz="36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1.</a:t>
            </a:r>
            <a:r>
              <a:rPr b="0" lang="en-US" sz="3600" spc="-1" strike="noStrike">
                <a:solidFill>
                  <a:srgbClr val="000036"/>
                </a:solidFill>
                <a:latin typeface="Times New Roman"/>
                <a:ea typeface="Times New Roman"/>
              </a:rPr>
              <a:t> Khái niệm</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2.</a:t>
            </a:r>
            <a:r>
              <a:rPr b="0" lang="en-US" sz="3600" spc="-1" strike="noStrike">
                <a:solidFill>
                  <a:srgbClr val="000036"/>
                </a:solidFill>
                <a:latin typeface="Times New Roman"/>
                <a:ea typeface="Times New Roman"/>
              </a:rPr>
              <a:t> Phân loại</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3.</a:t>
            </a:r>
            <a:r>
              <a:rPr b="0" lang="en-US" sz="3600" spc="-1" strike="noStrike">
                <a:solidFill>
                  <a:srgbClr val="000036"/>
                </a:solidFill>
                <a:latin typeface="Times New Roman"/>
                <a:ea typeface="Times New Roman"/>
              </a:rPr>
              <a:t> Đặc điểm</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4.</a:t>
            </a:r>
            <a:r>
              <a:rPr b="0" lang="en-US" sz="3600" spc="-1" strike="noStrike">
                <a:solidFill>
                  <a:srgbClr val="000036"/>
                </a:solidFill>
                <a:latin typeface="Times New Roman"/>
                <a:ea typeface="Times New Roman"/>
              </a:rPr>
              <a:t> Phương pháp soạn thảo</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5.</a:t>
            </a:r>
            <a:r>
              <a:rPr b="0" lang="en-US" sz="3600" spc="-1" strike="noStrike">
                <a:solidFill>
                  <a:srgbClr val="000036"/>
                </a:solidFill>
                <a:latin typeface="Times New Roman"/>
                <a:ea typeface="Times New Roman"/>
              </a:rPr>
              <a:t> Nội dung các loại công văn</a:t>
            </a:r>
            <a:endParaRPr b="0" lang="en-US" sz="3600" spc="-1" strike="noStrike">
              <a:solidFill>
                <a:srgbClr val="000000"/>
              </a:solidFill>
              <a:latin typeface="Verdana"/>
            </a:endParaRPr>
          </a:p>
        </p:txBody>
      </p:sp>
      <p:sp>
        <p:nvSpPr>
          <p:cNvPr id="9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39E9-783D-4488-A5D0-8E2C414ED9AA}"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9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4BD5-5866-41E2-A657-F50D819708D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1. KHÁI NIỆM</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Văn bản không có tên loại</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Sử dụng phổ biến trong hoạt động của cơ quan, tổ chức</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Phương tiện giao tiếp chính thức của các cơ quan, tổ chức.</a:t>
            </a:r>
            <a:endParaRPr b="0" lang="en-US" sz="3600" spc="-1" strike="noStrike">
              <a:solidFill>
                <a:srgbClr val="000000"/>
              </a:solidFill>
              <a:latin typeface="Verdana"/>
            </a:endParaRPr>
          </a:p>
        </p:txBody>
      </p:sp>
      <p:sp>
        <p:nvSpPr>
          <p:cNvPr id="9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C0FE-A821-4E28-9ED3-28E9DCA4F050}"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0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7E43-14AC-47C7-B956-975EB00F58A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2. PHÂN LOẠI CÔNG VĂN</a:t>
            </a:r>
            <a:endParaRPr b="0" lang="en-US" sz="3600" spc="-1" strike="noStrike">
              <a:solidFill>
                <a:srgbClr val="000000"/>
              </a:solidFill>
              <a:latin typeface="Verdana"/>
            </a:endParaRPr>
          </a:p>
        </p:txBody>
      </p:sp>
      <p:sp>
        <p:nvSpPr>
          <p:cNvPr id="103" name="PlaceHolder 2"/>
          <p:cNvSpPr>
            <a:spLocks noGrp="1"/>
          </p:cNvSpPr>
          <p:nvPr>
            <p:ph/>
          </p:nvPr>
        </p:nvSpPr>
        <p:spPr>
          <a:xfrm>
            <a:off x="566640" y="1699920"/>
            <a:ext cx="8253360" cy="4267080"/>
          </a:xfrm>
          <a:prstGeom prst="rect">
            <a:avLst/>
          </a:prstGeom>
          <a:noFill/>
          <a:ln w="0">
            <a:noFill/>
          </a:ln>
        </p:spPr>
        <p:txBody>
          <a:bodyPr anchor="t">
            <a:normAutofit/>
          </a:bodyPr>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yêu cầu</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trả lời (phúc đáp) </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hướng dẫn</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giải thích</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đôn đốc </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chỉ đạo</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trao đổi</a:t>
            </a:r>
            <a:endParaRPr b="0" lang="en-US" sz="3600" spc="-1" strike="noStrike">
              <a:solidFill>
                <a:srgbClr val="000000"/>
              </a:solidFill>
              <a:latin typeface="Verdana"/>
            </a:endParaRPr>
          </a:p>
        </p:txBody>
      </p:sp>
      <p:sp>
        <p:nvSpPr>
          <p:cNvPr id="10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03BF-DD9F-42E2-8A47-FA7EFF6D1C03}"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0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1DFC-8EAF-4E26-BB34-BD82F4AE078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3. ĐẶC ĐIỂM CỦA CÔNG VĂN</a:t>
            </a:r>
            <a:endParaRPr b="0" lang="en-US" sz="36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455400" indent="-4554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Chủ thể ban hành:</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ơ quan, tổ chức</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án bộ, công chức nhà nước có thẩm quyền</a:t>
            </a:r>
            <a:endParaRPr b="0" lang="en-US" sz="3600" spc="-1" strike="noStrike">
              <a:solidFill>
                <a:srgbClr val="000000"/>
              </a:solidFill>
              <a:latin typeface="Verdana"/>
            </a:endParaRPr>
          </a:p>
          <a:p>
            <a:pPr marL="455400" indent="-4554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Mục đích ban hành:</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Giải quyết các vấn đề theo thẩm quyền &amp; chức năng được giao</a:t>
            </a:r>
            <a:endParaRPr b="0" lang="en-US" sz="3600" spc="-1" strike="noStrike">
              <a:solidFill>
                <a:srgbClr val="000000"/>
              </a:solidFill>
              <a:latin typeface="Verdana"/>
            </a:endParaRPr>
          </a:p>
        </p:txBody>
      </p:sp>
      <p:sp>
        <p:nvSpPr>
          <p:cNvPr id="10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EB7B-7D8A-4B92-A1C0-395F4C1492EC}"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1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BA43-3B1A-43EC-8107-B77E5DFB49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4. PHƯƠNG PHÁP SOẠN THẢO</a:t>
            </a:r>
            <a:endParaRPr b="0" lang="en-US" sz="36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Bố cục gồm 3 phần:</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1) Mở đầu:</a:t>
            </a:r>
            <a:r>
              <a:rPr b="0" lang="en-US" sz="3600" spc="-1" strike="noStrike">
                <a:solidFill>
                  <a:srgbClr val="000036"/>
                </a:solidFill>
                <a:latin typeface="Times New Roman"/>
              </a:rPr>
              <a:t> Lý do, mục đích</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2) Nội dung:</a:t>
            </a:r>
            <a:r>
              <a:rPr b="0" lang="en-US" sz="3600" spc="-1" strike="noStrike">
                <a:solidFill>
                  <a:srgbClr val="000036"/>
                </a:solidFill>
                <a:latin typeface="Times New Roman"/>
              </a:rPr>
              <a:t> Thông tin cần truyền đạt</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3) Kết luận:</a:t>
            </a:r>
            <a:r>
              <a:rPr b="0" lang="en-US" sz="3600" spc="-1" strike="noStrike">
                <a:solidFill>
                  <a:srgbClr val="000036"/>
                </a:solidFill>
                <a:latin typeface="Times New Roman"/>
              </a:rPr>
              <a:t> Yêu cầu hoặc lời chào trân trọng</a:t>
            </a:r>
            <a:endParaRPr b="0" lang="en-US" sz="3600" spc="-1" strike="noStrike">
              <a:solidFill>
                <a:srgbClr val="000000"/>
              </a:solidFill>
              <a:latin typeface="Verdana"/>
            </a:endParaRPr>
          </a:p>
        </p:txBody>
      </p:sp>
      <p:sp>
        <p:nvSpPr>
          <p:cNvPr id="11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96A6-9486-4B26-8477-F7EEB3C59C9D}"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1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1491-9003-451E-A18F-91A7EDAAECA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5. NỘI DUNG CÁC LOẠI CÔNG VĂN</a:t>
            </a:r>
            <a:endParaRPr b="0" lang="en-US" sz="36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6"/>
                </a:solidFill>
                <a:latin typeface="Times New Roman"/>
                <a:ea typeface="Times New Roman"/>
              </a:rPr>
              <a:t>Công văn yêu cầu, đề nghị:</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Mở đầu:</a:t>
            </a:r>
            <a:r>
              <a:rPr b="0" lang="en-US" sz="3200" spc="-1" strike="noStrike">
                <a:solidFill>
                  <a:srgbClr val="000036"/>
                </a:solidFill>
                <a:latin typeface="Times New Roman"/>
                <a:ea typeface="Times New Roman"/>
              </a:rPr>
              <a:t> Lý do, mục đích của yêu cầu, kiến nghị, đề nghị</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Nội dung:</a:t>
            </a:r>
            <a:r>
              <a:rPr b="0" lang="en-US" sz="3200" spc="-1" strike="noStrike">
                <a:solidFill>
                  <a:srgbClr val="000036"/>
                </a:solidFill>
                <a:latin typeface="Times New Roman"/>
                <a:ea typeface="Times New Roman"/>
              </a:rPr>
              <a:t> Thực trạng dẫn đến việc phải yêu cầu, kiến nghị, đề nghị; Nội dung cụ thể yêu cầu, kiến nghị, đề nghị; Thời hạn cần được xem xét, giải quyết</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Kết luận:</a:t>
            </a:r>
            <a:r>
              <a:rPr b="0" lang="en-US" sz="3200" spc="-1" strike="noStrike">
                <a:solidFill>
                  <a:srgbClr val="000036"/>
                </a:solidFill>
                <a:latin typeface="Times New Roman"/>
                <a:ea typeface="Times New Roman"/>
              </a:rPr>
              <a:t> Đề nghị giải quyết và lời cảm ơn.</a:t>
            </a:r>
            <a:endParaRPr b="0" lang="en-US" sz="3200" spc="-1" strike="noStrike">
              <a:solidFill>
                <a:srgbClr val="000000"/>
              </a:solidFill>
              <a:latin typeface="Verdana"/>
            </a:endParaRPr>
          </a:p>
        </p:txBody>
      </p:sp>
      <p:sp>
        <p:nvSpPr>
          <p:cNvPr id="11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E100-131F-4989-BB85-64E02AD62EA9}"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2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CDD3-7867-430E-81BB-4AD5604695D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trả lời, phúc đáp</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Trả lời theo đơn, công văn (số, ký hiệu, ngày tháng năm) của ai, về vấn đề gì.</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Trả lời theo từng vấn đề được yêu cầu (khẳng định / phủ nhận). Vấn đề nào chưa thể trả lời cần giải thích rõ lý do.</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Thể hiện sự quan tâm đối với vấn đề được hỏi và người hỏi.</a:t>
            </a:r>
            <a:endParaRPr b="0" lang="en-US" sz="3200" spc="-1" strike="noStrike">
              <a:solidFill>
                <a:srgbClr val="000000"/>
              </a:solidFill>
              <a:latin typeface="Verdana"/>
            </a:endParaRPr>
          </a:p>
        </p:txBody>
      </p:sp>
      <p:sp>
        <p:nvSpPr>
          <p:cNvPr id="12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F313-62CA-4D1A-A625-4BB8B53D5703}"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2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FD48-B4A8-4AA4-AC97-415668932B8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1"/>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B66B-395E-462D-9107-D89FD22A068B}" type="datetime2">
              <a:rPr b="0" lang="en-US" sz="1200" spc="-1" strike="noStrike">
                <a:solidFill>
                  <a:srgbClr val="000000"/>
                </a:solidFill>
                <a:latin typeface="Verdana"/>
              </a:rPr>
              <a:t>Friday, July 31, 2026</a:t>
            </a:fld>
            <a:endParaRPr b="0" lang="en-US" sz="1200" spc="-1" strike="noStrike">
              <a:solidFill>
                <a:srgbClr val="000000"/>
              </a:solidFill>
              <a:latin typeface="Verdana"/>
            </a:endParaRPr>
          </a:p>
        </p:txBody>
      </p:sp>
      <p:sp>
        <p:nvSpPr>
          <p:cNvPr id="12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129"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5257-394B-4E17-A0A6-109525B44FF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130" name="Picture 2" descr="http://1.bp.blogspot.com/-dZe0b0CEohk/T3CZSKKbN0I/AAAAAAAAEo0/f3NfLxVAGFo/s1600/2011-03-09+16-37-58_003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2:33:18Z</dcterms:created>
  <dc:creator>Bài giảng QTVP_Thầy Nam Hà</dc:creator>
  <dc:description/>
  <dc:language>en-US</dc:language>
  <cp:lastModifiedBy>ntc</cp:lastModifiedBy>
  <dcterms:modified xsi:type="dcterms:W3CDTF">2013-10-30T04:12:26Z</dcterms:modified>
  <cp:revision>107</cp:revision>
  <dc:subject/>
  <dc:title>Chương 9.7</dc:title>
</cp:coreProperties>
</file>