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3984-274A-422E-AB5D-4B35C4EE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087B-4527-43CA-826F-9A49F32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68F5-21CC-49B6-B1B0-3F9094EE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2617-19DE-4E56-BE05-A96DEE11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193D-9542-4E7A-8A28-519CC99F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0D0E-99C6-4029-A5B5-8750BE39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C51-1E01-4D79-A15B-49B82384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6E36-B471-4B4D-ABFD-8D546F7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71F3-98E3-4428-BD00-BEFB1BE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251-AAB4-4790-B5AD-DA67157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459-08D2-4C96-A0D5-451B89A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981D-6FC6-4DC5-BEE5-5400ED4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B9CC-4367-4663-865A-65053AE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D22C-E0BE-4A0E-AF86-6E0A40BA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2B8B-EBF3-4C05-9712-B053C6DD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FABC-3CD3-4D29-B568-FF5BA595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15D3-ADF7-4A0B-A983-2558F1A8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15CB-7CCC-4F19-BA07-98047E4F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78AB-0C7C-4BD5-98BB-43E6621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C300-F064-412E-930B-D438B4D3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FF59-95F8-428C-B764-01DEC105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4BFB-FED2-4372-B038-7DD848F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76F3-73C9-475B-9C55-CE2CC42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991A-411A-4B03-885D-90B1002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83A-3F3A-49A0-969D-8A84891F8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A66-E6F1-4429-AB83-3F554DAF385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4B0D-DFE2-4B68-B4E9-A5DF7BEA55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18E-32A9-423F-ACB4-2F80DD6E0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BB1-DF5B-4713-A06F-3F3DBB97B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D18-BF69-460C-9721-B2D9C7DAEDD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Bevel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C1A-4FE4-4BC6-B043-2A8F457AF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EB90-76EA-4A28-8D02-ABB02C32ED9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gọi, thời gia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ội 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hực hiệ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5"/>
          <p:cNvSpPr/>
          <p:nvPr/>
        </p:nvSpPr>
        <p:spPr>
          <a:xfrm>
            <a:off x="304920" y="33480"/>
            <a:ext cx="8458200" cy="1490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. 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BF3-6B1D-4603-B914-CA3167470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3612-4CB7-4A99-B909-6ECDE8564E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7" name="Picture 2" descr="http://www.khtc.ueh.edu.vn/Upload/TinTuc/ngansach.jpg"/>
          <p:cNvPicPr/>
          <p:nvPr/>
        </p:nvPicPr>
        <p:blipFill>
          <a:blip r:embed="rId1"/>
          <a:stretch/>
        </p:blipFill>
        <p:spPr>
          <a:xfrm>
            <a:off x="455292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pleiku.gialai.edu.vn/upload/editor/image/NH%202010-2011/157_SGD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ED6-F60A-4BBC-86E7-DD00DF047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B4FD-1532-4F10-A165-9C139328C52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ủa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ý do tiến hành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iế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. 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FFDD-C20F-4A4F-9C76-0EDABBB29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AAEB-4B4C-4C6E-B9E4-D0E1DAEA154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6" name="Picture 2" descr="http://www.lhu.edu.vn/Data/News/232/images/imageas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7" name="Picture 4" descr="http://forum.duytan.edu.vn/Uploads/5d012f50-a812-41ae-82f4-aef0fe54d287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8" name="Picture 6" descr="http://www.vinacorp.vn/Upload/News/image/CTCP%20%C4%90%E1%BA%A1t%20Ph%C6%B0%C6%A1ng%20-%20Thong%20bao%20tra%20co%20tuc%20dot%202-sua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dlu.edu.vn/ImageUpload/2012322104218455scan0021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0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297A-B8D0-4164-8B91-E114F1E25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BD6C-58D8-4A27-BA7F-183DF64AF1C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4" name="Picture 2" descr="http://haugiang.edu.vn/UserFiles/HEAD733/Image/Picture%2001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95" name="Picture 4" descr="http://www.vidipha.com.vn/tu%20lieu/DHCD%202012/chu%20ky%20moi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9D4-947F-4525-9591-4C4578CBF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E127-B6AD-4713-85BF-A9C3FEBCCF9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hiệm vụ được g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yêu cầu khi thực hiện nhiệm v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iện pháp cần áp dụng để hoàn thành nhiệm v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. 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294-2033-4423-B915-3679CACF5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1E8-803E-4764-9CF6-23C4E3DCEEE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3" name="Picture 2" descr="http://amc.edu.vn/Upload/Thong-bao-tap-chung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04" name="Picture 4" descr="http://www.shs.com.vn/Sites/QuoteVN/SiteRoot/documents/Doc/Thong%20b%C3%A1o%20website-%20VRG1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5" name="Multiply 5"/>
          <p:cNvSpPr/>
          <p:nvPr/>
        </p:nvSpPr>
        <p:spPr>
          <a:xfrm>
            <a:off x="2209680" y="0"/>
            <a:ext cx="4724640" cy="685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717-D6FE-4AE8-83FF-71E84F94C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D4C7-8CC3-4F92-A6F5-30BD28C8CE1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2B57-A566-4389-B70B-7420C0528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02E0-D580-4351-A07E-64B4DD49BFE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BÁ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………...............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Kính gởi: ……………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Muïc ñích, chuû theå, thaåm quye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Nhöõng nội dung ca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Yeâu caàu thöïc hieän, thôøi gian toå chöùc vaø hieäu löïc thi haønh, quy taéc xöû söï seõ ñöôïc aùp duïng neáu vi phaïm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657600" y="274320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B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ư trên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2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rame 13"/>
          <p:cNvSpPr/>
          <p:nvPr/>
        </p:nvSpPr>
        <p:spPr>
          <a:xfrm>
            <a:off x="-76320" y="0"/>
            <a:ext cx="9220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471-7C06-47F6-A1FF-15A6DDA73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EF7-0E53-4506-A05D-790D1938BC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hông báo và những nội dung chính của các loại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ông báo của GĐ Cty TNHH Hòa Bình gửi Phòng Đăng ký kinh doanh – Sở KH&amp;ĐT TP.HCM và Chi cục Thuế quận Gò Vấp về việc thay đổi địa chỉ trụ sở Cty. (30 phút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28526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6D11-F511-44A9-9EE7-2CBBC97CB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6E4E-2E40-4FAD-8902-F9B55905C70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6438-AF69-4B6D-9CEE-122E079ED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1863-812A-4C08-850B-3E77ECD3750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loại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ài tậ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1" name="Picture 6" descr="http://choigame24h.net/thanh-cat-tu-han/wp-content/uploads/2012/11/thong-bao.png"/>
          <p:cNvPicPr/>
          <p:nvPr/>
        </p:nvPicPr>
        <p:blipFill>
          <a:blip r:embed="rId1"/>
          <a:stretch/>
        </p:blipFill>
        <p:spPr>
          <a:xfrm>
            <a:off x="5486400" y="1143000"/>
            <a:ext cx="32004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2" name="Frame 7"/>
          <p:cNvSpPr/>
          <p:nvPr/>
        </p:nvSpPr>
        <p:spPr>
          <a:xfrm>
            <a:off x="380880" y="1066680"/>
            <a:ext cx="8305920" cy="53341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4FC-A39D-41EA-9251-ADCFEC856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802-BC99-48D1-B824-1FAD040F4B7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52578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 đa nă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quyết định, tin tức,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về hoạt động của CQ,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chủ trương, chính sá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8" name="Picture 6" descr="http://cite.ueb.edu.vn/sites/default/files/thongbao_4.jpg"/>
          <p:cNvPicPr/>
          <p:nvPr/>
        </p:nvPicPr>
        <p:blipFill>
          <a:blip r:embed="rId1"/>
          <a:stretch/>
        </p:blipFill>
        <p:spPr>
          <a:xfrm>
            <a:off x="5791320" y="990720"/>
            <a:ext cx="291456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037-EAEF-474D-BBBA-7040476F4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8B1C-9765-41A3-AA2B-37CE89054B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nhanh chóng, kịp thờ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ắn gọn, cụ thể, dễ h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ông lập luận, nhận định dài d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rõ nội dung cần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mục đích và thẩm quyền ra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ẨU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4" name="Picture 6" descr="http://us.123rf.com/400wm/400/400/snake3d/snake3d1103/snake3d110300038/9099154-propaganda-megafono-annunciare-originale-elegante-altoparlante-colorato-notizie-multimediali-blog-on.jpg"/>
          <p:cNvPicPr/>
          <p:nvPr/>
        </p:nvPicPr>
        <p:blipFill>
          <a:blip r:embed="rId1"/>
          <a:stretch/>
        </p:blipFill>
        <p:spPr>
          <a:xfrm>
            <a:off x="4572000" y="4419720"/>
            <a:ext cx="4114800" cy="1981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AAE-2DE8-4D71-8F42-E2E1171EA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346-F446-477E-9A1B-5E8F7BC769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êu mục đích, chủ thể, thẩm quyền ra thông báo, đối tượng nhận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3124080"/>
            <a:ext cx="8229600" cy="838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Nội dung cần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kết thú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hấn mạnh nội dung cần thông báo, xác định thời hạn có hiệu lực và quy tắc xử sự sẽ áp dụng nếu có vi phạm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9"/>
          <p:cNvSpPr/>
          <p:nvPr/>
        </p:nvSpPr>
        <p:spPr>
          <a:xfrm>
            <a:off x="457200" y="10666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10"/>
          <p:cNvSpPr/>
          <p:nvPr/>
        </p:nvSpPr>
        <p:spPr>
          <a:xfrm>
            <a:off x="457200" y="3048120"/>
            <a:ext cx="35053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Horizontal Scroll 11"/>
          <p:cNvSpPr/>
          <p:nvPr/>
        </p:nvSpPr>
        <p:spPr>
          <a:xfrm>
            <a:off x="457200" y="40384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EBCF-0506-42E2-B6EE-FA4D2846D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BD5-DC7B-4E96-89A7-90705E7CC0E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ÁC LOẠI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380880" y="11430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80880" y="243828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0880" y="373392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80880" y="50292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14264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676520" y="243828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676520" y="373392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676520" y="502920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460A-848C-4F19-9389-6443F2D21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BE3-DB3D-4184-AB47-6CC50285AEB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nghị, hội chợ, triển lãm, sự kiện, vụ việc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hính cần thông báo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tiến hành, mục đích, thời gian, thời hạn, địa điểm, thành phần, đối tượng tham dự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, kết quả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 THÔNG BÁO VỀ SỰ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DB6F-FE45-415A-AF89-21215B9BE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D7A0-4878-49EF-A77B-01C18674532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4" name="Picture 2" descr="http://www.ued.edu.vn/khoatamlygiaoduc/file.php/1/KHOA_TAM_LY_/TB_so_2_HNNCKH_DHDN_nam_2012.jpg"/>
          <p:cNvPicPr/>
          <p:nvPr/>
        </p:nvPicPr>
        <p:blipFill>
          <a:blip r:embed="rId1"/>
          <a:stretch/>
        </p:blipFill>
        <p:spPr>
          <a:xfrm>
            <a:off x="0" y="-9360"/>
            <a:ext cx="4572000" cy="68673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5" name="Picture 4" descr="http://ulsasontay.edu.vn/upload/images/hncbvc0001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6" name="Picture 6" descr="http://www.hcmuarc.edu.vn/upload/product/resize/1359001125_picture-220www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7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9" name="Picture 8" descr="http://www.ueh.edu.vn/userfiles/image/ImgVanBan/P_TC-HC/Nam2011/1306_TB_DHKT.gif"/>
          <p:cNvPicPr/>
          <p:nvPr/>
        </p:nvPicPr>
        <p:blipFill>
          <a:blip r:embed="rId4"/>
          <a:stretch/>
        </p:blipFill>
        <p:spPr>
          <a:xfrm>
            <a:off x="0" y="152280"/>
            <a:ext cx="4572000" cy="655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1:00Z</dcterms:modified>
  <cp:revision>314</cp:revision>
  <dc:subject/>
  <dc:title>Chương 9.2</dc:title>
</cp:coreProperties>
</file>