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0BAF6-033F-407D-A587-365BEF0B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BF06A-5530-4C06-99C7-950E175E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20D5B-9FB9-48AC-A6A6-09AC8A70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D7A20-07D7-4FD5-9204-3370FDAD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0C1C-6621-4D11-B006-EA35534A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BFE9-2ACA-43AC-B4E5-02D093D6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47F8-AB76-480F-B8E6-319B070C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4AC3-9A7C-4897-9155-1F369DD9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C082-537C-4335-A908-B4230E88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A1F0-B4A7-46A1-8D73-4CB2F128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89BC-9233-4CEC-9873-55E3DEB3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9E3DF-A81E-4E0F-AF4E-16EA2513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C24B-816C-4E4C-AFF2-24782D55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80C7-8A55-4DAB-9D59-F41A2F62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A09F-D360-4E0B-9CE0-9430DAC3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1D23-5BAF-46E2-902C-9C51BA9E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1EA0-F1E3-428C-88B5-32FF3ACF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82414-00A2-495D-8081-A4474897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91FFA-B2E1-4A57-A372-2CB408D8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2AFEB-8565-469D-927C-A90F908D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61A2E-409A-4E0C-A019-0BA0A6A7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29BE4-999C-40E4-99CF-50E9959C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BF9E0-5598-45F1-9385-B16B4313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70431-6065-46F8-9ED1-B74C9CD1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6126-9D6E-4DB4-9A26-76302B9FF8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852D-7A9A-4EA7-BCEE-A495D386F30E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46D1-E047-4E83-835F-C9DD1C6B6E01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18AC-2E24-4B1B-AEBF-F27A2E0573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D82E-A75B-465B-A0C5-DE7693863E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B90B-FB0B-4C16-8788-ECBA75F683BD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53AE-B41A-4AB1-A6EB-17CF7A0D32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9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76B1-B484-4AE5-8AF3-5DA69946D07B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470C-C9E5-41A5-8943-640E660483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CEC5-78E3-42A2-9C03-AD654ED066E9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2" name="Bevel 9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944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590920" y="457200"/>
            <a:ext cx="3886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apter 8</a:t>
            </a:r>
            <a:endParaRPr b="0" lang="en-US" sz="5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Minus 12"/>
          <p:cNvSpPr/>
          <p:nvPr/>
        </p:nvSpPr>
        <p:spPr>
          <a:xfrm>
            <a:off x="2666880" y="1219320"/>
            <a:ext cx="3657600" cy="30456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228600" y="4952880"/>
            <a:ext cx="86868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eriods for lecture: 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Homestudy: 4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6" name="WordArt 7"/>
          <p:cNvSpPr txBox="1"/>
          <p:nvPr/>
        </p:nvSpPr>
        <p:spPr>
          <a:xfrm>
            <a:off x="380880" y="1905120"/>
            <a:ext cx="8382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29"/>
                </a:solidFill>
                <a:latin typeface="Times New Roman"/>
              </a:rPr>
              <a:t>THE PROCESS OF PREPARING</a:t>
            </a:r>
            <a:endParaRPr b="1" lang="en-US" sz="3200" spc="1" strike="noStrike">
              <a:ln w="0">
                <a:noFill/>
              </a:ln>
              <a:solidFill>
                <a:srgbClr val="0000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29"/>
                </a:solidFill>
                <a:latin typeface="Times New Roman"/>
              </a:rPr>
              <a:t>AND ISSUING DOCUMENTS</a:t>
            </a:r>
            <a:endParaRPr b="1" lang="en-US" sz="3200" spc="1" strike="noStrike">
              <a:ln w="0">
                <a:noFill/>
              </a:ln>
              <a:solidFill>
                <a:srgbClr val="000029"/>
              </a:solidFill>
              <a:latin typeface="Times New Roman"/>
              <a:ea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Tòa án Hiến pháp Liên bang Đức</a:t>
            </a:r>
            <a:br>
              <a:rPr sz="3600"/>
            </a:b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(Das Bundesverfassungsgerich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20F7-863B-4F41-BCEE-9E32B2A21F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5441-B104-4599-B4C1-71D564F33E8B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84" name="Picture 2" descr="Tòa án Hiến pháp Liên bang &amp;Dstrok;ức sẽ mất ít nhất hai tháng &amp;dstrok;ể quyết &amp;dstrok;ịnh liệu có ban hành lệnh &amp;dstrok;ình chỉ Cơ chế Bình ổn châu Âu (ESM)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06A1-678B-496D-93F6-316D5C050A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6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2517-A34D-475A-BC3B-B76D3CE2B86A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ốc hộ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Ủy ban Thường vụ quốc hộ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ủ tịch nướ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ủ tướng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òa án nhân dân tối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iện kiểm sát nhân dân tối ca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9" name="Horizontal Scroll 5"/>
          <p:cNvSpPr/>
          <p:nvPr/>
        </p:nvSpPr>
        <p:spPr>
          <a:xfrm>
            <a:off x="304920" y="76320"/>
            <a:ext cx="8458200" cy="914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ỐC HỘI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90" name="Picture 6" descr="http://brt.com.vn/mediastore/BRVT/2012/09/06/QH.jpg"/>
          <p:cNvPicPr/>
          <p:nvPr/>
        </p:nvPicPr>
        <p:blipFill>
          <a:blip r:embed="rId1"/>
          <a:stretch/>
        </p:blipFill>
        <p:spPr>
          <a:xfrm>
            <a:off x="5867280" y="2990880"/>
            <a:ext cx="2819520" cy="249552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91" name="Rectangle 3"/>
          <p:cNvSpPr/>
          <p:nvPr/>
        </p:nvSpPr>
        <p:spPr>
          <a:xfrm>
            <a:off x="457200" y="990720"/>
            <a:ext cx="822960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ó quyền hủy bỏ văn bản QPPL của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2" name="Down Arrow 8"/>
          <p:cNvSpPr/>
          <p:nvPr/>
        </p:nvSpPr>
        <p:spPr>
          <a:xfrm>
            <a:off x="3241800" y="1600200"/>
            <a:ext cx="27018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AE38-3E07-4BA6-8FC1-BFB45EB943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D128-EC48-4041-A191-658F18711E77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95" name="Picture 2" descr="http://www.na.gov.vn/SodoQH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0B1E-00BB-4389-85CB-241FD9F41D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7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7517-A623-4920-9D5E-8511AE0FE39D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5105520" cy="38098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ủ tướng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òa án nhân dân tối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iện kiểm sát nhân dân tối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Hội đồng nhân dân tỉ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0" name="Horizontal Scroll 5"/>
          <p:cNvSpPr/>
          <p:nvPr/>
        </p:nvSpPr>
        <p:spPr>
          <a:xfrm>
            <a:off x="304920" y="76320"/>
            <a:ext cx="8458200" cy="914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ỦY BAN THƯỜNG VỤ QUỐC HỘI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01" name="Picture 6" descr="http://media.tinmoi.vn/2012/04/11/84_7_1334109415_19_vu%2071334108234_340x250.jpg"/>
          <p:cNvPicPr/>
          <p:nvPr/>
        </p:nvPicPr>
        <p:blipFill>
          <a:blip r:embed="rId1"/>
          <a:stretch/>
        </p:blipFill>
        <p:spPr>
          <a:xfrm>
            <a:off x="5638680" y="990720"/>
            <a:ext cx="3048120" cy="54100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202" name="Rectangle 3"/>
          <p:cNvSpPr/>
          <p:nvPr/>
        </p:nvSpPr>
        <p:spPr>
          <a:xfrm>
            <a:off x="457200" y="990720"/>
            <a:ext cx="5105520" cy="12952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ó quyền hủy bỏ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ăn bản QPPL của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3" name="Down Arrow 8"/>
          <p:cNvSpPr/>
          <p:nvPr/>
        </p:nvSpPr>
        <p:spPr>
          <a:xfrm>
            <a:off x="2133720" y="2286000"/>
            <a:ext cx="167616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AB7A-27A9-4400-AD9B-911ECB6EAB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5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34FA-AC6E-4E55-887C-EA4B1D406E65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3428640"/>
            <a:ext cx="4114800" cy="2895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ộ trưở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ủ trưởng Cơ quan ngang B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Ủy ban tỉ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8" name="Horizontal Scroll 5"/>
          <p:cNvSpPr/>
          <p:nvPr/>
        </p:nvSpPr>
        <p:spPr>
          <a:xfrm>
            <a:off x="304920" y="76320"/>
            <a:ext cx="8458200" cy="914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Ủ TƯỚNG CHÍNH PHỦ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09" name="Picture 8" descr="http://vovradio.vn/webmedia/RadioArticle/2437/7.jpg"/>
          <p:cNvPicPr/>
          <p:nvPr/>
        </p:nvPicPr>
        <p:blipFill>
          <a:blip r:embed="rId1"/>
          <a:stretch/>
        </p:blipFill>
        <p:spPr>
          <a:xfrm>
            <a:off x="4876920" y="914400"/>
            <a:ext cx="3809880" cy="54100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210" name="Rectangle 3"/>
          <p:cNvSpPr/>
          <p:nvPr/>
        </p:nvSpPr>
        <p:spPr>
          <a:xfrm>
            <a:off x="457200" y="990720"/>
            <a:ext cx="4114800" cy="1904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ó quyền bãi bỏ, đình chỉ thi hà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ăn bản QPPL của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1" name="Down Arrow 8"/>
          <p:cNvSpPr/>
          <p:nvPr/>
        </p:nvSpPr>
        <p:spPr>
          <a:xfrm>
            <a:off x="1546200" y="2895480"/>
            <a:ext cx="18828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4B86-149C-4504-9323-B454445E55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3" name="Date Placeholder 5"/>
          <p:cNvSpPr/>
          <p:nvPr/>
        </p:nvSpPr>
        <p:spPr>
          <a:xfrm>
            <a:off x="457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FF8C-3E31-4E0B-A0ED-D6DEE2B9387F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447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quan ban hành văn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quan cấp tr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6" name="Horizontal Scroll 5"/>
          <p:cNvSpPr/>
          <p:nvPr/>
        </p:nvSpPr>
        <p:spPr>
          <a:xfrm>
            <a:off x="304920" y="0"/>
            <a:ext cx="8458200" cy="15238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ẨM QUYỀN HỦY BỎ VĂN BẢN TƯ PHÁ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457200" y="4267080"/>
            <a:ext cx="8229600" cy="2057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quan, tổ chức ban hà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quan, tổ chức cấp trê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òa án nhân dâ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8" name="Horizontal Scroll 7"/>
          <p:cNvSpPr/>
          <p:nvPr/>
        </p:nvSpPr>
        <p:spPr>
          <a:xfrm>
            <a:off x="304920" y="2895480"/>
            <a:ext cx="8458200" cy="15242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ẨM QUYỀN HỦY BỎ VĂN BẢN HÀNH CHÍ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453C-C1E3-4E4E-BC64-5F9ECD66FB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0" name="Date Placeholder 5"/>
          <p:cNvSpPr/>
          <p:nvPr/>
        </p:nvSpPr>
        <p:spPr>
          <a:xfrm>
            <a:off x="457200" y="6245280"/>
            <a:ext cx="3124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0C5E-7B84-4247-90BB-0FB8AA9D4EA3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ể thức văn bản do pháp luật quy đị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3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2. ĐÚNG THỂ THỨC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2286000"/>
            <a:ext cx="8229600" cy="1905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ẩm quyền ban hành VB quy định bởi: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áp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lệ của tổ chức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5" name="Horizontal Scroll 7"/>
          <p:cNvSpPr/>
          <p:nvPr/>
        </p:nvSpPr>
        <p:spPr>
          <a:xfrm>
            <a:off x="304920" y="1523880"/>
            <a:ext cx="8458200" cy="8384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3. ĐÚNG THẨM QUYỀ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57200" y="4952880"/>
            <a:ext cx="8229600" cy="13716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ù hợp lĩnh vực, đối tượng điều chỉnh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điều kiện thực tế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7" name="Horizontal Scroll 9"/>
          <p:cNvSpPr/>
          <p:nvPr/>
        </p:nvSpPr>
        <p:spPr>
          <a:xfrm>
            <a:off x="304920" y="41911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4. BẢO ĐẢM TÍNH KHẢ THI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A92F-9D14-48CF-86B4-80EEE86A5C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9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77D8-C7AB-4625-9F3D-913C576CC57A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Xác địn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Mục đích, đối tượng của V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ên loại &amp; nội dung V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uẩn bị dữ kiện (thu thập &amp; xử lý thông tin) cho nội dung V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ánh giá tác động (tích cực, tiêu cực) của VB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2" name="Horizontal Scroll 5"/>
          <p:cNvSpPr/>
          <p:nvPr/>
        </p:nvSpPr>
        <p:spPr>
          <a:xfrm>
            <a:off x="304920" y="0"/>
            <a:ext cx="8458200" cy="15238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TRÌNH TỰ SOẠN THẢO &amp; BAN HÀNH VĂN BẢ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3" name="Horizontal Scroll 7"/>
          <p:cNvSpPr/>
          <p:nvPr/>
        </p:nvSpPr>
        <p:spPr>
          <a:xfrm>
            <a:off x="380880" y="1371600"/>
            <a:ext cx="419112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. CHUẨN BỊ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91C8-1BE8-43D2-9C91-E48CC00061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5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7544-EE06-4D0C-BC7A-5280473053D5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1981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óm tắt các ý chính của V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ựa chọn thông tin để đưa vào các phần của V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8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2. XÂY DỰNG ĐỀ CƯƠ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9" name="Horizontal Scroll 6"/>
          <p:cNvSpPr/>
          <p:nvPr/>
        </p:nvSpPr>
        <p:spPr>
          <a:xfrm>
            <a:off x="304920" y="3352680"/>
            <a:ext cx="8458200" cy="8384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3. VIẾT DỰ THẢO NỘI DU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457200" y="4191120"/>
            <a:ext cx="8229600" cy="1981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Dựa vào đề cương và mẫu VB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90C5-BB10-4167-9670-42048989D0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2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2D83-6E6C-4AED-A936-595074A2D678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518148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ình lãnh đạo duyệt V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ần duyệt: Thẩm quyền, thể thức, nội dung, mục đích ban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người duyệt ghi: Duyệt, số bản ban hành, ngày duyệt, chữ k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5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4. DUYỆT &amp; KÝ VĂN BẢ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46" name="Picture 6" descr="http://tieuchuanchatluong.com/media/70/images/Xin%20cong%20van%20giai%20toa%20lo%20hang.jpg"/>
          <p:cNvPicPr/>
          <p:nvPr/>
        </p:nvPicPr>
        <p:blipFill>
          <a:blip r:embed="rId1"/>
          <a:stretch/>
        </p:blipFill>
        <p:spPr>
          <a:xfrm>
            <a:off x="5715000" y="914400"/>
            <a:ext cx="2971800" cy="5334120"/>
          </a:xfrm>
          <a:prstGeom prst="rect">
            <a:avLst/>
          </a:prstGeom>
          <a:ln w="0">
            <a:noFill/>
          </a:ln>
        </p:spPr>
      </p:pic>
      <p:sp>
        <p:nvSpPr>
          <p:cNvPr id="247" name="Oval 7"/>
          <p:cNvSpPr/>
          <p:nvPr/>
        </p:nvSpPr>
        <p:spPr>
          <a:xfrm>
            <a:off x="5105520" y="5715000"/>
            <a:ext cx="457200" cy="5335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NI-Time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48C2-5CF6-409B-AC2F-608A5909F4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4E72-3733-402F-945D-624EBF2F899B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08A1-3904-4446-874D-95F53D192E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0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D67F-F795-4C16-9F44-EA82EC333586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9DC4-273D-4A27-B3D1-4D7499BABB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2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1DEA-A331-4988-AA34-7AC2A0007182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3" name="Bevel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944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380880" y="1905120"/>
            <a:ext cx="8382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29"/>
                </a:solidFill>
                <a:latin typeface="Times New Roman"/>
              </a:rPr>
              <a:t>QUY TRÌNH SOẠN THẢO</a:t>
            </a:r>
            <a:endParaRPr b="1" lang="en-US" sz="3200" spc="1" strike="noStrike">
              <a:ln w="0">
                <a:noFill/>
              </a:ln>
              <a:solidFill>
                <a:srgbClr val="0000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29"/>
                </a:solidFill>
                <a:latin typeface="Times New Roman"/>
              </a:rPr>
              <a:t>&amp; BAN HÀNH VĂN BẢN</a:t>
            </a:r>
            <a:endParaRPr b="1" lang="en-US" sz="3200" spc="1" strike="noStrike">
              <a:ln w="0">
                <a:noFill/>
              </a:ln>
              <a:solidFill>
                <a:srgbClr val="000029"/>
              </a:solidFill>
              <a:latin typeface="Times New Roman"/>
              <a:ea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590920" y="609480"/>
            <a:ext cx="3886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ương 8</a:t>
            </a:r>
            <a:endParaRPr b="0" lang="en-US" sz="5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6" name="Minus 10"/>
          <p:cNvSpPr/>
          <p:nvPr/>
        </p:nvSpPr>
        <p:spPr>
          <a:xfrm>
            <a:off x="2666880" y="1371600"/>
            <a:ext cx="3657600" cy="30492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228600" y="4952880"/>
            <a:ext cx="86868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4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FF52-AE81-4C3D-9C2A-4F8614C359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9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C456-2925-434B-9E2D-371E35212E3A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n gốc văn bản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: Có </a:t>
            </a:r>
            <a:r>
              <a:rPr b="1" i="1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ữ ký trực tiếp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của người có thẩm quyền ban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n gốc là cơ sở pháp lý để hình thành bản chí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n chính văn bản: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Không có </a:t>
            </a:r>
            <a:r>
              <a:rPr b="1" i="1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ữ ký trực tiếp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của người có thẩm quyền ban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2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5. BAN HÀNH VĂN BẢ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41E3-1752-4446-A057-063D74D09F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4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083C-35DC-44A9-B946-3CFE324593C3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óng dấ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ào Sổ công văn đ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át hành văn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ăn bả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n gốc lưu tại Văn th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n chính lưu trong hồ s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eo dõi việc thực hiệ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ể kịp thời điều chỉ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Rút kinh nghiệ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7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5. BAN HÀNH VĂN BẢ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Y TRÌNH SOẠN THẢO &amp; BAN HÀNH VĂN BẢN – Q. TÂY HỒ, HÀ NỘ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482A-5A34-4DAE-870C-9619A1BCA3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A79D-F28D-4206-8818-BA0F2020470F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61" name="Picture 2" descr="http://tayho.gov.vn/cgtdt/web/images/upload1/image/2007-09-05_093840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66E2-61F8-4196-96C0-049FB78720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3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C055-C15A-4A09-9FC5-312D235B9734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1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êu các yêu cầu đối với việc soạn thảo và ban hành văn bả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2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êu các bước soạn thảo và ban hành văn bả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6" name="Horizontal Scroll 6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ÂU HỎI ÔN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104C-BEC4-4229-B070-E1351F4B22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8" name="Date Placeholder 5"/>
          <p:cNvSpPr/>
          <p:nvPr/>
        </p:nvSpPr>
        <p:spPr>
          <a:xfrm>
            <a:off x="457200" y="6245280"/>
            <a:ext cx="3124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886B-E3BA-4C4E-8D6A-AC040F9B5709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29"/>
                </a:solidFill>
                <a:uFillTx/>
                <a:latin typeface="Times New Roman"/>
                <a:ea typeface="Times New Roman"/>
              </a:rPr>
              <a:t>Câu 1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Vấn đề nào sau đây không phải là nguyên tắc xây dựng, ban hành văn bản QPP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A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ảm bảo tính hợp hiến, hợp phá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Tuân thủ thẩm quyề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Có hiệu lực chậm nhất 15 ngày sau ngày được thông qua, công bố ban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D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Bảo đảm tính khả th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1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ÂU HỎI ÔN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E6A3-3C3A-4912-9356-FDB4938E80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9" name="Date Placeholder 2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A8B9-5279-42D9-8D90-7D3103F6281F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" y="1066680"/>
            <a:ext cx="41148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rinciples text editor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Drafting process &amp; issue document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2" name="Horizontal Scroll 5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 OF THE LECTUR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33" name="Picture 6" descr="http://r-img.com/books/shr/5/huong-dan-ky-thuat-quy-trinh-soan-thao-van-ban-hop-dong-va-cac-mau-thong-dung-moi-nhat.gif"/>
          <p:cNvPicPr/>
          <p:nvPr/>
        </p:nvPicPr>
        <p:blipFill>
          <a:blip r:embed="rId1"/>
          <a:stretch/>
        </p:blipFill>
        <p:spPr>
          <a:xfrm>
            <a:off x="4572000" y="1066680"/>
            <a:ext cx="4114800" cy="52578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9D93-1739-4AE1-BACF-C18091DA3F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5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125C-7C0C-488E-B9A1-5D3E843FE2E1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41148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guyên tắc soạn thảo văn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ình tự soạn thảo &amp; ban hành văn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8" name="Horizontal Scroll 5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BÀI GIẢ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39" name="Picture 6" descr="http://r-img.com/books/shr/5/huong-dan-ky-thuat-quy-trinh-soan-thao-van-ban-hop-dong-va-cac-mau-thong-dung-moi-nhat.gif"/>
          <p:cNvPicPr/>
          <p:nvPr/>
        </p:nvPicPr>
        <p:blipFill>
          <a:blip r:embed="rId1"/>
          <a:stretch/>
        </p:blipFill>
        <p:spPr>
          <a:xfrm>
            <a:off x="4572000" y="1066680"/>
            <a:ext cx="4114800" cy="52578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64BF-582F-4F0D-B76C-6B966BC05F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9717-4356-4A67-B1E2-EE2FFDED153F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441972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Văn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QPPL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Văn bản quy phạm pháp luậ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HC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Văn bản hành ch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TP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Văn bản tư phá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http://minhkhai.vn/hinhlon/119162.jpg"/>
          <p:cNvPicPr/>
          <p:nvPr/>
        </p:nvPicPr>
        <p:blipFill>
          <a:blip r:embed="rId1"/>
          <a:stretch/>
        </p:blipFill>
        <p:spPr>
          <a:xfrm>
            <a:off x="4952880" y="1066680"/>
            <a:ext cx="3733920" cy="52578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44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5" name="Horizontal Scroll 6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H MỤC TỪ VIẾT TẮ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FA45-53AD-4D59-B21D-660A1657D6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7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D739-C706-4D97-B628-A7FFE47CBACF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48" name="Picture 6" descr="http://minhkhai.vn/hinhlon/101104.jpg"/>
          <p:cNvPicPr/>
          <p:nvPr/>
        </p:nvPicPr>
        <p:blipFill>
          <a:blip r:embed="rId1"/>
          <a:stretch/>
        </p:blipFill>
        <p:spPr>
          <a:xfrm>
            <a:off x="5943600" y="1143000"/>
            <a:ext cx="2743200" cy="51814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49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0" name="Horizontal Scroll 6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NGUYÊN TẮC SOẠN THẢ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Round Diagonal Corner Rectangle 9"/>
          <p:cNvSpPr/>
          <p:nvPr/>
        </p:nvSpPr>
        <p:spPr>
          <a:xfrm>
            <a:off x="457200" y="1143000"/>
            <a:ext cx="541008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Hợp hiến &amp; hợp phá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2" name="Oval 11"/>
          <p:cNvSpPr/>
          <p:nvPr/>
        </p:nvSpPr>
        <p:spPr>
          <a:xfrm>
            <a:off x="457200" y="114300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Round Diagonal Corner Rectangle 12"/>
          <p:cNvSpPr/>
          <p:nvPr/>
        </p:nvSpPr>
        <p:spPr>
          <a:xfrm>
            <a:off x="457200" y="2209680"/>
            <a:ext cx="541008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úng thể thứ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4" name="Oval 13"/>
          <p:cNvSpPr/>
          <p:nvPr/>
        </p:nvSpPr>
        <p:spPr>
          <a:xfrm>
            <a:off x="457200" y="2209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5" name="Round Diagonal Corner Rectangle 14"/>
          <p:cNvSpPr/>
          <p:nvPr/>
        </p:nvSpPr>
        <p:spPr>
          <a:xfrm>
            <a:off x="457200" y="3276720"/>
            <a:ext cx="541008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úng thẩm quyề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6" name="Oval 15"/>
          <p:cNvSpPr/>
          <p:nvPr/>
        </p:nvSpPr>
        <p:spPr>
          <a:xfrm>
            <a:off x="457200" y="327672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7" name="Round Diagonal Corner Rectangle 16"/>
          <p:cNvSpPr/>
          <p:nvPr/>
        </p:nvSpPr>
        <p:spPr>
          <a:xfrm>
            <a:off x="457200" y="4343400"/>
            <a:ext cx="541008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ả thi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8" name="Oval 17"/>
          <p:cNvSpPr/>
          <p:nvPr/>
        </p:nvSpPr>
        <p:spPr>
          <a:xfrm>
            <a:off x="457200" y="434340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9" name="Round Diagonal Corner Rectangle 18"/>
          <p:cNvSpPr/>
          <p:nvPr/>
        </p:nvSpPr>
        <p:spPr>
          <a:xfrm>
            <a:off x="457200" y="5410080"/>
            <a:ext cx="541008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gôn ngữ hành chí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0" name="Oval 19"/>
          <p:cNvSpPr/>
          <p:nvPr/>
        </p:nvSpPr>
        <p:spPr>
          <a:xfrm>
            <a:off x="457200" y="54100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7D43-19CF-4355-A16E-87C5342D64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2" name="Date Placeholder 2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3878-3298-44E8-A7DB-70E6B01C9070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63" name="Picture 8" descr="http://daibieunhandan.vn/media/13/01/130131185740687/05-Tham-quyen-322013-380.jpg"/>
          <p:cNvPicPr/>
          <p:nvPr/>
        </p:nvPicPr>
        <p:blipFill>
          <a:blip r:embed="rId1"/>
          <a:stretch/>
        </p:blipFill>
        <p:spPr>
          <a:xfrm>
            <a:off x="5867280" y="1066680"/>
            <a:ext cx="2819520" cy="533412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64" name="Rectangle 3"/>
          <p:cNvSpPr/>
          <p:nvPr/>
        </p:nvSpPr>
        <p:spPr>
          <a:xfrm>
            <a:off x="457200" y="1066680"/>
            <a:ext cx="533412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phải phù hợp nguyên tắc của Hiến pháp &amp; quy định của pháp luật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o đảm tính thống nhất, thứ bậc hiệu lực pháp lý trong hệ thống pháp luật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 cấp dưới không trái VB cấp trê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6" name="Horizontal Scroll 6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. HỢP HIẾN &amp; HỢP PHÁ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7" name="Oval 7"/>
          <p:cNvSpPr/>
          <p:nvPr/>
        </p:nvSpPr>
        <p:spPr>
          <a:xfrm>
            <a:off x="5181480" y="5715000"/>
            <a:ext cx="533520" cy="6094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NI-Time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EBDB-A49F-4C3A-A06B-06C15E4A73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9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B553-2F53-440C-94F8-91418C5E5D82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533412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phải phù hợp nguyên tắc của Hiến pháp &amp; quy định của pháp luậ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o đảm tính thống nhất, thứ bậc hiệu lực pháp lý trong hệ thống pháp luậ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 cấp dưới không trái VB cấp tr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2" name="Horizontal Scroll 5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. HỢP HIẾN &amp; HỢP PHÁ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73" name="Picture 10" descr="http://t0.gstatic.com/images?q=tbn:ANd9GcT4MQ9uGoOYoJ5fe1jBdPRf1eWWdneyY8L4S_YRCAL_k_pvuWY2"/>
          <p:cNvPicPr/>
          <p:nvPr/>
        </p:nvPicPr>
        <p:blipFill>
          <a:blip r:embed="rId1"/>
          <a:stretch/>
        </p:blipFill>
        <p:spPr>
          <a:xfrm>
            <a:off x="5924520" y="1066680"/>
            <a:ext cx="2762280" cy="533412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E63A-187A-4CEB-8502-0241365E93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5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6EBD-0DB8-4EFA-A911-DD1D37135449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209680" y="1599840"/>
            <a:ext cx="6477120" cy="2133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lvl="2"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ốc hộ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Ủy ban Thường vụ Quốc hộ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ủ tướng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3520" y="4038480"/>
            <a:ext cx="8153280" cy="2362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ong tương lai: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HỘI ĐỒNG BẢO HIẾ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ÒA ÁN HIẾN PHÁ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9" name="Curved Right Arrow 7"/>
          <p:cNvSpPr/>
          <p:nvPr/>
        </p:nvSpPr>
        <p:spPr>
          <a:xfrm rot="19934400">
            <a:off x="542880" y="1260000"/>
            <a:ext cx="1341360" cy="2054520"/>
          </a:xfrm>
          <a:custGeom>
            <a:avLst/>
            <a:gdLst>
              <a:gd name="textAreaLeft" fmla="*/ 179640 w 1341360"/>
              <a:gd name="textAreaRight" fmla="*/ 1161720 w 1341360"/>
              <a:gd name="textAreaTop" fmla="*/ 387720 h 2054520"/>
              <a:gd name="textAreaBottom" fmla="*/ 1499040 h 20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6" stAng="-5400000" swAng="-5400000"/>
                <a:lnTo>
                  <a:pt x="0" y="11682"/>
                </a:lnTo>
                <a:arcTo wR="21600" hR="8156" stAng="10800000" swAng="-3338134"/>
                <a:lnTo>
                  <a:pt x="16200" y="21341"/>
                </a:lnTo>
                <a:lnTo>
                  <a:pt x="21600" y="18075"/>
                </a:lnTo>
                <a:lnTo>
                  <a:pt x="16200" y="14291"/>
                </a:lnTo>
                <a:lnTo>
                  <a:pt x="16200" y="16053"/>
                </a:lnTo>
                <a:arcTo wR="21600" hR="8156" stAng="7461866" swAng="3051416"/>
                <a:lnTo>
                  <a:pt x="511" y="9919"/>
                </a:lnTo>
                <a:arcTo wR="21600" hR="8156" stAng="-10513282" swAng="5113282"/>
                <a:close/>
              </a:path>
              <a:path fill="darkenLess" w="21600" h="21600">
                <a:moveTo>
                  <a:pt x="21600" y="0"/>
                </a:moveTo>
                <a:arcTo wR="21600" hR="8156" stAng="-5400000" swAng="-5400000"/>
                <a:lnTo>
                  <a:pt x="0" y="8156"/>
                </a:lnTo>
                <a:arcTo wR="21600" hR="8156" stAng="10800000" swAng="-286718"/>
                <a:lnTo>
                  <a:pt x="511" y="9919"/>
                </a:lnTo>
                <a:arcTo wR="21600" hR="8156" stAng="-10513282" swAng="5113282"/>
                <a:close/>
              </a:path>
            </a:pathLst>
          </a:cu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0" name="Horizontal Scroll 8"/>
          <p:cNvSpPr/>
          <p:nvPr/>
        </p:nvSpPr>
        <p:spPr>
          <a:xfrm>
            <a:off x="304920" y="76320"/>
            <a:ext cx="8458200" cy="15238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ẨM QUYỀN BÃI BỎ VĂN BẢN QPPL VI HIẾ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3-10-14T09:40:35Z</dcterms:modified>
  <cp:revision>264</cp:revision>
  <dc:subject/>
  <dc:title>Chương 8</dc:title>
</cp:coreProperties>
</file>