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8510-66FA-48F8-805F-9ABA439D3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D405-0264-42BC-8798-695AB8B7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0F2F-1376-4BD5-9386-32E191353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1CD8-0676-4D46-9257-CD4B64F5D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EDEF-3A10-403C-9D3D-251AE8167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A8B4-B97C-40C7-9892-D5BD2E1E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A6A2-49FB-4875-85DC-FB14D5F3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C060-BA6E-4251-838B-78E5BC1E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D733-FDC5-4BCB-85B3-DBF24369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8BA7-6918-4079-BBCA-BF608E08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762E-61A8-4ACB-B8F0-A5F3CD67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187F-2BB5-40F1-B887-7D7A8AD1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EAF9-850D-448F-9943-3BC36A21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B6B4-C151-4E67-8B55-96B9CC78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F654-956C-4310-8ECC-2794EB4D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4872-AA0D-42B1-BFF8-9BC4D49F6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85AB5-E52D-446D-98D4-29A419CBE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D03B-00D0-4A98-9B5A-EE5D52F1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F735-A527-478A-ADD4-3B146249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96EE-8749-4E49-90DD-39DFFEAB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31A8-2252-4C29-B7AB-BE7678A2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FC56-8F48-4587-8D37-FFAD9E4A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DDE1-135E-48C2-ADC0-290B2147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1961-E762-4044-8B23-F4779CB2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31BD-917C-439A-900B-AE7C6BAB979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7B80-AF6F-4719-902A-7426D12F547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../FILE HO TRO BAI GIANG/MAU D&#416;N YEU CAU_DE NGHI.doc" TargetMode="External"/><Relationship Id="rId2" Type="http://schemas.openxmlformats.org/officeDocument/2006/relationships/hyperlink" Target="../FILE HO TRO BAI GIANG/MAU DON CHO SINH VIEN.doc" TargetMode="External"/><Relationship Id="rId3" Type="http://schemas.openxmlformats.org/officeDocument/2006/relationships/hyperlink" Target="../FILE HO TRO BAI GIANG/MAU THU XIN VIEC_SINH VIEN MOI TOT NGHIEP.doc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34920" y="44280"/>
            <a:ext cx="9109080" cy="681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66"/>
                </a:solidFill>
                <a:uFillTx/>
                <a:latin typeface="Arial"/>
              </a:rPr>
              <a:t>BÀI 9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KỸ THUẬT SOẠN THẢO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ĐƠN THƯ CÁ NHÂN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Ố TIẾT GiẢNG: 1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3600" spc="-1" strike="noStrike">
                <a:solidFill>
                  <a:srgbClr val="000066"/>
                </a:solidFill>
                <a:latin typeface="VNI-Times"/>
              </a:rPr>
              <a:t>Ñoái vôùi ñôn toá caùo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Toá caùo ai? Toá caùo vieäc gì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Trình baøy ngaén goïn dieãn bieán söï vieäc xaûy ra (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thôøi gian, ñòa ñieåm, chuû theå thöïc hieän haønh vi, ngöôøi laøm chöùng…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Haäu quaû xaûy ra ñoái vôùi ngöôøi lieân qua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D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ö luaän quaàn chuù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NI-Times"/>
              </a:rPr>
              <a:t>4.3. </a:t>
            </a:r>
            <a:r>
              <a:rPr b="1" lang="vi-VN" sz="3600" spc="-1" strike="noStrike">
                <a:solidFill>
                  <a:srgbClr val="000066"/>
                </a:solidFill>
                <a:latin typeface="VNI-Times"/>
              </a:rPr>
              <a:t>Phaàn keát thuùc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L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ôøi cam keát 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về 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tính xaùc thöïc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nhöõng noäi dung neâu trong ñôn vaø caùc taøi lieäu keøm theo (neáu coù)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Đề nghị ñöôïc giaûi quyeá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Lôøi chaøo traân troïng hoaëc lôøi caûm ôn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0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	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“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Trong khi chờ 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ñ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ợi sự chấp thuận 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(giaûi quyeát) 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của qu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yù cô quan 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…., t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oâi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 xin ch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aâ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n th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aø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nh cảm ơn”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VNI-Times"/>
              </a:rPr>
              <a:t>Moät soá maãu ñôn, th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Đơn yêu cầu, đề nghị</a:t>
            </a:r>
            <a:r>
              <a:rPr b="0" lang="en-US" sz="3600" spc="-1" strike="noStrike" u="sng">
                <a:solidFill>
                  <a:srgbClr val="336699"/>
                </a:solidFill>
                <a:uFillTx/>
                <a:latin typeface="Times New Roman"/>
                <a:hlinkClick r:id="rId1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Đơn dành cho sinh viên</a:t>
            </a:r>
            <a:r>
              <a:rPr b="0" lang="en-US" sz="3600" spc="-1" strike="noStrike" u="sng">
                <a:solidFill>
                  <a:srgbClr val="336699"/>
                </a:solidFill>
                <a:uFillTx/>
                <a:latin typeface="Times New Roman"/>
                <a:hlinkClick r:id="rId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Thư xin việc</a:t>
            </a:r>
            <a:r>
              <a:rPr b="0" lang="en-US" sz="3600" spc="-1" strike="noStrike" u="sng">
                <a:solidFill>
                  <a:srgbClr val="336699"/>
                </a:solidFill>
                <a:uFillTx/>
                <a:latin typeface="Times New Roman"/>
                <a:hlinkClick r:id="rId3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ttp://www.tintuctuyensinh.org/images/news/img1/a-651.jpg"/>
          <p:cNvPicPr/>
          <p:nvPr/>
        </p:nvPicPr>
        <p:blipFill>
          <a:blip r:embed="rId1"/>
          <a:stretch/>
        </p:blipFill>
        <p:spPr>
          <a:xfrm>
            <a:off x="561960" y="476280"/>
            <a:ext cx="8082000" cy="4738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ttp://ulsasontay.edu.vn/upload/9860_1347245252_diem-thi-tot-nghiep-thpt-nam-2012.jpg"/>
          <p:cNvPicPr/>
          <p:nvPr/>
        </p:nvPicPr>
        <p:blipFill>
          <a:blip r:embed="rId2"/>
          <a:stretch/>
        </p:blipFill>
        <p:spPr>
          <a:xfrm>
            <a:off x="173160" y="1933560"/>
            <a:ext cx="3809880" cy="33526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642960" y="5286240"/>
            <a:ext cx="4143240" cy="8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NI-Thufap3"/>
              </a:rPr>
              <a:t>Chuùc thaønh coâng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5072040" y="5286240"/>
            <a:ext cx="3500640" cy="8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NI-Thufap3"/>
              </a:rPr>
              <a:t>Wish succes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8e"/>
                </a:solidFill>
                <a:latin typeface="Times New Roman"/>
              </a:rPr>
              <a:t>NHỮNG NỘI DUNG CHÍNH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1. Khaùi nieäm ñôn, thö caù nhaâ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2. Đaëc ñieåm cuûa ñôn, thö caù nhaâ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3. Caùc loaïi ñôn, thö caù nhaâ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4. Phương phaùp soaïn thaûo ñôn, thö caù nhaâ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5. Maãu moät soá loaïi ñôn, thö caù nhaân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1. Khái niệm </a:t>
            </a:r>
            <a:r>
              <a:rPr b="1" lang="en-US" sz="3600" spc="-1" strike="noStrike">
                <a:solidFill>
                  <a:srgbClr val="000066"/>
                </a:solidFill>
                <a:latin typeface="VNI-Times"/>
              </a:rPr>
              <a:t>ñôn, thö caù nhaâ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Taøi lieäu theå hieän yù chí, nguyeän voïng, mong muoán 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cuûa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caù nhaân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Hình thaønh trong quaù trình tham gia caùc quan heä xaõ hoäi cuûa caù nhaâ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Coâng cuï ñeå thöïc hieän vaø baûo veä quyeàn, lôïi ích hôïp phaùp cuûa caù nhaân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NI-Times"/>
              </a:rPr>
              <a:t>2. Ñaëc ñieåm cuûa ñôn, thö caù nhaâ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03920" indent="-40392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VNI-Times"/>
              </a:rPr>
              <a:t>Chuû theå: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 caù nhaân coù naêng löïc haønh vi daân söï ñaày ñuû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VNI-Times"/>
              </a:rPr>
              <a:t>Noäi dung: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 yù chí, mong muoán cuûa caù nhaâ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VNI-Times"/>
              </a:rPr>
              <a:t>Muïc ñích: 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thöïc hieän vaø baûo veä quyeàn, lôïi ích hôïp phaùp cuûa caù nhaâ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VNI-Times"/>
              </a:rPr>
              <a:t>Ñieàu kieän ban haønh: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 theo quy ñònh cuûa phaùp luaät hoaëc yù chí cuûa caù nhaâ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VNI-Times"/>
              </a:rPr>
              <a:t>Theå thöùc: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 theo quy ñònh chung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Times New Roman"/>
              </a:rPr>
              <a:t>3. Các loại đơn, thư cá nhâ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08600" indent="-4086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Ñôn ñeà nghò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(ñeà ñaït nguyeän voïng)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Ñôn yeâu caàu (giaûi quyeát vuï vieäc)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Ñôn khaùng caùo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Ñôn, thư xin vieäc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Ñôn khieáu naïi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, 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toá caùo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Di chuùc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Times New Roman"/>
              </a:rPr>
              <a:t>4. Cấu trúc và cách soạn thả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Phần mở ñaà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Phaàn noäi du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Phaàn keát thuùc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NI-Times"/>
              </a:rPr>
              <a:t>4.1. </a:t>
            </a:r>
            <a:r>
              <a:rPr b="1" lang="vi-VN" sz="3600" spc="-1" strike="noStrike">
                <a:solidFill>
                  <a:srgbClr val="000066"/>
                </a:solidFill>
                <a:latin typeface="VNI-Times"/>
              </a:rPr>
              <a:t>Phaàn </a:t>
            </a:r>
            <a:r>
              <a:rPr b="1" lang="en-US" sz="3600" spc="-1" strike="noStrike">
                <a:solidFill>
                  <a:srgbClr val="000066"/>
                </a:solidFill>
                <a:latin typeface="VNI-Times"/>
              </a:rPr>
              <a:t>môû ñaàu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66"/>
                </a:solidFill>
                <a:latin typeface="VNI-Times"/>
              </a:rPr>
              <a:t>Giôùi thieäu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 toùm taét ñaëc ñieåm veà nhaân thaân cuûa chuû theå vieát ñôn:</a:t>
            </a:r>
            <a:r>
              <a:rPr b="1" lang="en-US" sz="3200" spc="-1" strike="noStrike">
                <a:solidFill>
                  <a:srgbClr val="000066"/>
                </a:solidFill>
                <a:latin typeface="VNI-Time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66"/>
                </a:solidFill>
                <a:latin typeface="VNI-Times"/>
              </a:rPr>
              <a:t>Hoï vaø teân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66"/>
                </a:solidFill>
                <a:latin typeface="VNI-Times"/>
              </a:rPr>
              <a:t>Ng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aø</a:t>
            </a:r>
            <a:r>
              <a:rPr b="0" lang="vi-VN" sz="3200" spc="-1" strike="noStrike">
                <a:solidFill>
                  <a:srgbClr val="000066"/>
                </a:solidFill>
                <a:latin typeface="VNI-Times"/>
              </a:rPr>
              <a:t>y th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aù</a:t>
            </a:r>
            <a:r>
              <a:rPr b="0" lang="vi-VN" sz="3200" spc="-1" strike="noStrike">
                <a:solidFill>
                  <a:srgbClr val="000066"/>
                </a:solidFill>
                <a:latin typeface="VNI-Times"/>
              </a:rPr>
              <a:t>ng năm sinh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Chứng minh nhaân daân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66"/>
                </a:solidFill>
                <a:latin typeface="VNI-Times"/>
              </a:rPr>
              <a:t>Chöùc v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uï </a:t>
            </a:r>
            <a:r>
              <a:rPr b="0" lang="vi-VN" sz="3200" spc="-1" strike="noStrike">
                <a:solidFill>
                  <a:srgbClr val="000066"/>
                </a:solidFill>
                <a:latin typeface="VNI-Times"/>
              </a:rPr>
              <a:t>(neáu coù)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66"/>
                </a:solidFill>
                <a:latin typeface="VNI-Times"/>
              </a:rPr>
              <a:t>Ñôn vò coâng taùc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66"/>
                </a:solidFill>
                <a:latin typeface="VNI-Times"/>
              </a:rPr>
              <a:t>Ñòa chæ cö truù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Soá ñieän thoaïi lieân laïc; E-mail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NI-Times"/>
              </a:rPr>
              <a:t>4.2. Phaàn noäi dung moät soá loaïi ñô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3400" spc="-1" strike="noStrike">
                <a:solidFill>
                  <a:srgbClr val="000066"/>
                </a:solidFill>
                <a:latin typeface="VNI-Times"/>
              </a:rPr>
              <a:t>Ñoái vôùi ñôn ñeà nghò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Nguyeän voïng cuûa ngö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ôø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i vieát ñôn;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Hoaøn caûnh cuûa ngöôøi vieát ñôn;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Caùc cô sôû 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cuûa 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nguyeän voïng;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L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yù do vieát ñôn ñeà nghò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;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Caùc ñeà nghò cuï theå caàn 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ñöôïc 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xem xeùt giaûi quyeát.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3600" spc="-1" strike="noStrike">
                <a:solidFill>
                  <a:srgbClr val="000066"/>
                </a:solidFill>
                <a:latin typeface="VNI-Times"/>
              </a:rPr>
              <a:t>Ñoái vôùi ñôn khieáu naïi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99240" indent="-39924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Neâu roõ ñoái töôïng khieáu naïi: 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Q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uyeát ñònh haønh chính hay haønh vi haønh chính;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99240" indent="-39924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Noäi dung khieáu naïi: 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t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oùm taét vuï vieäc xaûy ra; quyeàn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, 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lôïi ích bò xaâm phaïm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; 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thieät haïi vaät chaát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, tinh thaàn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99240" indent="-39924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Ñeà nghò cuï theå khoâi phuïc quyeàn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,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 lôïi ích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 bò xaâm phaïm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, 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möùc 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boài thöôøng thieät haïi.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2:33:18Z</dcterms:created>
  <dc:creator>Bài giảng QTVP_Thầy Nam Hà</dc:creator>
  <dc:description/>
  <dc:language>en-US</dc:language>
  <cp:lastModifiedBy>ntc</cp:lastModifiedBy>
  <dcterms:modified xsi:type="dcterms:W3CDTF">2013-08-09T10:59:29Z</dcterms:modified>
  <cp:revision>68</cp:revision>
  <dc:subject/>
  <dc:title>Chương 9.8</dc:title>
</cp:coreProperties>
</file>