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34F2-12D6-4A56-964D-C5600E9D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BD08-D54C-4107-8423-996152D2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05BB-9E44-47C0-9CEA-9EF98C97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79CE-14E0-446A-8A1D-3D9D5E89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150A-7EB8-4B01-82C4-552BB2E7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562A-4CCD-4762-B40D-6BA6154E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E467-B9B9-423B-A485-716C6109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95A3-A7ED-4665-8323-8E65F22A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F554-A521-4D5D-B115-DDF54114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9B90-D84B-47DA-8489-C8617FB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AF6A-DF95-4DB7-B161-775D5BE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9990-5E14-420A-9444-F1B157F6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B3A9-1513-418D-9B48-2F5A45F4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E54F-7793-4A5F-BD25-DC871A77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DA13-5404-44A9-B195-01821ABB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3A0E-14F2-4F5D-AD65-188F593F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A422-4E94-49D9-92B7-06379EB3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2706-CE23-4E2F-B408-098AAD40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22AF-983D-4845-BED3-4B2D4725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7A08-59E3-49D8-B581-10D1BE28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E5D7-2815-495B-A0A3-4A1062D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6F611-3EF8-49B7-B3EA-B676FCF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7E882-7CC9-4F14-8CBE-B68F7CA1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AF07-FE29-47B9-B404-C666A9C0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B10B-D985-4033-95A6-CCEA8F95D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9157-76F2-4E5C-90F4-0222E016FD8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BBCF-B885-4D70-BBBD-1DF44646774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8B75-E896-4F65-A787-39C970A02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2A1E-9B56-494B-9E1D-94DBFCCB1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2EF3-921B-4778-A1CF-9D31EE2FE2C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3</a:t>
            </a:r>
            <a:br>
              <a:rPr sz="4000"/>
            </a:br>
            <a:br>
              <a:rPr sz="4000"/>
            </a:br>
            <a:r>
              <a:rPr b="1" lang="en-US" sz="5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Ờ TRÌNH</a:t>
            </a:r>
            <a:br>
              <a:rPr sz="5800"/>
            </a:b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E5A2-BE25-4348-9183-C842907BC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CB32-5D92-41E6-BC05-B64DC659535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ẫu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: Soạn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6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F3FB-943F-4526-B022-8642785BC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10AA-0543-4DC0-BB84-68DB443ECA8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ùng cho CQ, TC cấp dư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 Đề xuất, xin phê duyệt vấn đề thuộc thẩm quyền quyết định của CQ, TC cấp trê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2966-B7FE-4A4B-8FEB-D3FF416851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5A0B-A4FE-4C4D-8A1E-BFE3CCEC31A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ấn đề xin phê duyệt, đề xuất phải được diễn giải bằng phương á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giải pháp thực hiện phải mang tính khả th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D00F-2F0A-42F3-8C3D-B19A9953C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B772-F372-414B-A019-7A16963F578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ận định tình hình thực tế (thuận lợi, khó khăn) từ đó chỉ ra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Horizontal Scroll 5"/>
          <p:cNvSpPr/>
          <p:nvPr/>
        </p:nvSpPr>
        <p:spPr>
          <a:xfrm>
            <a:off x="457200" y="0"/>
            <a:ext cx="8229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Ờ TRÌ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6"/>
          <p:cNvSpPr/>
          <p:nvPr/>
        </p:nvSpPr>
        <p:spPr>
          <a:xfrm>
            <a:off x="533520" y="9144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09480" y="419112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đề xuất, phương án thực h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8"/>
          <p:cNvSpPr/>
          <p:nvPr/>
        </p:nvSpPr>
        <p:spPr>
          <a:xfrm>
            <a:off x="533520" y="34290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09480" y="563868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Ý nghĩa, tác dụng của đề xuấ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Horizontal Scroll 10"/>
          <p:cNvSpPr/>
          <p:nvPr/>
        </p:nvSpPr>
        <p:spPr>
          <a:xfrm>
            <a:off x="533520" y="487692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2550-A2F2-425F-A718-E39AF09B9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2D6B-9874-4368-B026-E27DEC0AEA3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Tr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28600" y="5867280"/>
            <a:ext cx="3733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114800" y="5867280"/>
            <a:ext cx="5029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ỀN HẠN, 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1752480"/>
            <a:ext cx="9144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   </a:t>
            </a: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Ờ TRÌN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. . . . . . . . . . . . . . 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ính gởi: …………………………………………………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ận định tình hình, phân tích thuận lợi, khó khăn làm cơ sở cho việc đề xuất vấn đề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nội dung của đề xuất, các phương án thực hiện, dự kiến vấn đề có thể phát sinh kh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Nêu khó khăn, thuận lợi (chủ quan, khách quan) khi triển khai thực hiện và dự kiến biện pháp khắc phục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kết thúc: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ý nghĩa, tác dụng của đề xuất; đề nghị cấp trên xem xét chấp thuận để sớm triển kha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86200" y="259092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914400" y="60948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724280" y="914400"/>
            <a:ext cx="32767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B4C9-95BB-48B6-973F-D1B62514E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A898-01CD-417E-A398-4A5D92D81B1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7" name="Picture 2" descr="http://trustbank.com.vn/img/Upload/26_10_2011_3_54_56_CH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3.bp.blogspot.com/-m8FhZRqtfPY/TvLwL3RoZOI/AAAAAAAABns/pX4BAgs-ALM/s640/004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Multiply 5"/>
          <p:cNvSpPr/>
          <p:nvPr/>
        </p:nvSpPr>
        <p:spPr>
          <a:xfrm>
            <a:off x="5029200" y="4800600"/>
            <a:ext cx="1828800" cy="19810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D052-B37A-4BB3-9293-12BF58577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C021-8663-4D6D-BAC8-BCED759D045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5"/>
          <p:cNvSpPr/>
          <p:nvPr/>
        </p:nvSpPr>
        <p:spPr>
          <a:xfrm>
            <a:off x="380880" y="7632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ờ trình và những nội dung chính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F4ED-F52E-4E97-BB86-4828A6720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EAB9-71C2-4E1D-B2C7-BB2EBD7603F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14300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Giám đốc Chi nhánh Công ty CP Hoa Mai tại Bình Dương, em hãy soạn Tờ trình gởi Tổng Giám đốc Công ty xin tuyển dụng 2 nhân viên cho Phòng Kinh doanh, mua một ô-tô tải 2,5 tấn phục vụ cho công việc kinh doanh của Chi nhá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Biết: Doanh thu 2013: 10 tỷ; lợi nhuận: 800 triệu; chỉ tiêu doanh thu 2014: 12 tỷ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 (45p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2-17T03:32:27Z</dcterms:modified>
  <cp:revision>318</cp:revision>
  <dc:subject/>
  <dc:title>Chương 9.3</dc:title>
</cp:coreProperties>
</file>