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E958F-08D8-4763-B825-E42B284A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0D057-F153-457E-944E-DCAF81A8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65193-ECD7-47CB-91DC-9AC75368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98119-1E6C-43C6-BE2B-1CD2F89DC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FC34-4CF5-4153-88CD-66BC0CF5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110D-79DA-4A44-97AF-96BF0028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E09F-D402-4F66-87E6-42718BA0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AB6C-E9F0-41E8-9D47-51F6F2BD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FADA-9EA9-4C73-9231-A0279893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FAFE-932C-4FBE-B14B-5003869E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A758-2FF0-4302-9949-2DA47454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3110B-E186-485C-80E0-0FBA30F5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49D1-4D6E-4E23-8B7E-C993C000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F70A-9B1B-4888-A689-4C0DCA11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F8DA-09EE-48FA-82AA-8B70A3BC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3619-65E1-4F81-A9F7-F9173C227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570F-BEA8-4CC1-AAAE-D8F269B92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89407-42F2-4FBD-8BE9-861CDC62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77743-3A0B-4365-9721-2AC523FF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34164-9F56-4209-B2D3-FB8594B3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32D81-FDAA-4A2B-A77A-58C2B7B4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D88E4-E35F-4466-8855-FD181BF0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0BCA2-1C51-4DA9-B0CC-E1609E25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B1A0C-43F9-49F0-AD42-7DD80076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8647-A680-4472-80A5-F498891610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8C84-8727-4C19-A4CB-ABA735B7C723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8E30-852E-491F-A905-76FADB3E8B80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0E82-353E-4FB2-B8EE-F6AEFF7555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C7AB-B6E6-4504-A5A1-3B18952869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98E1-1DFA-4FF4-87E3-83E9D012652C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A81D-6B67-48F1-A6CF-720D8C082A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9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CCD4-913C-4213-B8D0-88412C61165D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7376-103A-48A5-A874-0CC070ED95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1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E061-F9D0-4838-BDE4-4F9B91D70091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2" name="Bevel 9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944"/>
            </a:avLst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590920" y="457200"/>
            <a:ext cx="38862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apter 8</a:t>
            </a:r>
            <a:endParaRPr b="0" lang="en-US" sz="5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4" name="Minus 12"/>
          <p:cNvSpPr/>
          <p:nvPr/>
        </p:nvSpPr>
        <p:spPr>
          <a:xfrm>
            <a:off x="2666880" y="1219320"/>
            <a:ext cx="3657600" cy="30456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228600" y="4952880"/>
            <a:ext cx="86868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Periods for lecture: 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Homestudy: 4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6" name="WordArt 7"/>
          <p:cNvSpPr txBox="1"/>
          <p:nvPr/>
        </p:nvSpPr>
        <p:spPr>
          <a:xfrm>
            <a:off x="380880" y="1905120"/>
            <a:ext cx="83822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29"/>
                </a:solidFill>
                <a:latin typeface="Times New Roman"/>
              </a:rPr>
              <a:t>THE PROCESS OF PREPARING</a:t>
            </a:r>
            <a:endParaRPr b="1" lang="en-US" sz="3200" spc="1" strike="noStrike">
              <a:ln w="0">
                <a:noFill/>
              </a:ln>
              <a:solidFill>
                <a:srgbClr val="0000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29"/>
                </a:solidFill>
                <a:latin typeface="Times New Roman"/>
              </a:rPr>
              <a:t>AND ISSUING DOCUMENTS</a:t>
            </a:r>
            <a:endParaRPr b="1" lang="en-US" sz="3200" spc="1" strike="noStrike">
              <a:ln w="0">
                <a:noFill/>
              </a:ln>
              <a:solidFill>
                <a:srgbClr val="000029"/>
              </a:solidFill>
              <a:latin typeface="Times New Roman"/>
              <a:ea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Tòa án Hiến pháp Liên bang Đức</a:t>
            </a:r>
            <a:br>
              <a:rPr sz="3600"/>
            </a:b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(Das Bundesverfassungsgerich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B9D2-9617-4246-9AC8-EEAF7C19C5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3177-793E-4C5D-8C05-EACAF0D65C56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84" name="Picture 2" descr="Tòa án Hiến pháp Liên bang &amp;Dstrok;ức sẽ mất ít nhất hai tháng &amp;dstrok;ể quyết &amp;dstrok;ịnh liệu có ban hành lệnh &amp;dstrok;ình chỉ Cơ chế Bình ổn châu Âu (ESM)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14CB-3FF3-48BD-B687-3016AFD60A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6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4F94-061B-4263-BD34-528CE60F975E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ốc hộ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Ủy ban Thường vụ quốc hộ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ủ tịch nướ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ính ph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ủ tướng Chính ph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òa án nhân dân tối c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iện kiểm sát nhân dân tối ca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9" name="Horizontal Scroll 5"/>
          <p:cNvSpPr/>
          <p:nvPr/>
        </p:nvSpPr>
        <p:spPr>
          <a:xfrm>
            <a:off x="304920" y="76320"/>
            <a:ext cx="8458200" cy="9144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ỐC HỘI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90" name="Picture 6" descr="http://brt.com.vn/mediastore/BRVT/2012/09/06/QH.jpg"/>
          <p:cNvPicPr/>
          <p:nvPr/>
        </p:nvPicPr>
        <p:blipFill>
          <a:blip r:embed="rId1"/>
          <a:stretch/>
        </p:blipFill>
        <p:spPr>
          <a:xfrm>
            <a:off x="5867280" y="2990880"/>
            <a:ext cx="2819520" cy="249552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91" name="Rectangle 3"/>
          <p:cNvSpPr/>
          <p:nvPr/>
        </p:nvSpPr>
        <p:spPr>
          <a:xfrm>
            <a:off x="457200" y="990720"/>
            <a:ext cx="822960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ó quyền hủy bỏ văn bản QPPL của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2" name="Down Arrow 8"/>
          <p:cNvSpPr/>
          <p:nvPr/>
        </p:nvSpPr>
        <p:spPr>
          <a:xfrm>
            <a:off x="3241800" y="1600200"/>
            <a:ext cx="27018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178D-AC7F-4BB6-8E3B-CFB3381006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4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54BD-01B3-445E-BD74-90A64AC71F37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95" name="Picture 2" descr="http://www.na.gov.vn/SodoQH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7140-8559-4402-9F9A-5FA3F65248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7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9E13-9334-4F0C-A0D2-DA35BB84CDA6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5105520" cy="38098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ính ph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ủ tướng Chính ph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òa án nhân dân tối c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iện kiểm sát nhân dân tối c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Hội đồng nhân dân tỉ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0" name="Horizontal Scroll 5"/>
          <p:cNvSpPr/>
          <p:nvPr/>
        </p:nvSpPr>
        <p:spPr>
          <a:xfrm>
            <a:off x="304920" y="76320"/>
            <a:ext cx="8458200" cy="9144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ỦY BAN THƯỜNG VỤ QUỐC HỘI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01" name="Picture 6" descr="http://media.tinmoi.vn/2012/04/11/84_7_1334109415_19_vu%2071334108234_340x250.jpg"/>
          <p:cNvPicPr/>
          <p:nvPr/>
        </p:nvPicPr>
        <p:blipFill>
          <a:blip r:embed="rId1"/>
          <a:stretch/>
        </p:blipFill>
        <p:spPr>
          <a:xfrm>
            <a:off x="5638680" y="990720"/>
            <a:ext cx="3048120" cy="54100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202" name="Rectangle 3"/>
          <p:cNvSpPr/>
          <p:nvPr/>
        </p:nvSpPr>
        <p:spPr>
          <a:xfrm>
            <a:off x="457200" y="990720"/>
            <a:ext cx="5105520" cy="12952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ó quyền hủy bỏ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ăn bản QPPL của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3" name="Down Arrow 8"/>
          <p:cNvSpPr/>
          <p:nvPr/>
        </p:nvSpPr>
        <p:spPr>
          <a:xfrm>
            <a:off x="2133720" y="2286000"/>
            <a:ext cx="167616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A823-B4E9-4FF5-994B-3D33528E71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5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5F3A-F80C-47EA-8C81-FF9653A8B2BA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3428640"/>
            <a:ext cx="4114800" cy="2895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ộ trưở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ủ trưởng Cơ quan ngang B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Ủy ban tỉ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8" name="Horizontal Scroll 5"/>
          <p:cNvSpPr/>
          <p:nvPr/>
        </p:nvSpPr>
        <p:spPr>
          <a:xfrm>
            <a:off x="304920" y="76320"/>
            <a:ext cx="8458200" cy="9144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Ủ TƯỚNG CHÍNH PHỦ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09" name="Picture 8" descr="http://vovradio.vn/webmedia/RadioArticle/2437/7.jpg"/>
          <p:cNvPicPr/>
          <p:nvPr/>
        </p:nvPicPr>
        <p:blipFill>
          <a:blip r:embed="rId1"/>
          <a:stretch/>
        </p:blipFill>
        <p:spPr>
          <a:xfrm>
            <a:off x="4876920" y="914400"/>
            <a:ext cx="3809880" cy="54100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210" name="Rectangle 3"/>
          <p:cNvSpPr/>
          <p:nvPr/>
        </p:nvSpPr>
        <p:spPr>
          <a:xfrm>
            <a:off x="457200" y="990720"/>
            <a:ext cx="4114800" cy="19047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ó quyền bãi bỏ, đình chỉ thi hà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ăn bản QPPL của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1" name="Down Arrow 8"/>
          <p:cNvSpPr/>
          <p:nvPr/>
        </p:nvSpPr>
        <p:spPr>
          <a:xfrm>
            <a:off x="1546200" y="2895480"/>
            <a:ext cx="18828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DD0E-390C-410E-A4A2-1FDF974667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3" name="Date Placeholder 5"/>
          <p:cNvSpPr/>
          <p:nvPr/>
        </p:nvSpPr>
        <p:spPr>
          <a:xfrm>
            <a:off x="457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856D-2494-4AC8-BA02-429DE2CC7E27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4479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ơ quan ban hành văn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ơ quan cấp tr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6" name="Horizontal Scroll 5"/>
          <p:cNvSpPr/>
          <p:nvPr/>
        </p:nvSpPr>
        <p:spPr>
          <a:xfrm>
            <a:off x="304920" y="0"/>
            <a:ext cx="8458200" cy="15238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ẨM QUYỀN HỦY BỎ VĂN BẢN TƯ PHÁ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457200" y="4267080"/>
            <a:ext cx="8229600" cy="20574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ơ quan, tổ chức ban hà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ơ quan, tổ chức cấp trê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òa án nhân dâ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8" name="Horizontal Scroll 7"/>
          <p:cNvSpPr/>
          <p:nvPr/>
        </p:nvSpPr>
        <p:spPr>
          <a:xfrm>
            <a:off x="304920" y="2895480"/>
            <a:ext cx="8458200" cy="15242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ẨM QUYỀN HỦY BỎ VĂN BẢN HÀNH CHÍ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A20D-8876-4330-A558-CE9DB3AD9C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0" name="Date Placeholder 5"/>
          <p:cNvSpPr/>
          <p:nvPr/>
        </p:nvSpPr>
        <p:spPr>
          <a:xfrm>
            <a:off x="457200" y="6245280"/>
            <a:ext cx="3124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211C-3A59-49FF-9BB6-6D1CE57E2860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ể thức văn bản do pháp luật quy đị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3" name="Horizontal Scroll 5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2. ĐÚNG THỂ THỨC 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" y="2286000"/>
            <a:ext cx="8229600" cy="1905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ẩm quyền ban hành VB quy định bởi: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Pháp luậ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lệ của tổ chức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5" name="Horizontal Scroll 7"/>
          <p:cNvSpPr/>
          <p:nvPr/>
        </p:nvSpPr>
        <p:spPr>
          <a:xfrm>
            <a:off x="304920" y="1523880"/>
            <a:ext cx="8458200" cy="8384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3. ĐÚNG THẨM QUYỀ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457200" y="4952880"/>
            <a:ext cx="8229600" cy="13716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Phù hợp lĩnh vực, đối tượng điều chỉnh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điều kiện thực tế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7" name="Horizontal Scroll 9"/>
          <p:cNvSpPr/>
          <p:nvPr/>
        </p:nvSpPr>
        <p:spPr>
          <a:xfrm>
            <a:off x="304920" y="41911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4. BẢO ĐẢM TÍNH KHẢ THI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C74F-293F-4B71-B56E-F7AB26A9A9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9" name="Date Placeholder 5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00DA-0D64-4F56-AFA5-2D39102C160A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1907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Xác định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Mục đích, đối tượng của V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ên loại &amp; nội dung V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uẩn bị dữ kiện (thu thập &amp; xử lý thông tin) cho nội dung V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ánh giá tác động (tích cực, tiêu cực) của VB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2" name="Horizontal Scroll 5"/>
          <p:cNvSpPr/>
          <p:nvPr/>
        </p:nvSpPr>
        <p:spPr>
          <a:xfrm>
            <a:off x="304920" y="0"/>
            <a:ext cx="8458200" cy="15238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TRÌNH TỰ SOẠN THẢO &amp; BAN HÀNH VĂN BẢ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3" name="Horizontal Scroll 7"/>
          <p:cNvSpPr/>
          <p:nvPr/>
        </p:nvSpPr>
        <p:spPr>
          <a:xfrm>
            <a:off x="380880" y="1371600"/>
            <a:ext cx="419112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1. CHUẨN BỊ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3F6D-3267-4429-AAC0-7AAFB38337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5" name="Date Placeholder 5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C7CD-AB09-40AE-A1B5-032544F9C6DE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1981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óm tắt các ý chính của V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ựa chọn thông tin để đưa vào các phần của V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8" name="Horizontal Scroll 5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2. XÂY DỰNG ĐỀ CƯƠ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9" name="Horizontal Scroll 6"/>
          <p:cNvSpPr/>
          <p:nvPr/>
        </p:nvSpPr>
        <p:spPr>
          <a:xfrm>
            <a:off x="304920" y="3352680"/>
            <a:ext cx="8458200" cy="8384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3. VIẾT DỰ THẢO NỘI DU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457200" y="4191120"/>
            <a:ext cx="8229600" cy="1981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Dựa vào đề cương và mẫu VB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19EE-61EF-4F92-97AF-9F7B8CF6BE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2" name="Date Placeholder 5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33A4-F9D6-4504-B19D-67F1CFA7BF39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518148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rình lãnh đạo duyệt V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cần duyệt: Thẩm quyền, thể thức, nội dung, mục đích ban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người duyệt ghi: Duyệt, số bản ban hành, ngày duyệt, chữ k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5" name="Horizontal Scroll 5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4. DUYỆT &amp; KÝ VĂN BẢ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46" name="Picture 6" descr="http://tieuchuanchatluong.com/media/70/images/Xin%20cong%20van%20giai%20toa%20lo%20hang.jpg"/>
          <p:cNvPicPr/>
          <p:nvPr/>
        </p:nvPicPr>
        <p:blipFill>
          <a:blip r:embed="rId1"/>
          <a:stretch/>
        </p:blipFill>
        <p:spPr>
          <a:xfrm>
            <a:off x="5715000" y="914400"/>
            <a:ext cx="2971800" cy="5334120"/>
          </a:xfrm>
          <a:prstGeom prst="rect">
            <a:avLst/>
          </a:prstGeom>
          <a:ln w="0">
            <a:noFill/>
          </a:ln>
        </p:spPr>
      </p:pic>
      <p:sp>
        <p:nvSpPr>
          <p:cNvPr id="247" name="Oval 7"/>
          <p:cNvSpPr/>
          <p:nvPr/>
        </p:nvSpPr>
        <p:spPr>
          <a:xfrm>
            <a:off x="5105520" y="5715000"/>
            <a:ext cx="457200" cy="5335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NI-Time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273A-1091-4125-93A4-FB3DE678F0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8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C9E9-A5F3-4BF4-B4CA-F4BB4B701D78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3460-4FC4-4370-A86A-92C3A604E1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0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8AE6-7340-494E-B6BD-4021E4BF4CBB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FA66-0DA9-4860-90B6-E91D62DF37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2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BC26-1ED2-4D17-BA40-A913B697BBEB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3" name="Bevel 7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944"/>
            </a:avLst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4" name="WordArt 7"/>
          <p:cNvSpPr txBox="1"/>
          <p:nvPr/>
        </p:nvSpPr>
        <p:spPr>
          <a:xfrm>
            <a:off x="380880" y="1905120"/>
            <a:ext cx="83822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29"/>
                </a:solidFill>
                <a:latin typeface="Times New Roman"/>
              </a:rPr>
              <a:t>QUY TRÌNH SOẠN THẢO</a:t>
            </a:r>
            <a:endParaRPr b="1" lang="en-US" sz="3200" spc="1" strike="noStrike">
              <a:ln w="0">
                <a:noFill/>
              </a:ln>
              <a:solidFill>
                <a:srgbClr val="0000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29"/>
                </a:solidFill>
                <a:latin typeface="Times New Roman"/>
              </a:rPr>
              <a:t>&amp; BAN HÀNH VĂN BẢN</a:t>
            </a:r>
            <a:endParaRPr b="1" lang="en-US" sz="3200" spc="1" strike="noStrike">
              <a:ln w="0">
                <a:noFill/>
              </a:ln>
              <a:solidFill>
                <a:srgbClr val="000029"/>
              </a:solidFill>
              <a:latin typeface="Times New Roman"/>
              <a:ea typeface="Times New Roman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2590920" y="609480"/>
            <a:ext cx="38862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ương 8</a:t>
            </a:r>
            <a:endParaRPr b="0" lang="en-US" sz="5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6" name="Minus 10"/>
          <p:cNvSpPr/>
          <p:nvPr/>
        </p:nvSpPr>
        <p:spPr>
          <a:xfrm>
            <a:off x="2666880" y="1371600"/>
            <a:ext cx="3657600" cy="30492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228600" y="4952880"/>
            <a:ext cx="868680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 tiết giảng: 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ự học: 4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3D34-0B99-48A2-B45B-EF6549BE97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9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D59B-6883-4599-8402-F76C43FAB47F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1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ản gốc văn bản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: Có </a:t>
            </a:r>
            <a:r>
              <a:rPr b="1" i="1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ữ ký trực tiếp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của người có thẩm quyền ban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ản gốc là cơ sở pháp lý để hình thành bản chí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1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ản chính văn bản: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Không có </a:t>
            </a:r>
            <a:r>
              <a:rPr b="1" i="1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ữ ký trực tiếp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của người có thẩm quyền ban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2" name="Horizontal Scroll 5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5. BAN HÀNH VĂN BẢ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D1CE-5BD3-467E-90F9-4F3B2B8D05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4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8CDB-DB3D-4817-89CF-088E97D1A9C2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óng dấ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ào Sổ công văn đ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Phát hành văn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ưu văn bả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ản gốc lưu tại Văn th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ản chính lưu trong hồ s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eo dõi việc thực hiệ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ể kịp thời điều chỉ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Rút kinh nghiệ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7" name="Horizontal Scroll 5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5. BAN HÀNH VĂN BẢ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Y TRÌNH SOẠN THẢO &amp; BAN HÀNH VĂN BẢN – Q. TÂY HỒ, HÀ NỘ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10F2-22DE-40B6-B342-3C3B92AAD6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D2C1-1460-426E-9B63-9AC3AD38E808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61" name="Picture 2" descr="http://tayho.gov.vn/cgtdt/web/images/upload1/image/2007-09-05_093840.jp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7A5B-8734-4D63-B639-0C2AA211C0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3" name="Date Placeholder 5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9990-EC8A-4926-A21C-F10151810D10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1.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Nêu các yêu cầu đối với việc soạn thảo và ban hành văn bả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2.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Nêu các bước soạn thảo và ban hành văn bả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6" name="Horizontal Scroll 6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ÂU HỎI ÔN TẬ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D86C-F4CD-49D9-8C5F-AC8FA402ED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8" name="Date Placeholder 5"/>
          <p:cNvSpPr/>
          <p:nvPr/>
        </p:nvSpPr>
        <p:spPr>
          <a:xfrm>
            <a:off x="457200" y="6245280"/>
            <a:ext cx="3124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BFE4-9A0E-4ED9-A540-2AACF67C40D6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29"/>
                </a:solidFill>
                <a:uFillTx/>
                <a:latin typeface="Times New Roman"/>
                <a:ea typeface="Times New Roman"/>
              </a:rPr>
              <a:t>Câu 1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Vấn đề nào sau đây không phải là nguyên tắc xây dựng, ban hành văn bản QPP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A.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Đảm bảo tính hợp hiến, hợp phá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.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Tuân thủ thẩm quyề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.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Có hiệu lực chậm nhất 15 ngày sau ngày được thông qua, công bố ban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D.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Bảo đảm tính khả th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1" name="Horizontal Scroll 5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ÂU HỎI ÔN TẬ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E6C9-0623-48B1-973E-21DB89FE4F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9" name="Date Placeholder 2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DB1E-9DDB-4CF9-963E-BC615E05F85C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57200" y="1066680"/>
            <a:ext cx="41148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Principles text editor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Drafting process &amp; issue document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2" name="Horizontal Scroll 5"/>
          <p:cNvSpPr/>
          <p:nvPr/>
        </p:nvSpPr>
        <p:spPr>
          <a:xfrm>
            <a:off x="304920" y="7632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 OF THE LECTUR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33" name="Picture 6" descr="http://r-img.com/books/shr/5/huong-dan-ky-thuat-quy-trinh-soan-thao-van-ban-hop-dong-va-cac-mau-thong-dung-moi-nhat.gif"/>
          <p:cNvPicPr/>
          <p:nvPr/>
        </p:nvPicPr>
        <p:blipFill>
          <a:blip r:embed="rId1"/>
          <a:stretch/>
        </p:blipFill>
        <p:spPr>
          <a:xfrm>
            <a:off x="4572000" y="1066680"/>
            <a:ext cx="4114800" cy="52578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8633-EA22-457F-ADAA-37B0A7A869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5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8623-C28D-4D6A-9043-C9AFD11A29DF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41148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guyên tắc soạn thảo văn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rình tự soạn thảo &amp; ban hành văn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8" name="Horizontal Scroll 5"/>
          <p:cNvSpPr/>
          <p:nvPr/>
        </p:nvSpPr>
        <p:spPr>
          <a:xfrm>
            <a:off x="304920" y="7632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ỘI DUNG BÀI GIẢ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39" name="Picture 6" descr="http://r-img.com/books/shr/5/huong-dan-ky-thuat-quy-trinh-soan-thao-van-ban-hop-dong-va-cac-mau-thong-dung-moi-nhat.gif"/>
          <p:cNvPicPr/>
          <p:nvPr/>
        </p:nvPicPr>
        <p:blipFill>
          <a:blip r:embed="rId1"/>
          <a:stretch/>
        </p:blipFill>
        <p:spPr>
          <a:xfrm>
            <a:off x="4572000" y="1066680"/>
            <a:ext cx="4114800" cy="52578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4B47-B728-4D75-9EFA-03100F4EA9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1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8890-1C6D-4AAE-906E-DA7B8279C6BE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441972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B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Văn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BQPPL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Văn bản quy phạm pháp luậ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BHC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Văn bản hành chí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BTP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Văn bản tư phá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http://minhkhai.vn/hinhlon/119162.jpg"/>
          <p:cNvPicPr/>
          <p:nvPr/>
        </p:nvPicPr>
        <p:blipFill>
          <a:blip r:embed="rId1"/>
          <a:stretch/>
        </p:blipFill>
        <p:spPr>
          <a:xfrm>
            <a:off x="4952880" y="1066680"/>
            <a:ext cx="3733920" cy="52578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44" name="Rectangle 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5" name="Horizontal Scroll 6"/>
          <p:cNvSpPr/>
          <p:nvPr/>
        </p:nvSpPr>
        <p:spPr>
          <a:xfrm>
            <a:off x="304920" y="7632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NH MỤC TỪ VIẾT TẮ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E1EF-B964-4A54-AED3-0CEBD60810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7" name="Date Placeholder 5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2478-775F-4D22-AB8E-01A8C7AA9C9B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48" name="Picture 6" descr="http://minhkhai.vn/hinhlon/101104.jpg"/>
          <p:cNvPicPr/>
          <p:nvPr/>
        </p:nvPicPr>
        <p:blipFill>
          <a:blip r:embed="rId1"/>
          <a:stretch/>
        </p:blipFill>
        <p:spPr>
          <a:xfrm>
            <a:off x="5943600" y="1143000"/>
            <a:ext cx="2743200" cy="51814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49" name="Rectangle 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0" name="Horizontal Scroll 6"/>
          <p:cNvSpPr/>
          <p:nvPr/>
        </p:nvSpPr>
        <p:spPr>
          <a:xfrm>
            <a:off x="304920" y="7632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NGUYÊN TẮC SOẠN THẢ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1" name="Round Diagonal Corner Rectangle 9"/>
          <p:cNvSpPr/>
          <p:nvPr/>
        </p:nvSpPr>
        <p:spPr>
          <a:xfrm>
            <a:off x="457200" y="1143000"/>
            <a:ext cx="5410080" cy="914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Hợp hiến &amp; hợp phá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2" name="Oval 11"/>
          <p:cNvSpPr/>
          <p:nvPr/>
        </p:nvSpPr>
        <p:spPr>
          <a:xfrm>
            <a:off x="457200" y="114300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3" name="Round Diagonal Corner Rectangle 12"/>
          <p:cNvSpPr/>
          <p:nvPr/>
        </p:nvSpPr>
        <p:spPr>
          <a:xfrm>
            <a:off x="457200" y="2209680"/>
            <a:ext cx="5410080" cy="914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úng thể thứ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4" name="Oval 13"/>
          <p:cNvSpPr/>
          <p:nvPr/>
        </p:nvSpPr>
        <p:spPr>
          <a:xfrm>
            <a:off x="457200" y="2209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5" name="Round Diagonal Corner Rectangle 14"/>
          <p:cNvSpPr/>
          <p:nvPr/>
        </p:nvSpPr>
        <p:spPr>
          <a:xfrm>
            <a:off x="457200" y="3276720"/>
            <a:ext cx="5410080" cy="914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úng thẩm quyề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6" name="Oval 15"/>
          <p:cNvSpPr/>
          <p:nvPr/>
        </p:nvSpPr>
        <p:spPr>
          <a:xfrm>
            <a:off x="457200" y="327672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7" name="Round Diagonal Corner Rectangle 16"/>
          <p:cNvSpPr/>
          <p:nvPr/>
        </p:nvSpPr>
        <p:spPr>
          <a:xfrm>
            <a:off x="457200" y="4343400"/>
            <a:ext cx="5410080" cy="914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hả thi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8" name="Oval 17"/>
          <p:cNvSpPr/>
          <p:nvPr/>
        </p:nvSpPr>
        <p:spPr>
          <a:xfrm>
            <a:off x="457200" y="434340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9" name="Round Diagonal Corner Rectangle 18"/>
          <p:cNvSpPr/>
          <p:nvPr/>
        </p:nvSpPr>
        <p:spPr>
          <a:xfrm>
            <a:off x="457200" y="5410080"/>
            <a:ext cx="5410080" cy="914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gôn ngữ hành chí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0" name="Oval 19"/>
          <p:cNvSpPr/>
          <p:nvPr/>
        </p:nvSpPr>
        <p:spPr>
          <a:xfrm>
            <a:off x="457200" y="54100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EC4E-5E44-448C-9C06-BFE48C81DA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2" name="Date Placeholder 2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8A9D-3C05-4C09-AD16-DF6724A1EF80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63" name="Picture 8" descr="http://daibieunhandan.vn/media/13/01/130131185740687/05-Tham-quyen-322013-380.jpg"/>
          <p:cNvPicPr/>
          <p:nvPr/>
        </p:nvPicPr>
        <p:blipFill>
          <a:blip r:embed="rId1"/>
          <a:stretch/>
        </p:blipFill>
        <p:spPr>
          <a:xfrm>
            <a:off x="5867280" y="1066680"/>
            <a:ext cx="2819520" cy="533412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64" name="Rectangle 3"/>
          <p:cNvSpPr/>
          <p:nvPr/>
        </p:nvSpPr>
        <p:spPr>
          <a:xfrm>
            <a:off x="457200" y="1066680"/>
            <a:ext cx="533412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phải phù hợp nguyên tắc của Hiến pháp &amp; quy định của pháp luật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ảo đảm tính thống nhất, thứ bậc hiệu lực pháp lý trong hệ thống pháp luật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B cấp dưới không trái VB cấp trê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6" name="Horizontal Scroll 6"/>
          <p:cNvSpPr/>
          <p:nvPr/>
        </p:nvSpPr>
        <p:spPr>
          <a:xfrm>
            <a:off x="304920" y="7632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. HỢP HIẾN &amp; HỢP PHÁ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7" name="Oval 7"/>
          <p:cNvSpPr/>
          <p:nvPr/>
        </p:nvSpPr>
        <p:spPr>
          <a:xfrm>
            <a:off x="5181480" y="5715000"/>
            <a:ext cx="533520" cy="6094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NI-Time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56DE-0A3A-424F-A89A-57147CEBBC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9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FE1C-3B34-4A28-9A77-C7A147BFB239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533412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phải phù hợp nguyên tắc của Hiến pháp &amp; quy định của pháp luậ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ảo đảm tính thống nhất, thứ bậc hiệu lực pháp lý trong hệ thống pháp luậ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B cấp dưới không trái VB cấp tr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2" name="Horizontal Scroll 5"/>
          <p:cNvSpPr/>
          <p:nvPr/>
        </p:nvSpPr>
        <p:spPr>
          <a:xfrm>
            <a:off x="304920" y="7632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. HỢP HIẾN &amp; HỢP PHÁ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73" name="Picture 10" descr="http://t0.gstatic.com/images?q=tbn:ANd9GcT4MQ9uGoOYoJ5fe1jBdPRf1eWWdneyY8L4S_YRCAL_k_pvuWY2"/>
          <p:cNvPicPr/>
          <p:nvPr/>
        </p:nvPicPr>
        <p:blipFill>
          <a:blip r:embed="rId1"/>
          <a:stretch/>
        </p:blipFill>
        <p:spPr>
          <a:xfrm>
            <a:off x="5924520" y="1066680"/>
            <a:ext cx="2762280" cy="533412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DB86-C8F3-4169-9F82-20D98781D4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5" name="Date Placeholder 5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C202-376F-4E26-A324-B6919B183D49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Friday, 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209680" y="1599840"/>
            <a:ext cx="6477120" cy="21337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lvl="2"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ốc hộ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Ủy ban Thường vụ Quốc hộ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ủ tướng Chính ph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33520" y="4038480"/>
            <a:ext cx="8153280" cy="23623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rong tương lai: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HỘI ĐỒNG BẢO HIẾ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ÒA ÁN HIẾN PHÁ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9" name="Curved Right Arrow 7"/>
          <p:cNvSpPr/>
          <p:nvPr/>
        </p:nvSpPr>
        <p:spPr>
          <a:xfrm rot="19934400">
            <a:off x="542880" y="1260000"/>
            <a:ext cx="1341360" cy="2054520"/>
          </a:xfrm>
          <a:custGeom>
            <a:avLst/>
            <a:gdLst>
              <a:gd name="textAreaLeft" fmla="*/ 179640 w 1341360"/>
              <a:gd name="textAreaRight" fmla="*/ 1161720 w 1341360"/>
              <a:gd name="textAreaTop" fmla="*/ 387720 h 2054520"/>
              <a:gd name="textAreaBottom" fmla="*/ 1499040 h 205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6" stAng="-5400000" swAng="-5400000"/>
                <a:lnTo>
                  <a:pt x="0" y="11682"/>
                </a:lnTo>
                <a:arcTo wR="21600" hR="8156" stAng="10800000" swAng="-3338134"/>
                <a:lnTo>
                  <a:pt x="16200" y="21341"/>
                </a:lnTo>
                <a:lnTo>
                  <a:pt x="21600" y="18075"/>
                </a:lnTo>
                <a:lnTo>
                  <a:pt x="16200" y="14291"/>
                </a:lnTo>
                <a:lnTo>
                  <a:pt x="16200" y="16053"/>
                </a:lnTo>
                <a:arcTo wR="21600" hR="8156" stAng="7461866" swAng="3051416"/>
                <a:lnTo>
                  <a:pt x="511" y="9919"/>
                </a:lnTo>
                <a:arcTo wR="21600" hR="8156" stAng="-10513282" swAng="5113282"/>
                <a:close/>
              </a:path>
              <a:path fill="darkenLess" w="21600" h="21600">
                <a:moveTo>
                  <a:pt x="21600" y="0"/>
                </a:moveTo>
                <a:arcTo wR="21600" hR="8156" stAng="-5400000" swAng="-5400000"/>
                <a:lnTo>
                  <a:pt x="0" y="8156"/>
                </a:lnTo>
                <a:arcTo wR="21600" hR="8156" stAng="10800000" swAng="-286718"/>
                <a:lnTo>
                  <a:pt x="511" y="9919"/>
                </a:lnTo>
                <a:arcTo wR="21600" hR="8156" stAng="-10513282" swAng="5113282"/>
                <a:close/>
              </a:path>
            </a:pathLst>
          </a:cu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0" name="Horizontal Scroll 8"/>
          <p:cNvSpPr/>
          <p:nvPr/>
        </p:nvSpPr>
        <p:spPr>
          <a:xfrm>
            <a:off x="304920" y="76320"/>
            <a:ext cx="8458200" cy="15238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ẨM QUYỀN BÃI BỎ VĂN BẢN QPPL VI HIẾ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03:20:02Z</dcterms:created>
  <dc:creator>Bài giảng QTVP_Thầy Nam Hà</dc:creator>
  <dc:description/>
  <dc:language>en-US</dc:language>
  <cp:lastModifiedBy>ntc</cp:lastModifiedBy>
  <dcterms:modified xsi:type="dcterms:W3CDTF">2013-10-14T09:40:35Z</dcterms:modified>
  <cp:revision>264</cp:revision>
  <dc:subject/>
  <dc:title>Chương 8</dc:title>
</cp:coreProperties>
</file>