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9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30.jpeg" ContentType="image/jpeg"/>
  <Override PartName="/ppt/media/image31.png" ContentType="image/png"/>
  <Override PartName="/ppt/media/image32.png" ContentType="image/png"/>
  <Override PartName="/ppt/media/image33.jpeg" ContentType="image/jpeg"/>
  <Override PartName="/ppt/media/image44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43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4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20B7B-C7BE-4949-B8A7-E3F7B24A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202DA-02CD-4876-9A6D-FD99FD58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94E4D-03BB-40AE-A668-E29189FE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205EA-B827-41F0-BF93-17B8F7103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AE2C-B210-40F1-880E-DEC29B330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EBAE-317A-4D7B-B753-1179726E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2D24-3108-4B0D-BB68-6E861F85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3613-BB2F-469A-8DAB-852BC7CA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C17D-211D-4529-BC39-3E383DA0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2D80-2232-4CE7-8091-D2058558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BD5A-AD68-4EC3-86B6-FD6700C8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C3EE4-CECA-4D1D-A517-371D0DB2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27A0-4894-454B-9EEA-21A8FA32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4F9A-DAA5-4268-B048-219B7831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0440-B46F-434C-A80C-0DF91F5E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58C0-01C5-46F6-8505-8DE56A9E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E945-C7A2-42D3-8D86-1265ECC05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4FC49-2A8F-404D-9241-5FFA0413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B101D-6414-460B-B8A3-C88B153B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C9803-B5AB-47BC-B343-D9DAD24F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436CC-8CDF-4F20-A18C-4E503469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B8AAD-D646-4FD3-AF6B-C9C46479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E79F7-1A3E-4DE5-B2CC-4C58B3F6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59F9B-ABED-441F-A40B-F50988AC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63A9-A23E-48EA-BA3A-3C7B707014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1A09-CD64-4A20-8903-C0BB3AA4A07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6CC8-1D10-4591-993D-67020E3EDD2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2151-2EB6-469D-B960-4406B5296C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../FILE%20HO%20TRO%20BAI%20GIANG/THANG%20&#272;I&#7874;M%20TI&#7874;U%20LU&#7852;N_CO%20THUYET%20TRINH.doc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bbbbbbbbbbbbbbbbbbbbbbbbbbbbbbbbbbbbbbbbbbbbbbbbbbbbbbbbbbbbbbbbbbbbbbbbbbbbbbbbbbbbbbbbbbbbbbbbbbbbbbbbbbbbbbbbbbbb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56B1-2BF4-46C7-850A-54ED1BFC32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A585-7292-49C7-92BD-E91428B9406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29"/>
                </a:solidFill>
                <a:uFillTx/>
                <a:latin typeface="Arial"/>
                <a:ea typeface="Times New Roman"/>
              </a:rPr>
              <a:t>MÔN HỌC</a:t>
            </a:r>
            <a:endParaRPr b="0" lang="en-US" sz="48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29"/>
                </a:solidFill>
                <a:latin typeface="Arial"/>
              </a:rPr>
              <a:t>QUẢN TRỊ </a:t>
            </a:r>
            <a:r>
              <a:rPr b="1" lang="en-US" sz="6000" spc="-1" strike="noStrike">
                <a:solidFill>
                  <a:srgbClr val="000029"/>
                </a:solidFill>
                <a:latin typeface="Arial"/>
                <a:ea typeface="Times New Roman"/>
              </a:rPr>
              <a:t>VĂN PHÒNG</a:t>
            </a: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29"/>
                </a:solidFill>
                <a:latin typeface="Arial"/>
                <a:ea typeface="Times New Roman"/>
              </a:rPr>
              <a:t>(MANAGEMENT OF OFFICE)</a:t>
            </a:r>
            <a:endParaRPr b="0" lang="en-US" sz="48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GV: TS. Nguyễn Nam Hà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0909812330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namhadhcn@yahoo.com.v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10" name="Picture 9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1752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</p:pic>
      <p:sp>
        <p:nvSpPr>
          <p:cNvPr id="111" name="Frame 8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2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066320"/>
            <a:ext cx="8229600" cy="25909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Knowledge: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● Understand the functions, tasks, organizational structure, organizational form of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Understand the system of legal, judicial documents, administrative docu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531B-4B8A-46DB-B100-9DBBE7C7E9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5" name="Date Placeholder 4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0135-F936-4C24-9DCA-958EA01B376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7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URSE OBJECTIVE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8" name="Content Placeholder 2"/>
          <p:cNvSpPr/>
          <p:nvPr/>
        </p:nvSpPr>
        <p:spPr>
          <a:xfrm>
            <a:off x="457200" y="3809880"/>
            <a:ext cx="8229600" cy="25909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Skills:          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● Know how to organize, manage office</a:t>
            </a:r>
            <a:br>
              <a:rPr sz="3200"/>
            </a:b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● Drafting and presentation of common administrative documents: Decision, notify, report, reports, documents ..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9" name="Horizontal Scroll 8"/>
          <p:cNvSpPr/>
          <p:nvPr/>
        </p:nvSpPr>
        <p:spPr>
          <a:xfrm>
            <a:off x="457200" y="990720"/>
            <a:ext cx="274320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0" name="Horizontal Scroll 9"/>
          <p:cNvSpPr/>
          <p:nvPr/>
        </p:nvSpPr>
        <p:spPr>
          <a:xfrm>
            <a:off x="457200" y="3733920"/>
            <a:ext cx="274320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kills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1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5E10-1568-44C8-AFC8-A4BA360E93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3" name="Date Placeholder 5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497A-1086-400C-B60A-1D854913A56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Times New Roman"/>
              </a:rPr>
              <a:t>Hiểu chức năng, nhiệm vụ, cơ cấu tổ chức, hình thức tổ chức VP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Times New Roman"/>
              </a:rPr>
              <a:t>Hiểu hệ thống VB QPPL, VBTP, VBHC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6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MỤC TIÊU CỦA MÔN HỌ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457200" y="4114800"/>
            <a:ext cx="8229600" cy="22860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Times New Roman"/>
              </a:rPr>
              <a:t>Biết cách tổ chức, quản lý VP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Times New Roman"/>
              </a:rPr>
              <a:t>Soạn thảo, trình bày VB hành chính thông dụng: Quyết định, thông báo, tờ trình, báo cáo, công văn…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8" name="Horizontal Scroll 8"/>
          <p:cNvSpPr/>
          <p:nvPr/>
        </p:nvSpPr>
        <p:spPr>
          <a:xfrm>
            <a:off x="380880" y="990720"/>
            <a:ext cx="320040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iến thức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9" name="Horizontal Scroll 9"/>
          <p:cNvSpPr/>
          <p:nvPr/>
        </p:nvSpPr>
        <p:spPr>
          <a:xfrm>
            <a:off x="380880" y="3505320"/>
            <a:ext cx="320040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ỹ nă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000"/>
                            </p:stCondLst>
                            <p:childTnLst>
                              <p:par>
                                <p:cTn id="3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0"/>
                            </p:stCondLst>
                            <p:childTnLst>
                              <p:par>
                                <p:cTn id="3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6000"/>
                            </p:stCondLst>
                            <p:childTnLst>
                              <p:par>
                                <p:cTn id="35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93EE-FA54-4909-9E15-7D6B681ACF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2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8A47-D443-4FA4-A296-D24AF543099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305920" cy="12189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Giáo trình Quản trị văn phòng, Khoa QTKD, Trường ĐHCN TPHCM, 2011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5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ÀI LIỆU MÔN HỌ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6" name="Horizontal Scroll 7"/>
          <p:cNvSpPr/>
          <p:nvPr/>
        </p:nvSpPr>
        <p:spPr>
          <a:xfrm>
            <a:off x="380880" y="990720"/>
            <a:ext cx="3733920" cy="7617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iáo trình chín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457200" y="3429000"/>
            <a:ext cx="8305920" cy="2971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1.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GS.TS. Đồng Thị Thanh Phương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Quản trị 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hành chính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VP,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NXB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.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T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H., TP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HCM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,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2008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2.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Vương Thị Kim Thanh, Quản trị hành chính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VP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. NXB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.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T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K.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, TP.HCM 2009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3.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Mike Harvey, Quản trị hành chính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VP,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NXB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.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Hồng Đức, TPHCM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,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2008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8" name="Horizontal Scroll 9"/>
          <p:cNvSpPr/>
          <p:nvPr/>
        </p:nvSpPr>
        <p:spPr>
          <a:xfrm>
            <a:off x="380880" y="2819520"/>
            <a:ext cx="373392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am khảo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9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3800-5C69-4141-AE2B-9E612FE0AC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13F1-BC1A-47F8-B4A0-101CA7833BF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12" name="Picture 2" descr="http://saigon-uni.edu.vn/uploads/fckeditor/image/quantri.JPG"/>
          <p:cNvPicPr/>
          <p:nvPr/>
        </p:nvPicPr>
        <p:blipFill>
          <a:blip r:embed="rId1"/>
          <a:stretch/>
        </p:blipFill>
        <p:spPr>
          <a:xfrm>
            <a:off x="0" y="1295280"/>
            <a:ext cx="2971800" cy="50292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213" name="Rectangle 8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4" name="Title 1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ÀI LIỆU THAM KHẢ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15" name="Picture 8" descr="http://www.davibooks.vn/beta/upload_images/old_picture/a/5f6201605823ea1db63a9ea92cd97c68.jpg"/>
          <p:cNvPicPr/>
          <p:nvPr/>
        </p:nvPicPr>
        <p:blipFill>
          <a:blip r:embed="rId2"/>
          <a:stretch/>
        </p:blipFill>
        <p:spPr>
          <a:xfrm>
            <a:off x="3048120" y="1295280"/>
            <a:ext cx="2971800" cy="50292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pic>
        <p:nvPicPr>
          <p:cNvPr id="216" name="Picture 10" descr="http://t.f10.photo.zdn.vn/upload/original/2012/06/16/20/10/1339852234956358045.jpg"/>
          <p:cNvPicPr/>
          <p:nvPr/>
        </p:nvPicPr>
        <p:blipFill>
          <a:blip r:embed="rId3"/>
          <a:stretch/>
        </p:blipFill>
        <p:spPr>
          <a:xfrm>
            <a:off x="6095880" y="1295280"/>
            <a:ext cx="3048120" cy="50292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217" name="Horizontal Scroll 9"/>
          <p:cNvSpPr/>
          <p:nvPr/>
        </p:nvSpPr>
        <p:spPr>
          <a:xfrm>
            <a:off x="0" y="0"/>
            <a:ext cx="9144000" cy="12193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ÀI LIỆU THAM KHẢ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8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D2A4-01B5-4122-A158-54321A346E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0" name="Date Placeholder 4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91F8-845F-40C1-B449-FA57B14CBE6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457200" y="1066680"/>
            <a:ext cx="830592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Hiến pháp 1992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Luật Ban hành văn bản quy phạm pháp luật 3/6/2008 (01/01/2009)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Luật Ban hành văn bản quy phạm pháp luật của HĐND, UBND 3/12/2004 (1/4/2005)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Luật Lưu trữ 01/01/2011 (01/7/2012)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3" name="Horizontal Scroll 7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ĂN BẢN QUY PHẠM PHÁP LUẬ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4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107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FE0E-4DAF-43F0-8FE5-A9CFF0D727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2C19-C387-48F6-9133-E10C0F7217F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28" name="Picture 2" descr="http://4.bp.blogspot.com/-86u6ApdL0sM/ULtvPfksD2I/AAAAAAAAAIw/6FPKO3h7Sj0/s400/hienphap.jpg"/>
          <p:cNvPicPr/>
          <p:nvPr/>
        </p:nvPicPr>
        <p:blipFill>
          <a:blip r:embed="rId1"/>
          <a:stretch/>
        </p:blipFill>
        <p:spPr>
          <a:xfrm>
            <a:off x="0" y="1219320"/>
            <a:ext cx="3048120" cy="563868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4"/>
          <p:cNvSpPr/>
          <p:nvPr/>
        </p:nvSpPr>
        <p:spPr>
          <a:xfrm>
            <a:off x="193680" y="-2430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2"/>
          <a:stretch/>
        </p:blipFill>
        <p:spPr>
          <a:xfrm>
            <a:off x="3048120" y="1219320"/>
            <a:ext cx="2971800" cy="5638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</p:pic>
      <p:pic>
        <p:nvPicPr>
          <p:cNvPr id="231" name="Picture 6" descr=""/>
          <p:cNvPicPr/>
          <p:nvPr/>
        </p:nvPicPr>
        <p:blipFill>
          <a:blip r:embed="rId3"/>
          <a:stretch/>
        </p:blipFill>
        <p:spPr>
          <a:xfrm>
            <a:off x="6019920" y="1219320"/>
            <a:ext cx="3124080" cy="5638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</p:pic>
      <p:sp>
        <p:nvSpPr>
          <p:cNvPr id="232" name="Horizontal Scroll 9"/>
          <p:cNvSpPr/>
          <p:nvPr/>
        </p:nvSpPr>
        <p:spPr>
          <a:xfrm>
            <a:off x="0" y="33480"/>
            <a:ext cx="9144000" cy="11858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ĂN BẢN QUY PHẠM PHÁP LUẬ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3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2000"/>
                            </p:stCondLst>
                            <p:childTnLst>
                              <p:par>
                                <p:cTn id="5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0C24-96D8-4C2A-9BD0-48E9F89EBC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5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E3CA-B529-4BEE-8640-16152AC3654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Đ 58/2001 Quản lý con dấ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Đ 82/2001 Nghi lễ Nhà nướ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Đ 110/2004 Công tác văn th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Đ 24/2009 Luật Ban hành VBQPP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Đ 31/2009 Sửa đổi NĐ 58/2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Đ 9/2010 Sửa đổi NĐ 110/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Đ 01/2013 Luật Lưu tr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8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ĂN BẢN QUY PHẠM PHÁP LUẬ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9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4000"/>
                            </p:stCondLst>
                            <p:childTnLst>
                              <p:par>
                                <p:cTn id="5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0"/>
                            </p:stCondLst>
                            <p:childTnLst>
                              <p:par>
                                <p:cTn id="5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6000"/>
                            </p:stCondLst>
                            <p:childTnLst>
                              <p:par>
                                <p:cTn id="5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7000"/>
                            </p:stCondLst>
                            <p:childTnLst>
                              <p:par>
                                <p:cTn id="5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928F-4EB0-49EC-8BEB-F14BE23C72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1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02EC-E130-4952-916F-DC5B8433651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ông tư liên tịch 55_6/5/2005_BNV-VPCP: Hướng dẫn về thể thức và kỹ thuật trình bày văn bả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ông tư 01_19/1/2011_Bộ Nội vụ: Hướng dẫn thể thức và kỹ thuật trình bày văn bản hành chí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ông tư 9/2011/Bộ Nội vụ_T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h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ờ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i h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ạ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n b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ả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o qu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ả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n h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ồ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 sơ, t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à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i li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ệ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u c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ủ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a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Q, 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4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ĂN BẢN QUY PHẠM PHÁP LUẬ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5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1BFB-AEE0-4B72-B178-AF72473C49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7" name="Date Placeholder 5"/>
          <p:cNvSpPr/>
          <p:nvPr/>
        </p:nvSpPr>
        <p:spPr>
          <a:xfrm>
            <a:off x="457200" y="6245280"/>
            <a:ext cx="3048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F3C0-F600-48F9-9AFF-B191897CC85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1905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 u="sng">
                <a:solidFill>
                  <a:srgbClr val="000029"/>
                </a:solidFill>
                <a:uFillTx/>
                <a:latin typeface="Arial"/>
              </a:rPr>
              <a:t>www.fba.iuh.edu.vn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/ Bài giảng giáo viên / Nguyễn Nam Hà / Môn QTV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0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ĐỊA CHỈ TẢI BÀI GIẢNG ĐIỆN TỬ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457200" y="3962520"/>
            <a:ext cx="8229600" cy="24382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1" lang="en-US" sz="3600" spc="-1" strike="noStrike" u="sng">
                <a:solidFill>
                  <a:srgbClr val="000029"/>
                </a:solidFill>
                <a:uFillTx/>
                <a:latin typeface="Arial"/>
              </a:rPr>
              <a:t>www.gov.vn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/ Hệ thống văn bản / Thông tư / Năm ban hành / 2011 / Thông tư số 01 Bộ Nội vụ - thể thức &amp; kỹ thuật trình bày VBHC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2" name="Horizontal Scroll 8"/>
          <p:cNvSpPr/>
          <p:nvPr/>
        </p:nvSpPr>
        <p:spPr>
          <a:xfrm>
            <a:off x="304920" y="3124080"/>
            <a:ext cx="8458200" cy="9144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ĐỊA CHỈ TẢI VĂN BẢN LUẬ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3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68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3000"/>
                            </p:stCondLst>
                            <p:childTnLst>
                              <p:par>
                                <p:cTn id="6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395F-B2DA-4E7E-8FFE-D284A88D72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5" name="Date Placeholder 5"/>
          <p:cNvSpPr/>
          <p:nvPr/>
        </p:nvSpPr>
        <p:spPr>
          <a:xfrm>
            <a:off x="457200" y="6245280"/>
            <a:ext cx="3048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DF99-4B05-45BC-9F2E-3A62C5338CF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http://www.na.gov.vn 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Quốc hội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http://www.gov.vn 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hính phủ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http://www.gso.gov.vn (Tổng cục thống kê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http://www.iuh.edu.vn (ĐHCN TPHC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8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>
                <a:solidFill>
                  <a:srgbClr val="ffffff"/>
                </a:solidFill>
                <a:latin typeface="Arial"/>
              </a:rPr>
              <a:t>WEBSITE THAM KH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Ả</a:t>
            </a:r>
            <a:r>
              <a:rPr b="1" lang="vi-VN" sz="3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9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000"/>
                            </p:stCondLst>
                            <p:childTnLst>
                              <p:par>
                                <p:cTn id="7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000"/>
                            </p:stCondLst>
                            <p:childTnLst>
                              <p:par>
                                <p:cTn id="7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4000"/>
                            </p:stCondLst>
                            <p:childTnLst>
                              <p:par>
                                <p:cTn id="74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1506-BFC1-400A-886A-58D1795B5C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3122-1967-4E89-931B-18FFD585D81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</p:pic>
      <p:pic>
        <p:nvPicPr>
          <p:cNvPr id="117" name="Content Placeholder 8" descr=""/>
          <p:cNvPicPr/>
          <p:nvPr/>
        </p:nvPicPr>
        <p:blipFill>
          <a:blip r:embed="rId2"/>
          <a:stretch/>
        </p:blipFill>
        <p:spPr>
          <a:xfrm>
            <a:off x="438120" y="1200240"/>
            <a:ext cx="8309160" cy="5219640"/>
          </a:xfrm>
          <a:prstGeom prst="rect">
            <a:avLst/>
          </a:prstGeom>
          <a:ln w="0">
            <a:noFill/>
          </a:ln>
        </p:spPr>
      </p:pic>
      <p:sp>
        <p:nvSpPr>
          <p:cNvPr id="118" name="Horizontal Scroll 6"/>
          <p:cNvSpPr/>
          <p:nvPr/>
        </p:nvSpPr>
        <p:spPr>
          <a:xfrm>
            <a:off x="304920" y="185760"/>
            <a:ext cx="84582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ÁC ĐỊNH MỤC TIÊU HỌC TẬ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sp>
        <p:nvSpPr>
          <p:cNvPr id="26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7FB3-3C85-46E4-BC07-0F0C108395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3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F6E0-8747-4806-8F92-A1D86B2166D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64" name="Picture 2" descr="http://mic.gov.vn/tintucsukien/tintonghop/PublishingImages/congchinhphu.jpg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65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4471-AF41-44CD-96D9-8B7BA1D6EB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7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B0EC-91EF-4783-9E55-7F66A4D83C3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. VP ảo: Thực trạng &amp; giải pháp phát triể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. Giao tiếp VP - tiếp khách qua điện thoại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3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Giao tiếp VP - tiếp khách trực tiếp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4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Vấn đề phong thủy trong lựa chọn vị trí đặt VP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0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ĐỀ TÀI TIỂU LUẬ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1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C835-A8AC-4186-8434-FE5D2A23A9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3" name="Date Placeholder 5"/>
          <p:cNvSpPr/>
          <p:nvPr/>
        </p:nvSpPr>
        <p:spPr>
          <a:xfrm>
            <a:off x="457200" y="6245280"/>
            <a:ext cx="3048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2F7E-0B84-4297-A1EE-67DEE32A43C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Vấn đề phong thủy trong bài trí VP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6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Tổ chức công tác VP trong IUH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7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Sử dụng không gian VP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8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Ánh sáng trong VP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6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ĐỀ TÀI TIỂU LUẬ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7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48AF-4220-4EA2-98B3-66F067C6E9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9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115D-29E8-41B5-A8A3-AA5B863E73A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9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VP “Xanh”: Thực trạng &amp; kiến ngh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0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Nội thất văn phòng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1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Văn phòng &amp; vấn đề bảo vệ môi trường: Thực trạng &amp; kiến ngh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2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VP &amp; vấn đề tiết kiệm năng lượng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3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VP mở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2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ĐỀ TÀI TIỂU LUẬ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3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4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Quản trị thông tin: Thực trạng &amp; kiến ngh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5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Quản trị thời gian: Thực trạng &amp; kiến ngh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6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. Tổ chức sự kiện trong doanh nghiệp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7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Văn phòng điện tử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8DD5-A58A-4B83-8B45-2DAC9AD3C8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6" name="Date Placeholder 4"/>
          <p:cNvSpPr/>
          <p:nvPr/>
        </p:nvSpPr>
        <p:spPr>
          <a:xfrm>
            <a:off x="457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259D-8706-4709-820A-A14EEDE2D31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8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ĐỀ TÀI TIỂU LUẬ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9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8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Kỹ năng làm việc theo nhó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9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Quản trị hồ sơ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20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Áp dụng 5S trong quản trị văn phò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21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Hội họp tại VN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22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Ứng dụng hệ thống quản lý chất lượng ISO trong quản trị văn phò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1686-5912-4C7C-96B2-23517518AF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2" name="Date Placeholder 4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5F34-6416-4860-AEEB-18DD37510F8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4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ĐỀ TÀI TIỂU LUẬ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5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DA85-F1D2-4FE9-B5AD-B9D8E11F4EF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1124-30CC-4029-BAD8-A8C38CD969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8" name="Bevel 4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375"/>
            </a:avLst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29"/>
                </a:solidFill>
                <a:uFillTx/>
                <a:latin typeface="Arial"/>
                <a:ea typeface="Times New Roman"/>
              </a:rPr>
              <a:t>PART I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29"/>
                </a:solidFill>
                <a:latin typeface="Arial"/>
                <a:ea typeface="Times New Roman"/>
              </a:rPr>
              <a:t>OVERVIEW OF</a:t>
            </a: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29"/>
                </a:solidFill>
                <a:latin typeface="Arial"/>
                <a:ea typeface="Times New Roman"/>
              </a:rPr>
              <a:t>OFFICEMANAGEMENT</a:t>
            </a: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99" name="Picture 7" descr="https://encrypted-tbn1.gstatic.com/images?q=tbn:ANd9GcSwEocHnrCMfwce3RIGPI1Q0HsXY-22bZAU2GjqsNFI_XE9TSgZ"/>
          <p:cNvPicPr/>
          <p:nvPr/>
        </p:nvPicPr>
        <p:blipFill>
          <a:blip r:embed="rId1"/>
          <a:stretch/>
        </p:blipFill>
        <p:spPr>
          <a:xfrm>
            <a:off x="193680" y="228600"/>
            <a:ext cx="3159000" cy="2514600"/>
          </a:xfrm>
          <a:prstGeom prst="rect">
            <a:avLst/>
          </a:prstGeom>
          <a:ln w="0">
            <a:noFill/>
          </a:ln>
        </p:spPr>
      </p:pic>
      <p:sp>
        <p:nvSpPr>
          <p:cNvPr id="300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69CD-0AAE-43B9-A43E-7DC5F7CABC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0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6338-C8CE-4167-A536-C051007AF9C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04" name="Bevel 7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375"/>
            </a:avLst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29"/>
                </a:solidFill>
                <a:uFillTx/>
                <a:latin typeface="Arial"/>
                <a:ea typeface="Times New Roman"/>
              </a:rPr>
              <a:t>Phần I</a:t>
            </a:r>
            <a:endParaRPr b="0" lang="en-US" sz="5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29"/>
                </a:solidFill>
                <a:latin typeface="Arial"/>
                <a:ea typeface="Times New Roman"/>
              </a:rPr>
              <a:t>TỔNG QUAN VỀ</a:t>
            </a: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29"/>
                </a:solidFill>
                <a:latin typeface="Arial"/>
                <a:ea typeface="Times New Roman"/>
              </a:rPr>
              <a:t>QUẢN TRỊ VĂN PHÒNG</a:t>
            </a: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305" name="Picture 6" descr="http://www.getentrepreneurial.com/images/Office%20Management.gif"/>
          <p:cNvPicPr/>
          <p:nvPr/>
        </p:nvPicPr>
        <p:blipFill>
          <a:blip r:embed="rId1"/>
          <a:stretch/>
        </p:blipFill>
        <p:spPr>
          <a:xfrm>
            <a:off x="193680" y="228600"/>
            <a:ext cx="3019320" cy="2362320"/>
          </a:xfrm>
          <a:prstGeom prst="rect">
            <a:avLst/>
          </a:prstGeom>
          <a:ln w="0">
            <a:noFill/>
          </a:ln>
        </p:spPr>
      </p:pic>
      <p:sp>
        <p:nvSpPr>
          <p:cNvPr id="306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421A-A95D-4581-8E59-40767C40BA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08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46F4-A8BB-4862-B0C5-D43BC44884F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0" y="30240"/>
            <a:ext cx="9144000" cy="63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000029"/>
                </a:solidFill>
                <a:latin typeface="Arial"/>
                <a:ea typeface="Times New Roman"/>
              </a:rPr>
              <a:t>OVERVIEW OF</a:t>
            </a: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29"/>
                </a:solidFill>
                <a:latin typeface="Arial"/>
                <a:ea typeface="Times New Roman"/>
              </a:rPr>
              <a:t>OFFICE MANAGEMENT</a:t>
            </a: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PERIODS FOR LECTURE: 3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(HOME STUDY: 6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1" name="Frame 5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2" name="Horizontal Scroll 6"/>
          <p:cNvSpPr/>
          <p:nvPr/>
        </p:nvSpPr>
        <p:spPr>
          <a:xfrm>
            <a:off x="2743200" y="914400"/>
            <a:ext cx="36576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3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6CCD-B663-4E62-A377-6888CEC8BB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5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101F-48CA-452A-B100-FF66AF55092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29"/>
                </a:solidFill>
                <a:latin typeface="Arial"/>
              </a:rPr>
              <a:t>KHÁI QUÁ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29"/>
                </a:solidFill>
                <a:latin typeface="Arial"/>
              </a:rPr>
              <a:t>QUẢN TRỊ VĂN PHÒ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SỐ TIẾT GIẢNG: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(TỰ HỌC: 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8" name="Frame 7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9" name="Horizontal Scroll 6"/>
          <p:cNvSpPr/>
          <p:nvPr/>
        </p:nvSpPr>
        <p:spPr>
          <a:xfrm>
            <a:off x="2895480" y="838080"/>
            <a:ext cx="335304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ương 1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320" name="Picture 9" descr="http://sto.com.vn/uploads/download/images/sto-logo.jpg"/>
          <p:cNvPicPr/>
          <p:nvPr/>
        </p:nvPicPr>
        <p:blipFill>
          <a:blip r:embed="rId1"/>
          <a:stretch/>
        </p:blipFill>
        <p:spPr>
          <a:xfrm>
            <a:off x="152280" y="152280"/>
            <a:ext cx="2543400" cy="2219400"/>
          </a:xfrm>
          <a:prstGeom prst="rect">
            <a:avLst/>
          </a:prstGeom>
          <a:ln w="0">
            <a:noFill/>
          </a:ln>
        </p:spPr>
      </p:pic>
      <p:sp>
        <p:nvSpPr>
          <p:cNvPr id="321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0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000"/>
                            </p:stCondLst>
                            <p:childTnLst>
                              <p:par>
                                <p:cTn id="7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2EBB-9F30-464A-8ED7-F7753B8947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0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84DB-C8C1-4A08-9E25-191F74B69EA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VB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Văn bả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VBHC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Văn bản hành chính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VBTP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Văn bản tư pháp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VBQPPL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Văn bản quy phạm pháp luậ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DN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Doanh nghiệp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VP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Văn phò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VPĐD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Văn phòng đại diệ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QTVP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Quản trị văn phò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CQ TC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Cơ quan, tổ chức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3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ANH MỤC TỪ VIẾT TẮ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24" name="Picture 6" descr="http://vnexpress.net/Files/Subject/3b/be/07/d5/a-tb-1-nhu-cau-thue-van-pho.jpg"/>
          <p:cNvPicPr/>
          <p:nvPr/>
        </p:nvPicPr>
        <p:blipFill>
          <a:blip r:embed="rId1"/>
          <a:stretch/>
        </p:blipFill>
        <p:spPr>
          <a:xfrm>
            <a:off x="6095880" y="3467160"/>
            <a:ext cx="2590920" cy="293364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25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800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9000"/>
                            </p:stCondLst>
                            <p:childTnLst>
                              <p:par>
                                <p:cTn id="1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1066320"/>
            <a:ext cx="830592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oncepts, functions and office 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Organizational structure of the 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Principle of op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Office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Office management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Methods of office lay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e active form of 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9539-D95C-4775-B508-312140D298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24" name="Date Placeholder 4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3F4F-EBCB-42AE-96FA-BFFE2A398E5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26" name="Horizontal Scroll 6"/>
          <p:cNvSpPr/>
          <p:nvPr/>
        </p:nvSpPr>
        <p:spPr>
          <a:xfrm>
            <a:off x="304920" y="7632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SSON CONTEN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27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081C-35FF-4B4B-AD0B-9137FF329F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29" name="Date Placeholder 5"/>
          <p:cNvSpPr/>
          <p:nvPr/>
        </p:nvSpPr>
        <p:spPr>
          <a:xfrm>
            <a:off x="457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F30C-CA83-408F-AD00-B4FCA1C07F3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Khái niệm, chức năng, nhiệm vụ V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ơ cấu tổ chức V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guyên tắc hoạt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T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ổ chức văn phò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Phương pháp quản lý V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Phương pháp bố trí V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ác hình thức hoạt động của V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32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ỘI DUNG BÀI GIẢ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33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2000"/>
                            </p:stCondLst>
                            <p:childTnLst>
                              <p:par>
                                <p:cTn id="80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3000"/>
                            </p:stCondLst>
                            <p:childTnLst>
                              <p:par>
                                <p:cTn id="8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4000"/>
                            </p:stCondLst>
                            <p:childTnLst>
                              <p:par>
                                <p:cTn id="8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000"/>
                            </p:stCondLst>
                            <p:childTnLst>
                              <p:par>
                                <p:cTn id="8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6000"/>
                            </p:stCondLst>
                            <p:childTnLst>
                              <p:par>
                                <p:cTn id="8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7000"/>
                            </p:stCondLst>
                            <p:childTnLst>
                              <p:par>
                                <p:cTn id="8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Narrow sense: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 Head office of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Broad sense: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 general operating apparatus of the organization, ensuring the technical material conditions for the operation of the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Management perspective: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 Where receiving and processing information for the adminis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70B2-76A3-42BD-AB41-6797149605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36" name="Date Placeholder 4"/>
          <p:cNvSpPr/>
          <p:nvPr/>
        </p:nvSpPr>
        <p:spPr>
          <a:xfrm>
            <a:off x="457200" y="6245280"/>
            <a:ext cx="2971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C841-649D-478E-9E6E-BAF6096527B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38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 CONCEPTS, FUNCTIONS &amp; DUTIES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39" name="Horizontal Scroll 7"/>
          <p:cNvSpPr/>
          <p:nvPr/>
        </p:nvSpPr>
        <p:spPr>
          <a:xfrm>
            <a:off x="380880" y="99072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1. OFFICE CONCEP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40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A64A-9B7F-4092-B5F7-6445F304C4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42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9F44-28C6-4981-AC33-8230418FA72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Nghĩa hẹp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Trụ sở làm việc của T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Nghĩa rộng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Bộ máy điều hành tổng hợp của CQ, TC, bảo đảm các điều kiện vật chất, kỹ thuật cho hoạt động của CQ, 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Góc độ quản trị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Nơi tiếp nhận, xử lý thông tin phục vụ công tác điều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45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1. KHÁI NIỆM, CHỨC NĂNG, NHIỆM VỤ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46" name="Horizontal Scroll 7"/>
          <p:cNvSpPr/>
          <p:nvPr/>
        </p:nvSpPr>
        <p:spPr>
          <a:xfrm>
            <a:off x="380880" y="99072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1. KHÁI NIỆM VĂN PHÒ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47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0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Office management is the planning, organization, coordination, standardization and control of information processing activities in the offi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AB54-722F-41B8-8D94-E04B6B403C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50" name="Date Placeholder 4"/>
          <p:cNvSpPr/>
          <p:nvPr/>
        </p:nvSpPr>
        <p:spPr>
          <a:xfrm>
            <a:off x="457200" y="6245280"/>
            <a:ext cx="3048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A103-28E3-49D9-98AD-6615DC01ED6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52" name="Horizontal Scroll 6"/>
          <p:cNvSpPr/>
          <p:nvPr/>
        </p:nvSpPr>
        <p:spPr>
          <a:xfrm>
            <a:off x="380880" y="76320"/>
            <a:ext cx="8382240" cy="9903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2. OFFICE MANAGEMENT CONCEPTS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353" name="Picture 8" descr="https://encrypted-tbn3.gstatic.com/images?q=tbn:ANd9GcTASSXGrYCIzCqCsb1CLTqtzaqIZ_TWDiMl5SAbdvunbleKFRu5"/>
          <p:cNvPicPr/>
          <p:nvPr/>
        </p:nvPicPr>
        <p:blipFill>
          <a:blip r:embed="rId1"/>
          <a:stretch/>
        </p:blipFill>
        <p:spPr>
          <a:xfrm>
            <a:off x="4572000" y="3429000"/>
            <a:ext cx="4067280" cy="2895480"/>
          </a:xfrm>
          <a:prstGeom prst="rect">
            <a:avLst/>
          </a:prstGeom>
          <a:ln w="0">
            <a:noFill/>
          </a:ln>
        </p:spPr>
      </p:pic>
      <p:sp>
        <p:nvSpPr>
          <p:cNvPr id="354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D82F-70F9-4612-A251-6133D7BD3B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56" name="Date Placeholder 5"/>
          <p:cNvSpPr/>
          <p:nvPr/>
        </p:nvSpPr>
        <p:spPr>
          <a:xfrm>
            <a:off x="457200" y="6245280"/>
            <a:ext cx="3200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AF74-F763-444C-873D-4D8005FB6E3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Quản trị hành chánh văn phòng là việc hoạch định, tổ chức, phối hợp, tiêu chuẩn hóa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&amp; 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kiểm soát các hoạt động xử lý thông tin trong văn phò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59" name="Horizontal Scroll 6"/>
          <p:cNvSpPr/>
          <p:nvPr/>
        </p:nvSpPr>
        <p:spPr>
          <a:xfrm>
            <a:off x="380880" y="33480"/>
            <a:ext cx="8382240" cy="9572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1.2. KHÁI NIỆM QT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360" name="Picture 8" descr="http://1.bp.blogspot.com/-dd3w6dxxiNo/Tj86_KLudlI/AAAAAAAABDM/5Mk987xlfKw/s400/i_love_office_management_postcard-p239729007590858055qibm_400.jpg"/>
          <p:cNvPicPr/>
          <p:nvPr/>
        </p:nvPicPr>
        <p:blipFill>
          <a:blip r:embed="rId1"/>
          <a:stretch/>
        </p:blipFill>
        <p:spPr>
          <a:xfrm>
            <a:off x="4495680" y="3505320"/>
            <a:ext cx="4114800" cy="2743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61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500"/>
                            </p:stCondLst>
                            <p:childTnLst>
                              <p:par>
                                <p:cTn id="9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6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3176-3375-4645-B126-C382EFCAF8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6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0C1D-BC88-4345-9BE0-AF002EEAC1E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1295280" y="1219320"/>
            <a:ext cx="73915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e planning offi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67" name="Horizontal Scroll 6"/>
          <p:cNvSpPr/>
          <p:nvPr/>
        </p:nvSpPr>
        <p:spPr>
          <a:xfrm>
            <a:off x="380880" y="109440"/>
            <a:ext cx="838224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CTIONS OF OFFICE MANAGEMEN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68" name="Rounded Rectangle 7"/>
          <p:cNvSpPr/>
          <p:nvPr/>
        </p:nvSpPr>
        <p:spPr>
          <a:xfrm>
            <a:off x="457200" y="1219320"/>
            <a:ext cx="762120" cy="609480"/>
          </a:xfrm>
          <a:prstGeom prst="roundRect">
            <a:avLst>
              <a:gd name="adj" fmla="val 16667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1295280" y="1905120"/>
            <a:ext cx="73915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Organize the office work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1295280" y="2590920"/>
            <a:ext cx="73915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Direct the work of the offi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1295280" y="3276720"/>
            <a:ext cx="73915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heck for office work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1295280" y="3962520"/>
            <a:ext cx="7391520" cy="23619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Administrative Services offi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(legal papers valid in the field of management, not for profit purposes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3" name="Rounded Rectangle 12"/>
          <p:cNvSpPr/>
          <p:nvPr/>
        </p:nvSpPr>
        <p:spPr>
          <a:xfrm>
            <a:off x="457200" y="1905120"/>
            <a:ext cx="762120" cy="609480"/>
          </a:xfrm>
          <a:prstGeom prst="roundRect">
            <a:avLst>
              <a:gd name="adj" fmla="val 16667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4" name="Rounded Rectangle 13"/>
          <p:cNvSpPr/>
          <p:nvPr/>
        </p:nvSpPr>
        <p:spPr>
          <a:xfrm>
            <a:off x="457200" y="2590920"/>
            <a:ext cx="762120" cy="609480"/>
          </a:xfrm>
          <a:prstGeom prst="roundRect">
            <a:avLst>
              <a:gd name="adj" fmla="val 16667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5" name="Rounded Rectangle 14"/>
          <p:cNvSpPr/>
          <p:nvPr/>
        </p:nvSpPr>
        <p:spPr>
          <a:xfrm>
            <a:off x="457200" y="3276720"/>
            <a:ext cx="762120" cy="609480"/>
          </a:xfrm>
          <a:prstGeom prst="roundRect">
            <a:avLst>
              <a:gd name="adj" fmla="val 16667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6" name="Rounded Rectangle 15"/>
          <p:cNvSpPr/>
          <p:nvPr/>
        </p:nvSpPr>
        <p:spPr>
          <a:xfrm>
            <a:off x="457200" y="3962520"/>
            <a:ext cx="762120" cy="2361960"/>
          </a:xfrm>
          <a:custGeom>
            <a:avLst/>
            <a:gdLst>
              <a:gd name="textAreaLeft" fmla="*/ 37080 w 762120"/>
              <a:gd name="textAreaRight" fmla="*/ 725040 w 762120"/>
              <a:gd name="textAreaTop" fmla="*/ 37080 h 2361960"/>
              <a:gd name="textAreaBottom" fmla="*/ 2324880 h 2361960"/>
            </a:gdLst>
            <a:ahLst/>
            <a:rect l="textAreaLeft" t="textAreaTop" r="textAreaRight" b="textAreaBottom"/>
            <a:pathLst>
              <a:path w="21600" h="66921">
                <a:moveTo>
                  <a:pt x="3600" y="0"/>
                </a:moveTo>
                <a:arcTo wR="3600" hR="3600" stAng="16200000" swAng="-5400000"/>
                <a:lnTo>
                  <a:pt x="0" y="63321"/>
                </a:lnTo>
                <a:arcTo wR="3600" hR="3600" stAng="10800000" swAng="-5400000"/>
                <a:lnTo>
                  <a:pt x="18000" y="669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0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000"/>
                            </p:stCondLst>
                            <p:childTnLst>
                              <p:par>
                                <p:cTn id="9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500"/>
                            </p:stCondLst>
                            <p:childTnLst>
                              <p:par>
                                <p:cTn id="9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2000"/>
                            </p:stCondLst>
                            <p:childTnLst>
                              <p:par>
                                <p:cTn id="9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2500"/>
                            </p:stCondLst>
                            <p:childTnLst>
                              <p:par>
                                <p:cTn id="9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3000"/>
                            </p:stCondLst>
                            <p:childTnLst>
                              <p:par>
                                <p:cTn id="9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4000"/>
                            </p:stCondLst>
                            <p:childTnLst>
                              <p:par>
                                <p:cTn id="9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4500"/>
                            </p:stCondLst>
                            <p:childTnLst>
                              <p:par>
                                <p:cTn id="9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0"/>
                            </p:stCondLst>
                            <p:childTnLst>
                              <p:par>
                                <p:cTn id="9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BF73-15C3-4A9A-8D1C-24E59A038C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8" name="Date Placeholder 2"/>
          <p:cNvSpPr/>
          <p:nvPr/>
        </p:nvSpPr>
        <p:spPr>
          <a:xfrm>
            <a:off x="457200" y="624528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705C-EE01-414F-8130-A81F17281D7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1295280" y="1219320"/>
            <a:ext cx="73915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Hoạch định công tác 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1" name="Horizontal Scroll 5"/>
          <p:cNvSpPr/>
          <p:nvPr/>
        </p:nvSpPr>
        <p:spPr>
          <a:xfrm>
            <a:off x="380880" y="109440"/>
            <a:ext cx="838224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CHỨC NĂNG CỦA QT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2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3" name="Rounded Rectangle 7"/>
          <p:cNvSpPr/>
          <p:nvPr/>
        </p:nvSpPr>
        <p:spPr>
          <a:xfrm>
            <a:off x="457200" y="1219320"/>
            <a:ext cx="762120" cy="609480"/>
          </a:xfrm>
          <a:prstGeom prst="roundRect">
            <a:avLst>
              <a:gd name="adj" fmla="val 16667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1295280" y="1905120"/>
            <a:ext cx="73915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Tổ chức thực hiện công việc 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1295280" y="2590920"/>
            <a:ext cx="73915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Lãnh đạo công tác 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1295280" y="3276720"/>
            <a:ext cx="73915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Kiểm tra công việc 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1295280" y="3962520"/>
            <a:ext cx="7391520" cy="23619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Dịch vụ hành chính 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(cấp giấy tờ có giá trị pháp lý trong lĩnh vực quản lý, không nhằm mục tiêu lợi nhuận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8" name="Rounded Rectangle 12"/>
          <p:cNvSpPr/>
          <p:nvPr/>
        </p:nvSpPr>
        <p:spPr>
          <a:xfrm>
            <a:off x="457200" y="1905120"/>
            <a:ext cx="762120" cy="609480"/>
          </a:xfrm>
          <a:prstGeom prst="roundRect">
            <a:avLst>
              <a:gd name="adj" fmla="val 16667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9" name="Rounded Rectangle 13"/>
          <p:cNvSpPr/>
          <p:nvPr/>
        </p:nvSpPr>
        <p:spPr>
          <a:xfrm>
            <a:off x="457200" y="2590920"/>
            <a:ext cx="762120" cy="609480"/>
          </a:xfrm>
          <a:prstGeom prst="roundRect">
            <a:avLst>
              <a:gd name="adj" fmla="val 16667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90" name="Rounded Rectangle 14"/>
          <p:cNvSpPr/>
          <p:nvPr/>
        </p:nvSpPr>
        <p:spPr>
          <a:xfrm>
            <a:off x="457200" y="3276720"/>
            <a:ext cx="762120" cy="609480"/>
          </a:xfrm>
          <a:prstGeom prst="roundRect">
            <a:avLst>
              <a:gd name="adj" fmla="val 16667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91" name="Rounded Rectangle 15"/>
          <p:cNvSpPr/>
          <p:nvPr/>
        </p:nvSpPr>
        <p:spPr>
          <a:xfrm>
            <a:off x="457200" y="3962520"/>
            <a:ext cx="762120" cy="2361960"/>
          </a:xfrm>
          <a:custGeom>
            <a:avLst/>
            <a:gdLst>
              <a:gd name="textAreaLeft" fmla="*/ 37080 w 762120"/>
              <a:gd name="textAreaRight" fmla="*/ 725040 w 762120"/>
              <a:gd name="textAreaTop" fmla="*/ 37080 h 2361960"/>
              <a:gd name="textAreaBottom" fmla="*/ 2324880 h 2361960"/>
            </a:gdLst>
            <a:ahLst/>
            <a:rect l="textAreaLeft" t="textAreaTop" r="textAreaRight" b="textAreaBottom"/>
            <a:pathLst>
              <a:path w="21600" h="66921">
                <a:moveTo>
                  <a:pt x="3600" y="0"/>
                </a:moveTo>
                <a:arcTo wR="3600" hR="3600" stAng="16200000" swAng="-5400000"/>
                <a:lnTo>
                  <a:pt x="0" y="63321"/>
                </a:lnTo>
                <a:arcTo wR="3600" hR="3600" stAng="10800000" swAng="-5400000"/>
                <a:lnTo>
                  <a:pt x="18000" y="669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0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Content Placeholder 5" descr=""/>
          <p:cNvPicPr/>
          <p:nvPr/>
        </p:nvPicPr>
        <p:blipFill>
          <a:blip r:embed="rId1"/>
          <a:stretch/>
        </p:blipFill>
        <p:spPr>
          <a:xfrm>
            <a:off x="291960" y="1500120"/>
            <a:ext cx="8560080" cy="4668840"/>
          </a:xfrm>
          <a:prstGeom prst="rect">
            <a:avLst/>
          </a:prstGeom>
          <a:ln w="0">
            <a:noFill/>
          </a:ln>
        </p:spPr>
      </p:pic>
      <p:sp>
        <p:nvSpPr>
          <p:cNvPr id="39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047C-DDAE-450A-B36A-642913D567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94" name="Date Placeholder 4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8AF5-B78C-41FE-95FC-E388254EE7F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96" name="Horizontal Scroll 7"/>
          <p:cNvSpPr/>
          <p:nvPr/>
        </p:nvSpPr>
        <p:spPr>
          <a:xfrm>
            <a:off x="304920" y="109440"/>
            <a:ext cx="853416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3. FUNCTIONS OF THE OFFI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97" name="Oval 8"/>
          <p:cNvSpPr/>
          <p:nvPr/>
        </p:nvSpPr>
        <p:spPr>
          <a:xfrm>
            <a:off x="380880" y="1752480"/>
            <a:ext cx="838440" cy="838440"/>
          </a:xfrm>
          <a:prstGeom prst="ellipse">
            <a:avLst/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Time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98" name="Oval 9"/>
          <p:cNvSpPr/>
          <p:nvPr/>
        </p:nvSpPr>
        <p:spPr>
          <a:xfrm>
            <a:off x="990720" y="3352680"/>
            <a:ext cx="838080" cy="838440"/>
          </a:xfrm>
          <a:prstGeom prst="ellipse">
            <a:avLst/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Time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1828800" y="4952880"/>
            <a:ext cx="838080" cy="838440"/>
          </a:xfrm>
          <a:prstGeom prst="ellipse">
            <a:avLst/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Time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00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Content Placeholder 5" descr=""/>
          <p:cNvPicPr/>
          <p:nvPr/>
        </p:nvPicPr>
        <p:blipFill>
          <a:blip r:embed="rId1"/>
          <a:stretch/>
        </p:blipFill>
        <p:spPr>
          <a:xfrm>
            <a:off x="311040" y="1500120"/>
            <a:ext cx="8521920" cy="4741920"/>
          </a:xfrm>
          <a:prstGeom prst="rect">
            <a:avLst/>
          </a:prstGeom>
          <a:ln w="0">
            <a:noFill/>
          </a:ln>
        </p:spPr>
      </p:pic>
      <p:sp>
        <p:nvSpPr>
          <p:cNvPr id="40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05A3-8E0C-4AF6-97E0-7809E2401E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03" name="Date Placeholder 4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77D2-3AF9-4143-A09F-76DC0186259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05" name="Horizontal Scroll 7"/>
          <p:cNvSpPr/>
          <p:nvPr/>
        </p:nvSpPr>
        <p:spPr>
          <a:xfrm>
            <a:off x="304920" y="109440"/>
            <a:ext cx="853416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3. CHỨC NĂNG CỦA VĂN PHÒ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06" name="Oval 8"/>
          <p:cNvSpPr/>
          <p:nvPr/>
        </p:nvSpPr>
        <p:spPr>
          <a:xfrm>
            <a:off x="380880" y="1752480"/>
            <a:ext cx="838440" cy="838440"/>
          </a:xfrm>
          <a:prstGeom prst="ellipse">
            <a:avLst/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Time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07" name="Oval 9"/>
          <p:cNvSpPr/>
          <p:nvPr/>
        </p:nvSpPr>
        <p:spPr>
          <a:xfrm>
            <a:off x="762120" y="3352680"/>
            <a:ext cx="838080" cy="838440"/>
          </a:xfrm>
          <a:prstGeom prst="ellipse">
            <a:avLst/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Time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1676520" y="5029200"/>
            <a:ext cx="838080" cy="838080"/>
          </a:xfrm>
          <a:prstGeom prst="ellipse">
            <a:avLst/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Time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09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0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360B-E7C5-4680-A689-78B251E157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7" name="Date Placeholder 2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7775-E45D-4BBB-A730-13E00D83D14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400" spc="-1" strike="noStrike">
                <a:solidFill>
                  <a:srgbClr val="000029"/>
                </a:solidFill>
                <a:latin typeface="Arial"/>
              </a:rPr>
              <a:t>Total units of study: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 2 units of study (30 information theory + homework)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400" spc="-1" strike="noStrike">
                <a:solidFill>
                  <a:srgbClr val="000029"/>
                </a:solidFill>
                <a:latin typeface="Arial"/>
              </a:rPr>
              <a:t>Course Program: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 7 Chapter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400" spc="-1" strike="noStrike">
                <a:solidFill>
                  <a:srgbClr val="000029"/>
                </a:solidFill>
                <a:latin typeface="Arial"/>
              </a:rPr>
              <a:t>Essay: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 A group of 3 to 10 students (classroom presentations)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400" spc="-1" strike="noStrike">
                <a:solidFill>
                  <a:srgbClr val="000029"/>
                </a:solidFill>
                <a:latin typeface="Arial"/>
              </a:rPr>
              <a:t>Exam form: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 tests / implementation of self-review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400" spc="-1" strike="noStrike">
                <a:solidFill>
                  <a:srgbClr val="000029"/>
                </a:solidFill>
                <a:latin typeface="Arial"/>
              </a:rPr>
              <a:t>Absent from class more than six periods: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 Ban the end of the semester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0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VERVIEW OF COURS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1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E43D-0E35-4B93-9DD0-A84F6FB4FA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11" name="Date Placeholder 4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7B42-FBF1-4B65-8587-3554EA652D6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Advising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Proposed solutions help leaders handle the job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Synthesis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Receiving, processing, provide information for management and administration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14" name="Horizontal Scroll 7"/>
          <p:cNvSpPr/>
          <p:nvPr/>
        </p:nvSpPr>
        <p:spPr>
          <a:xfrm>
            <a:off x="304920" y="33480"/>
            <a:ext cx="8458200" cy="1338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.3.1. THE FUNCTION OF ADVISING &amp; SYNTHESIS INFORMATION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415" name="Picture 2" descr="http://www.apave.com.vn/Modules/CMS/Upload/56/Nam_2009/Thang_8/Ngay_17/secretary_1.jpg"/>
          <p:cNvPicPr/>
          <p:nvPr/>
        </p:nvPicPr>
        <p:blipFill>
          <a:blip r:embed="rId1"/>
          <a:stretch/>
        </p:blipFill>
        <p:spPr>
          <a:xfrm>
            <a:off x="4952880" y="3962520"/>
            <a:ext cx="3733920" cy="239076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416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0AC5-5B82-4275-9A1D-081F02FDAE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18" name="Date Placeholder 5"/>
          <p:cNvSpPr/>
          <p:nvPr/>
        </p:nvSpPr>
        <p:spPr>
          <a:xfrm>
            <a:off x="457200" y="624528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C1C6-50B7-41E1-ABC3-A9362BE2580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5105520" cy="53337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Tham mưu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Đề xuất giải pháp giúp lãnh đạo xử lý công việ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Tổng hợp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Tiếp nhận, xử lý, cung cấp thông tin phục vụ quản l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21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.3.1. CHỨC NĂNG THAM MƯU, TỔNG HỢP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422" name="Picture 6" descr="http://www.misa.com.vn/Portals/0/Upload2012/yahoocomvn/Images/10/nghe_tro_ly_bao_chi.jpg"/>
          <p:cNvPicPr/>
          <p:nvPr/>
        </p:nvPicPr>
        <p:blipFill>
          <a:blip r:embed="rId1"/>
          <a:stretch/>
        </p:blipFill>
        <p:spPr>
          <a:xfrm>
            <a:off x="5638680" y="1009800"/>
            <a:ext cx="3095640" cy="53146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423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0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EE32-FB94-437E-A5DE-970AAA7506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25" name="Date Placeholder 4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F792-BDE3-49A6-811C-66055101E11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457200" y="990720"/>
            <a:ext cx="8229600" cy="26668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Financial management (revenue &amp; expenditure)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Asset Managemen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Ensuring infrastructure, facilities &amp; working conditions of the organizatio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28" name="Horizontal Scroll 7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3.2. LOGISTICS FUNCTIONS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457200" y="4800600"/>
            <a:ext cx="8229600" cy="15238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Focal organization's communication</a:t>
            </a:r>
            <a:br>
              <a:rPr sz="3200"/>
            </a:b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portal of the organizatio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30" name="Horizontal Scroll 9"/>
          <p:cNvSpPr/>
          <p:nvPr/>
        </p:nvSpPr>
        <p:spPr>
          <a:xfrm>
            <a:off x="304920" y="3809880"/>
            <a:ext cx="84582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3.3. REPRESENTATIVE FUNCTIO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31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023D-1560-4268-B3D1-1F45229D93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33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059B-49F0-4EAF-8916-A13897AAD6F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5909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Quản lý tài chính (thu ch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Quản lý tài s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Bảo đảm cơ sở vật chất, phương tiện &amp; điều kiện làm việc của CQ, 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36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3.2. CHỨC NĂNG HẬU CẦ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457200" y="4800600"/>
            <a:ext cx="8229600" cy="15238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Đầu mối giao tiếp của CQ, TC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ổng thông tin của CQ, TC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38" name="Horizontal Scroll 8"/>
          <p:cNvSpPr/>
          <p:nvPr/>
        </p:nvSpPr>
        <p:spPr>
          <a:xfrm>
            <a:off x="304920" y="3809880"/>
            <a:ext cx="84582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3.3. CHỨC NĂNG ĐẠI DIỆ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39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0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lide Number Placeholder 3"/>
          <p:cNvSpPr/>
          <p:nvPr/>
        </p:nvSpPr>
        <p:spPr>
          <a:xfrm>
            <a:off x="655308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1619-7F7D-4477-83B1-574663D845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41" name="Date Placeholder 4"/>
          <p:cNvSpPr/>
          <p:nvPr/>
        </p:nvSpPr>
        <p:spPr>
          <a:xfrm>
            <a:off x="457200" y="630540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CA47-BFE7-489E-A583-AF810B8ED71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457200" y="762120"/>
            <a:ext cx="8305920" cy="57150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Collect, process, and transfer information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Develop programs &amp; plans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Preparing documents for handling affairs leaders, meetings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Drafting and issuing documents, supervise the implementation of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Organization of meetings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Organizational communication for internal &amp; external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Management &amp; storage of documents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Human resource management, labor, wages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Asset management.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44" name="Horizontal Scroll 7"/>
          <p:cNvSpPr/>
          <p:nvPr/>
        </p:nvSpPr>
        <p:spPr>
          <a:xfrm>
            <a:off x="304920" y="33480"/>
            <a:ext cx="8534160" cy="8046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4. DUTIES OF THE OFFI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45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9D1C-9558-42A4-BA7E-19AADEE18E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47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E13E-C1A7-4ADB-BDCC-E4BE4F4DFFD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1752480" y="761760"/>
            <a:ext cx="7010640" cy="1981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Thu thập, xử lý, truyền đạt thông 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Xây dựng chương trình, kế hoạ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Chuẩn bị tài liệu cho lãnh đạo giải quyết công việc, hội họ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0" name="Horizontal Scroll 6"/>
          <p:cNvSpPr/>
          <p:nvPr/>
        </p:nvSpPr>
        <p:spPr>
          <a:xfrm>
            <a:off x="1600200" y="0"/>
            <a:ext cx="7238880" cy="8049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4. NHIỆM VỤ VĂN PHÒ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1" name="Right Arrow Callout 7"/>
          <p:cNvSpPr/>
          <p:nvPr/>
        </p:nvSpPr>
        <p:spPr>
          <a:xfrm>
            <a:off x="152280" y="762120"/>
            <a:ext cx="1524240" cy="1981080"/>
          </a:xfrm>
          <a:prstGeom prst="rightArrowCallout">
            <a:avLst>
              <a:gd name="adj1" fmla="val 48804"/>
              <a:gd name="adj2" fmla="val 49990"/>
              <a:gd name="adj3" fmla="val 5356"/>
              <a:gd name="adj4" fmla="val 88069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ÔNG TIN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2" name="Right Arrow Callout 8"/>
          <p:cNvSpPr/>
          <p:nvPr/>
        </p:nvSpPr>
        <p:spPr>
          <a:xfrm>
            <a:off x="152280" y="2819520"/>
            <a:ext cx="1524240" cy="1904760"/>
          </a:xfrm>
          <a:prstGeom prst="rightArrowCallout">
            <a:avLst>
              <a:gd name="adj1" fmla="val 48798"/>
              <a:gd name="adj2" fmla="val 49986"/>
              <a:gd name="adj3" fmla="val 5356"/>
              <a:gd name="adj4" fmla="val 88069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Ổ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ỨC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3" name="Right Arrow Callout 9"/>
          <p:cNvSpPr/>
          <p:nvPr/>
        </p:nvSpPr>
        <p:spPr>
          <a:xfrm>
            <a:off x="152280" y="4800600"/>
            <a:ext cx="1524240" cy="762120"/>
          </a:xfrm>
          <a:prstGeom prst="rightArrowCallout">
            <a:avLst>
              <a:gd name="adj1" fmla="val 48810"/>
              <a:gd name="adj2" fmla="val 50000"/>
              <a:gd name="adj3" fmla="val 5361"/>
              <a:gd name="adj4" fmla="val 88069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HI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HỚ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4" name="Right Arrow Callout 10"/>
          <p:cNvSpPr/>
          <p:nvPr/>
        </p:nvSpPr>
        <p:spPr>
          <a:xfrm>
            <a:off x="152280" y="5638680"/>
            <a:ext cx="1524240" cy="762120"/>
          </a:xfrm>
          <a:prstGeom prst="rightArrowCallout">
            <a:avLst>
              <a:gd name="adj1" fmla="val 48810"/>
              <a:gd name="adj2" fmla="val 50000"/>
              <a:gd name="adj3" fmla="val 5361"/>
              <a:gd name="adj4" fmla="val 88069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ÍNH TOÁN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1752480" y="2819520"/>
            <a:ext cx="7010640" cy="1981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Soạn thảo, ban hành VB, theo dõi đôn đốc việc thực hiệ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Tổ chức hội họp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Tổ chức giao tiếp đối nội, đối ngoại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1752480" y="4876920"/>
            <a:ext cx="7010640" cy="4572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Quản lý, lưu trữ VB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1752480" y="5410080"/>
            <a:ext cx="7010640" cy="9907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Quản lý nhân sự, tiền lươ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Quản lý tài sản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8" name="Footer Placeholder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AD16-D75B-44AB-B3B2-C3EABFFD78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60" name="Date Placeholder 4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3E19-C9C7-4407-87EE-8C87E284397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457200" y="2438280"/>
            <a:ext cx="8229600" cy="38862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Administrative principles (a head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Office issuing the guidance, professional inspection to office subordinate organizations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62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63" name="Horizontal Scroll 7"/>
          <p:cNvSpPr/>
          <p:nvPr/>
        </p:nvSpPr>
        <p:spPr>
          <a:xfrm>
            <a:off x="304920" y="33480"/>
            <a:ext cx="8534160" cy="1566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STRUCTURE &amp; ORGANIZATION OF THE OFFI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64" name="Horizontal Scroll 8"/>
          <p:cNvSpPr/>
          <p:nvPr/>
        </p:nvSpPr>
        <p:spPr>
          <a:xfrm>
            <a:off x="380880" y="167652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1. PRINCIPLE OF OPERATIO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65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54DA-F59C-47B0-BA99-8280705114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67" name="Date Placeholder 5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F1F3-AF1A-4A78-8EB8-24DEF612D52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guyên tắc hành chính (thủ trưởng lãnh đạ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Văn phòng tổ chức cấp trên hướng dẫn, kiểm tra chuyên môn văn phòng tổ chức cấp dướ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0" name="Horizontal Scroll 6"/>
          <p:cNvSpPr/>
          <p:nvPr/>
        </p:nvSpPr>
        <p:spPr>
          <a:xfrm>
            <a:off x="304920" y="109440"/>
            <a:ext cx="853416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CƠ CẤU, TỔ CHỨC VĂN PHÒ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1" name="Horizontal Scroll 7"/>
          <p:cNvSpPr/>
          <p:nvPr/>
        </p:nvSpPr>
        <p:spPr>
          <a:xfrm>
            <a:off x="380880" y="114300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1. NGUYÊN TẮC HOẠT ĐỘ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2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0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1E00-EC59-4F3B-8D73-C34B53AC54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4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A965-6148-469D-9F23-53E921F80EA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6" name="Horizontal Scroll 4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2. OFFICE ORGANIZATIO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7" name="Horizontal Scroll 5"/>
          <p:cNvSpPr/>
          <p:nvPr/>
        </p:nvSpPr>
        <p:spPr>
          <a:xfrm>
            <a:off x="380880" y="114300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2.1. FORMS OF ORGANIZATION OFFICE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457200" y="1981080"/>
            <a:ext cx="41148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Focu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a clu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4648320" y="1981080"/>
            <a:ext cx="4038480" cy="42674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Focu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on functio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80" name="Oval 8"/>
          <p:cNvSpPr/>
          <p:nvPr/>
        </p:nvSpPr>
        <p:spPr>
          <a:xfrm>
            <a:off x="2057400" y="19810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81" name="Oval 9"/>
          <p:cNvSpPr/>
          <p:nvPr/>
        </p:nvSpPr>
        <p:spPr>
          <a:xfrm>
            <a:off x="6248520" y="19810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8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B723-E3FF-4956-A2DF-35333FCB69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84" name="Date Placeholder 5"/>
          <p:cNvSpPr/>
          <p:nvPr/>
        </p:nvSpPr>
        <p:spPr>
          <a:xfrm>
            <a:off x="457200" y="624528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64ED-C149-46B1-99A7-4C79EE78FC1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8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86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2. TỔ CHỨC VĂN PHÒ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87" name="Horizontal Scroll 7"/>
          <p:cNvSpPr/>
          <p:nvPr/>
        </p:nvSpPr>
        <p:spPr>
          <a:xfrm>
            <a:off x="380880" y="114300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2.1. HÌNH THỨC TỔ CHỨC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grpSp>
        <p:nvGrpSpPr>
          <p:cNvPr id="488" name="Group 13"/>
          <p:cNvGrpSpPr/>
          <p:nvPr/>
        </p:nvGrpSpPr>
        <p:grpSpPr>
          <a:xfrm>
            <a:off x="457200" y="1981080"/>
            <a:ext cx="4114800" cy="4267440"/>
            <a:chOff x="457200" y="1981080"/>
            <a:chExt cx="4114800" cy="4267440"/>
          </a:xfrm>
        </p:grpSpPr>
        <p:sp>
          <p:nvSpPr>
            <p:cNvPr id="489" name="Rectangle 3"/>
            <p:cNvSpPr/>
            <p:nvPr/>
          </p:nvSpPr>
          <p:spPr>
            <a:xfrm>
              <a:off x="457200" y="1981080"/>
              <a:ext cx="4114800" cy="42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29"/>
                  </a:solidFill>
                  <a:latin typeface="Arial"/>
                </a:rPr>
                <a:t>Tập trung</a:t>
              </a: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29"/>
                  </a:solidFill>
                  <a:latin typeface="Arial"/>
                </a:rPr>
                <a:t>một đầu mối</a:t>
              </a: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29"/>
                  </a:solidFill>
                  <a:latin typeface="Arial"/>
                </a:rPr>
                <a:t>(Tập trung)</a:t>
              </a: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490" name="Oval 11"/>
            <p:cNvSpPr/>
            <p:nvPr/>
          </p:nvSpPr>
          <p:spPr>
            <a:xfrm>
              <a:off x="2057400" y="1981080"/>
              <a:ext cx="914400" cy="914400"/>
            </a:xfrm>
            <a:prstGeom prst="ellipse">
              <a:avLst/>
            </a:prstGeom>
            <a:solidFill>
              <a:srgbClr val="000029"/>
            </a:solidFill>
            <a:ln w="936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grpSp>
        <p:nvGrpSpPr>
          <p:cNvPr id="491" name="Group 14"/>
          <p:cNvGrpSpPr/>
          <p:nvPr/>
        </p:nvGrpSpPr>
        <p:grpSpPr>
          <a:xfrm>
            <a:off x="4648320" y="1981080"/>
            <a:ext cx="4038480" cy="4267440"/>
            <a:chOff x="4648320" y="1981080"/>
            <a:chExt cx="4038480" cy="4267440"/>
          </a:xfrm>
        </p:grpSpPr>
        <p:sp>
          <p:nvSpPr>
            <p:cNvPr id="492" name="Rectangle 3"/>
            <p:cNvSpPr/>
            <p:nvPr/>
          </p:nvSpPr>
          <p:spPr>
            <a:xfrm>
              <a:off x="4648320" y="1981080"/>
              <a:ext cx="4038480" cy="4267440"/>
            </a:xfrm>
            <a:prstGeom prst="rect">
              <a:avLst/>
            </a:prstGeom>
            <a:noFill/>
            <a:ln w="936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29"/>
                  </a:solidFill>
                  <a:latin typeface="Arial"/>
                </a:rPr>
                <a:t>Tập trung</a:t>
              </a: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29"/>
                  </a:solidFill>
                  <a:latin typeface="Arial"/>
                </a:rPr>
                <a:t>theo chức năng</a:t>
              </a: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29"/>
                  </a:solidFill>
                  <a:latin typeface="Arial"/>
                </a:rPr>
                <a:t>(Phân tán)</a:t>
              </a: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493" name="Oval 12"/>
            <p:cNvSpPr/>
            <p:nvPr/>
          </p:nvSpPr>
          <p:spPr>
            <a:xfrm>
              <a:off x="6248520" y="1981080"/>
              <a:ext cx="914400" cy="914400"/>
            </a:xfrm>
            <a:prstGeom prst="ellipse">
              <a:avLst/>
            </a:prstGeom>
            <a:solidFill>
              <a:srgbClr val="000029"/>
            </a:solidFill>
            <a:ln w="936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sp>
        <p:nvSpPr>
          <p:cNvPr id="494" name="Footer Placeholder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fill="hold">
                      <p:stCondLst>
                        <p:cond delay="0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1350"/>
                            </p:stCondLst>
                            <p:childTnLst>
                              <p:par>
                                <p:cTn id="12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6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2350"/>
                            </p:stCondLst>
                            <p:childTnLst>
                              <p:par>
                                <p:cTn id="1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0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3350"/>
                            </p:stCondLst>
                            <p:childTnLst>
                              <p:par>
                                <p:cTn id="1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4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2B6E-38CB-425D-8FC0-7BD0DC396A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3" name="Date Placeholder 5"/>
          <p:cNvSpPr/>
          <p:nvPr/>
        </p:nvSpPr>
        <p:spPr>
          <a:xfrm>
            <a:off x="457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10E0-ADF5-4215-8BD3-E4AF8133535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Số tín chỉ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2 (30 tiết lý thuyế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trình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2 Phần 9 Chư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Tiểu luận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Nhóm 3 - 5 SV (nộp TL và thuyết trình trên lớ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Hình thức thi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Trắc nghiệ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Giữa kỳ: Trắc nghiệm (50 câu/60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Cuối kỳ: Trắc nghiệm (50 câu/60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Nghỉ học ≥ 6 tiết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Cấm thi cuối k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6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TỔNG QUÁT VỀ MÔN HỌ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7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000"/>
                            </p:stCondLst>
                            <p:childTnLst>
                              <p:par>
                                <p:cTn id="2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8000"/>
                            </p:stCondLst>
                            <p:childTnLst>
                              <p:par>
                                <p:cTn id="27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B132-62A4-4C65-A92B-B13D32107A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96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6628-198A-4F10-814C-B7CE5D35CE2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All activities </a:t>
            </a:r>
            <a:r>
              <a:rPr b="1" i="1" lang="en-US" sz="3600" spc="-1" strike="noStrike">
                <a:solidFill>
                  <a:srgbClr val="000029"/>
                </a:solidFill>
                <a:latin typeface="Arial"/>
              </a:rPr>
              <a:t>operating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under the office of the administrator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Advantages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easy operating, inspection, personnel, allocation mean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Downside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hard specialization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99" name="Horizontal Scroll 5"/>
          <p:cNvSpPr/>
          <p:nvPr/>
        </p:nvSpPr>
        <p:spPr>
          <a:xfrm>
            <a:off x="304920" y="109440"/>
            <a:ext cx="84582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CUS A CLUE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00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0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1900"/>
                            </p:stCondLst>
                            <p:childTnLst>
                              <p:par>
                                <p:cTn id="128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9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A4FF-4C8A-4B7A-8EA0-E7A396B39E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02" name="Date Placeholder 4"/>
          <p:cNvSpPr/>
          <p:nvPr/>
        </p:nvSpPr>
        <p:spPr>
          <a:xfrm>
            <a:off x="457200" y="624528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A6CF-681E-4CEE-A444-BB01AC8D0FC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457200" y="1066680"/>
            <a:ext cx="82296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Không chia nhỏ thành phòng ba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Mọi hoạt động của VP đặt dưới sự </a:t>
            </a:r>
            <a:r>
              <a:rPr b="1" i="1" lang="en-US" sz="3600" spc="-1" strike="noStrike">
                <a:solidFill>
                  <a:srgbClr val="000029"/>
                </a:solidFill>
                <a:latin typeface="Arial"/>
              </a:rPr>
              <a:t>điều hành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của nhà quản trị hành chí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Ưu điểm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Dễ điều hành, kiểm tra, điều động nhân sự, phân bổ phương tiệ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Nhược điểm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Khó chuyên môn hóa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05" name="Horizontal Scroll 7"/>
          <p:cNvSpPr/>
          <p:nvPr/>
        </p:nvSpPr>
        <p:spPr>
          <a:xfrm>
            <a:off x="304920" y="109440"/>
            <a:ext cx="84582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ẬP TRUNG MỘT ĐẦU MỐI (TẬP TRUNG)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06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fill="hold">
                      <p:stCondLst>
                        <p:cond delay="0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3600"/>
                            </p:stCondLst>
                            <p:childTnLst>
                              <p:par>
                                <p:cTn id="130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4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0354-9091-4649-848D-B36D357B9A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08" name="Date Placeholder 2"/>
          <p:cNvSpPr/>
          <p:nvPr/>
        </p:nvSpPr>
        <p:spPr>
          <a:xfrm>
            <a:off x="457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2E46-2877-47F1-A0B4-9FF388932EC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9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e office is divided into several functional expertis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ts val="49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All office activities </a:t>
            </a:r>
            <a:r>
              <a:rPr b="1" i="1" lang="en-US" sz="3600" spc="-1" strike="noStrike">
                <a:solidFill>
                  <a:srgbClr val="000029"/>
                </a:solidFill>
                <a:latin typeface="Arial"/>
              </a:rPr>
              <a:t>under the supervision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of the administrator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ts val="49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Advantages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Work specializatio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ts val="49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Disadvantages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Easy violation boss regime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11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CUS ON FUNCTIO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12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0E58-97E0-46B9-A3DA-FE93B2CCC1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14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572E-C6AE-4448-9F5A-50CF44E8E40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VP được chia ra thành nhiều phòng chức năng theo chuyên mô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oàn bộ hoạt động VP đặt dưới sự </a:t>
            </a:r>
            <a:r>
              <a:rPr b="1" i="1" lang="en-US" sz="3600" spc="-1" strike="noStrike">
                <a:solidFill>
                  <a:srgbClr val="000029"/>
                </a:solidFill>
                <a:latin typeface="Arial"/>
              </a:rPr>
              <a:t>giám sát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của nhà quản trị hành chí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17" name="Horizontal Scroll 6"/>
          <p:cNvSpPr/>
          <p:nvPr/>
        </p:nvSpPr>
        <p:spPr>
          <a:xfrm>
            <a:off x="304920" y="33480"/>
            <a:ext cx="8458200" cy="1566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ẬP TRUNG THEO CHỨC NĂ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PHÂN TÁN)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18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Em hãy phân tích những ưu điểm và nhược điểm của hình thức tổ chức văn phòng tập trung theo chức năng (phân tán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2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969C-50CE-456C-996A-82EE9E23D5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22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CAED-FFBA-4390-91A5-F1B95DA3E84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24" name="Horizontal Scroll 7"/>
          <p:cNvSpPr/>
          <p:nvPr/>
        </p:nvSpPr>
        <p:spPr>
          <a:xfrm>
            <a:off x="304920" y="33480"/>
            <a:ext cx="8458200" cy="1566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ÂU HỎI KIỂM TRA 10 PHÚ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2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8D18-4B1E-4C06-A4D0-B6B0DB73FC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2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75D7-5BC5-494C-AF57-23833228A83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457200" y="1600200"/>
            <a:ext cx="8229600" cy="47242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Ưu điểm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Chuyên môn hóa công việ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Nhược điểm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Dễ vi phạm chế độ một thủ trưởng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30" name="Horizontal Scroll 6"/>
          <p:cNvSpPr/>
          <p:nvPr/>
        </p:nvSpPr>
        <p:spPr>
          <a:xfrm>
            <a:off x="304920" y="33480"/>
            <a:ext cx="8458200" cy="1566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ƯU, NHƯỢC ĐIỂM VĂN PHÒ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ẬP TRUNG THEO CHỨC NĂ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E702-A280-44B6-BB8E-EA0ADFA83D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3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E708-FAC1-480F-86B8-B162668E328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533" name="Picture 2" descr="http://www.cicb.vn/images/stories/cocau_viet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535" name="Picture 6" descr="http://cicb.vn/templates/cic-trilm/images_trilm/header-vietnamese.png"/>
          <p:cNvPicPr/>
          <p:nvPr/>
        </p:nvPicPr>
        <p:blipFill>
          <a:blip r:embed="rId2"/>
          <a:stretch/>
        </p:blipFill>
        <p:spPr>
          <a:xfrm>
            <a:off x="193680" y="-1522440"/>
            <a:ext cx="9439200" cy="6476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</p:pic>
      <p:sp>
        <p:nvSpPr>
          <p:cNvPr id="537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5022-AA0E-45FD-8995-4F6DB7D378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3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C3FF-6586-40B0-94AF-33DB282FE2D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Leadership Office: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Chief Office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Deputy Chief of staff</a:t>
            </a:r>
            <a:br>
              <a:rPr sz="3600"/>
            </a:b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Functions: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Clerical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Synthesis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Human Resource Management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Accounting and Cashier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Material facilities management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Protection, receptionist, odd job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42" name="Horizontal Scroll 6"/>
          <p:cNvSpPr/>
          <p:nvPr/>
        </p:nvSpPr>
        <p:spPr>
          <a:xfrm>
            <a:off x="304920" y="33480"/>
            <a:ext cx="8458200" cy="8809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2.2. ORGANIZATIONAL STRUCTURE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43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59A4-E44C-407E-84EA-180C07F72F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45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DE60-750B-4FA4-AF36-08F88719D31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000" spc="-1" strike="noStrike">
                <a:solidFill>
                  <a:srgbClr val="000029"/>
                </a:solidFill>
                <a:latin typeface="Arial"/>
              </a:rPr>
              <a:t>Lãnh đạo Văn phò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Chánh Văn phò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Phó Chánh Văn phò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000" spc="-1" strike="noStrike">
                <a:solidFill>
                  <a:srgbClr val="000029"/>
                </a:solidFill>
                <a:latin typeface="Arial"/>
              </a:rPr>
              <a:t>Bộ phận chức nă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Văn th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Tổng hợ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Quản lý nhân s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Kế toán – thủ qu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Quản lý cơ sở vật chất (Quản trị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Bảo vệ, lễ tân, tạp v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48" name="Horizontal Scroll 6"/>
          <p:cNvSpPr/>
          <p:nvPr/>
        </p:nvSpPr>
        <p:spPr>
          <a:xfrm>
            <a:off x="304920" y="33480"/>
            <a:ext cx="8458200" cy="8809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2.2. CƠ CẤU TỔ CHỨC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49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D63D-C4F2-4C0B-B115-58E28B78D8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51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BE07-764A-45B2-8400-3F031176629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552" name="Picture 2" descr="http://dbnd.danang.gov.vn/Portals/0/TOCHUC.png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553" name="Rectangle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>
                <a:solidFill>
                  <a:srgbClr val="ffffff"/>
                </a:solidFill>
                <a:latin typeface="Arial"/>
              </a:rPr>
              <a:t>Văn phòng Đoàn đại biểu Quốc hội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1" lang="vi-VN" sz="3600" spc="-1" strike="noStrike">
                <a:solidFill>
                  <a:srgbClr val="ffffff"/>
                </a:solidFill>
                <a:latin typeface="Arial"/>
              </a:rPr>
              <a:t> Hội đồng nhân dâ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 TP</a:t>
            </a:r>
            <a:r>
              <a:rPr b="1" lang="vi-VN" sz="3600" spc="-1" strike="noStrike">
                <a:solidFill>
                  <a:srgbClr val="ffffff"/>
                </a:solidFill>
                <a:latin typeface="Arial"/>
              </a:rPr>
              <a:t> Đà Nẵ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5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2133360"/>
            <a:ext cx="8229600" cy="4267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Chapter 1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Overview of the Office Adminis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Chapter 2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Information Management &amp; Pro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Chapter 3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Organizing the rece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Chapter 4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Meeting &amp; Management program development pla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7114-BED5-4D2F-812B-4E5EE3616F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0" name="Date Placeholder 4"/>
          <p:cNvSpPr/>
          <p:nvPr/>
        </p:nvSpPr>
        <p:spPr>
          <a:xfrm>
            <a:off x="457200" y="622944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7C87-6CFE-4624-A1EB-C45F1A96955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2" name="Horizontal Scroll 6"/>
          <p:cNvSpPr/>
          <p:nvPr/>
        </p:nvSpPr>
        <p:spPr>
          <a:xfrm>
            <a:off x="304920" y="0"/>
            <a:ext cx="84582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URSE PROGRAM (1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457200" y="1066680"/>
            <a:ext cx="8229600" cy="106704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VIEW OF OFFICEMANAGEMEN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4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194A-F026-480D-B93F-DC2FA7128F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56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7AAA-CC14-43C9-BC03-F94B1996B9E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57" name="Rectangle 3"/>
          <p:cNvSpPr/>
          <p:nvPr/>
        </p:nvSpPr>
        <p:spPr>
          <a:xfrm>
            <a:off x="0" y="0"/>
            <a:ext cx="9144000" cy="12978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>
                <a:solidFill>
                  <a:srgbClr val="ffffff"/>
                </a:solidFill>
                <a:latin typeface="Arial"/>
              </a:rPr>
              <a:t>Văn phòng Tòa án nhân dân tối ca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558" name="Picture 2" descr="http://www.toaan.gov.vn/portal/pls/portal/docs/1/4229271.JPG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55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B38C-B770-4F90-BF36-710751620A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61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F8DF-1CC3-4682-A53C-8781A5DCE96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457200" y="1066680"/>
            <a:ext cx="396252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Management response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64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OFFICE MANAGEMENT METHOD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4572000" y="1066680"/>
            <a:ext cx="411480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Management program, planned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66" name="Oval 7"/>
          <p:cNvSpPr/>
          <p:nvPr/>
        </p:nvSpPr>
        <p:spPr>
          <a:xfrm>
            <a:off x="1905120" y="1066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67" name="Oval 8"/>
          <p:cNvSpPr/>
          <p:nvPr/>
        </p:nvSpPr>
        <p:spPr>
          <a:xfrm>
            <a:off x="6172200" y="1066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68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D40D-115A-4BF7-B2B8-F01F71F3E5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70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9777-950B-493B-9887-9CDE1A4C263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56840" y="1066680"/>
            <a:ext cx="396252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Quản l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theo cá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ứng ph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73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CÁC PHƯƠNG PHÁP QUẢN LÝ 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4572000" y="1066680"/>
            <a:ext cx="411480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Quản lý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theo các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lập chương trình,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kế hoạc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75" name="Oval 8"/>
          <p:cNvSpPr/>
          <p:nvPr/>
        </p:nvSpPr>
        <p:spPr>
          <a:xfrm>
            <a:off x="1905120" y="1066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76" name="Oval 9"/>
          <p:cNvSpPr/>
          <p:nvPr/>
        </p:nvSpPr>
        <p:spPr>
          <a:xfrm>
            <a:off x="6172200" y="1066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77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F145-ADA2-47B5-B60E-A662274365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79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D0AE-6347-4754-8E2B-479CE1FA045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457200" y="1066680"/>
            <a:ext cx="8305920" cy="51818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ere is no specific plan for the job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e first to do it, react, respond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Passive managemen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Decision management is always changing because they do not choose the optimal solutio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Staff easy to lose confidence in leadership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82" name="Horizontal Scroll 5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MENT RESPONSES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83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C566-1A69-44A5-95D0-176A5CF029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85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76C7-1A55-42DD-B227-91E4B64A3D0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990720" y="990360"/>
            <a:ext cx="7772400" cy="43434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Không có kế hoạch cụ th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Đị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h đâu làm đó, phản ứng, đối ph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Bị động trong quản l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Q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uyết định quản lý luôn thay đổi vì chưa chọn được giải pháp tối ư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hân viên dễ mất lòng tin lãnh đ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88" name="Horizontal Scroll 6"/>
          <p:cNvSpPr/>
          <p:nvPr/>
        </p:nvSpPr>
        <p:spPr>
          <a:xfrm>
            <a:off x="304920" y="33480"/>
            <a:ext cx="8534160" cy="9572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ẢN LÝ THEO CÁCH ỨNG PHÓ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89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990720" y="5410080"/>
            <a:ext cx="7772400" cy="9144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Phát huy tính sáng tạ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91" name="Rectangle 3"/>
          <p:cNvSpPr/>
          <p:nvPr/>
        </p:nvSpPr>
        <p:spPr>
          <a:xfrm rot="5400000">
            <a:off x="-1562400" y="2857680"/>
            <a:ext cx="434340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Nhược điểm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92" name="Rectangle 3"/>
          <p:cNvSpPr/>
          <p:nvPr/>
        </p:nvSpPr>
        <p:spPr>
          <a:xfrm rot="5400000">
            <a:off x="151920" y="5562360"/>
            <a:ext cx="91440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Ưu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8D9C-4539-4B0C-9FD0-0430630262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94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2412-1626-41A7-B3BA-26EA6C68FCA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457200" y="1219320"/>
            <a:ext cx="8229600" cy="5181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Is there a specific plan for the job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Having a plan to deal with situation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Allocation of powers and responsibilities to staff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e active participant in the work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97" name="Horizontal Scroll 5"/>
          <p:cNvSpPr/>
          <p:nvPr/>
        </p:nvSpPr>
        <p:spPr>
          <a:xfrm>
            <a:off x="304920" y="33480"/>
            <a:ext cx="8458200" cy="11858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MENT PROGRAM, PLANNED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98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D93E-4BAC-4EAB-AA25-229B647A6D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00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0E3A-B267-4CEB-9B2E-BA7A183C656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ó kế hoạch cụ thể cho công việ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ó phương án giải quyết tình huố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Giao quyền hạn, trách nhiệm cho nhân vi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hân viên chủ động trong thực hiện công việ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03" name="Horizontal Scroll 6"/>
          <p:cNvSpPr/>
          <p:nvPr/>
        </p:nvSpPr>
        <p:spPr>
          <a:xfrm>
            <a:off x="304920" y="33480"/>
            <a:ext cx="8458200" cy="14144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ẢN LÝ THEO CÁC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ẬP CHƯƠNG TRÌNH, KẾ HOẠC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04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C136-26A0-493F-B085-C7556F31A7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06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EF3A-2614-47F1-AFEF-41945C2057D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07" name="Rectangle 3"/>
          <p:cNvSpPr/>
          <p:nvPr/>
        </p:nvSpPr>
        <p:spPr>
          <a:xfrm>
            <a:off x="380880" y="1066680"/>
            <a:ext cx="838224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ot apply purely one method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eed to combine the two method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e work must be planned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Unforeseen contingencies: respons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rough response, managers have more experience and creativity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Is the standard response evaluation staff capacity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08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09" name="Horizontal Scroll 5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FAC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10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8210-5E0A-4B98-BB45-F7FA9AF1B9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12" name="Date Placeholder 5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FD2F-006D-4378-B91B-DF446144C19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38224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Không áp dụng thuần túy 1 phương pháp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Cần kết hợp hai phương pháp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Công việc phải được lập kế hoạch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Tình huống bất ngờ ngoài dự kiến: ứng phó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Thông qua ứng phó, nhà quản trị có thêm kinh nghiệm, sáng tạ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Ứng phó là tiêu chuẩn đánh giá năng lực cán bộ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15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ỰC TẾ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16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FB6C-9F9F-409A-A01F-B8B345CA7E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18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5B46-B795-4F14-A647-86675BC6F5B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457200" y="2438280"/>
            <a:ext cx="8229600" cy="22100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reate the best work environmen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onvenient seati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Ensure that confidential documents, materials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0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1" name="Horizontal Scroll 5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OFFICE LAYOU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2" name="Horizontal Scroll 6"/>
          <p:cNvSpPr/>
          <p:nvPr/>
        </p:nvSpPr>
        <p:spPr>
          <a:xfrm>
            <a:off x="398520" y="1066680"/>
            <a:ext cx="8305920" cy="762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1. PURPOSE &amp; REQUIREMENTS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457200" y="5257800"/>
            <a:ext cx="8229600" cy="11430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Make the most of, the office area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Reduce travel time between parts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4" name="Horizontal Scroll 8"/>
          <p:cNvSpPr/>
          <p:nvPr/>
        </p:nvSpPr>
        <p:spPr>
          <a:xfrm>
            <a:off x="380880" y="1828800"/>
            <a:ext cx="411480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5" name="Horizontal Scroll 9"/>
          <p:cNvSpPr/>
          <p:nvPr/>
        </p:nvSpPr>
        <p:spPr>
          <a:xfrm>
            <a:off x="380880" y="4648320"/>
            <a:ext cx="411480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6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4BE8-878F-4374-90F7-9715638AF5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0214-A70B-4052-869C-1C9B915DA5D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8" name="Content Placeholder 2"/>
          <p:cNvSpPr/>
          <p:nvPr/>
        </p:nvSpPr>
        <p:spPr>
          <a:xfrm>
            <a:off x="457200" y="2133720"/>
            <a:ext cx="8229600" cy="4267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Arial"/>
              </a:rPr>
              <a:t>Chapter 5:</a:t>
            </a:r>
            <a:r>
              <a:rPr b="0" lang="en-US" sz="2800" spc="-1" strike="noStrike">
                <a:solidFill>
                  <a:srgbClr val="000029"/>
                </a:solidFill>
                <a:latin typeface="Arial"/>
              </a:rPr>
              <a:t> Overview of documents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Arial"/>
              </a:rPr>
              <a:t>Chapter 6:</a:t>
            </a:r>
            <a:r>
              <a:rPr b="0" lang="en-US" sz="2800" spc="-1" strike="noStrike">
                <a:solidFill>
                  <a:srgbClr val="000029"/>
                </a:solidFill>
                <a:latin typeface="Arial"/>
              </a:rPr>
              <a:t> Procedures &amp; techniques presented documents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Arial"/>
              </a:rPr>
              <a:t>Chapter 7:</a:t>
            </a:r>
            <a:r>
              <a:rPr b="0" lang="en-US" sz="2800" spc="-1" strike="noStrike">
                <a:solidFill>
                  <a:srgbClr val="000029"/>
                </a:solidFill>
                <a:latin typeface="Arial"/>
              </a:rPr>
              <a:t> Style the administrative language in the documents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Arial"/>
              </a:rPr>
              <a:t>Chapter 8:</a:t>
            </a:r>
            <a:r>
              <a:rPr b="0" lang="en-US" sz="2800" spc="-1" strike="noStrike">
                <a:solidFill>
                  <a:srgbClr val="000029"/>
                </a:solidFill>
                <a:latin typeface="Arial"/>
              </a:rPr>
              <a:t> The process of drafting &amp; issuing documents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Arial"/>
              </a:rPr>
              <a:t>Chapter 9:</a:t>
            </a:r>
            <a:r>
              <a:rPr b="0" lang="en-US" sz="2800" spc="-1" strike="noStrike">
                <a:solidFill>
                  <a:srgbClr val="000029"/>
                </a:solidFill>
                <a:latin typeface="Arial"/>
              </a:rPr>
              <a:t> Technical drafting, presents some common administrative documents.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0" name="Horizontal Scroll 7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URSE PROGRAM (2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457200" y="1066680"/>
            <a:ext cx="8229600" cy="106704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CHNICAL DRAFTING, TEXT LAYOU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C9E6-C067-49CC-B718-20A9414A94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8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DDE3-F7BE-4C4F-9E42-63DB4F26A87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1676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Tạo môi trường làm việc tốt nhấ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Thuận tiện tiếp khác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Đảm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 bảo giữ bí mật văn bản, tài liệu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31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BỐ TRÍ VĂN PHÒ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32" name="Horizontal Scroll 7"/>
          <p:cNvSpPr/>
          <p:nvPr/>
        </p:nvSpPr>
        <p:spPr>
          <a:xfrm>
            <a:off x="398520" y="1066680"/>
            <a:ext cx="8305920" cy="762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1. MỤC ĐÍCH, YÊU CẦU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457200" y="4800600"/>
            <a:ext cx="8229600" cy="16002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Tận dụng tối đa, cơ động diện tích VP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Giảm thiểu thời gian di chuyển giữa các bộ phận.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34" name="Horizontal Scroll 9"/>
          <p:cNvSpPr/>
          <p:nvPr/>
        </p:nvSpPr>
        <p:spPr>
          <a:xfrm>
            <a:off x="380880" y="1828800"/>
            <a:ext cx="4114800" cy="762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ục đíc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35" name="Horizontal Scroll 10"/>
          <p:cNvSpPr/>
          <p:nvPr/>
        </p:nvSpPr>
        <p:spPr>
          <a:xfrm>
            <a:off x="380880" y="4191120"/>
            <a:ext cx="411480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êu cầu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36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EB65-F04B-4FAB-AD95-786FD8955D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38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9A2A-0ED2-4DC0-B252-D6A2D7379C9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0" name="Horizontal Scroll 4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2. METHODS OFFICE LAYOU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457200" y="1066680"/>
            <a:ext cx="388620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Close spa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Layout offi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4572000" y="1066680"/>
            <a:ext cx="411480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Open spa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office layou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3" name="Oval 7"/>
          <p:cNvSpPr/>
          <p:nvPr/>
        </p:nvSpPr>
        <p:spPr>
          <a:xfrm>
            <a:off x="1905120" y="1066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4" name="Oval 8"/>
          <p:cNvSpPr/>
          <p:nvPr/>
        </p:nvSpPr>
        <p:spPr>
          <a:xfrm>
            <a:off x="6172200" y="1066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5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87F5-245F-4FCD-9BA1-AB43880815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4AD0-7EE5-4BD4-8992-0D4082F1990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8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9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2. PHƯƠNG PHÁP BỐ TRÍ 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457200" y="1066680"/>
            <a:ext cx="388620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Văn phò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bố trí the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không gia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đó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4572000" y="1066680"/>
            <a:ext cx="411480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Văn phò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bố trí the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không gia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mở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2" name="Oval 10"/>
          <p:cNvSpPr/>
          <p:nvPr/>
        </p:nvSpPr>
        <p:spPr>
          <a:xfrm>
            <a:off x="1905120" y="1066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3" name="Oval 11"/>
          <p:cNvSpPr/>
          <p:nvPr/>
        </p:nvSpPr>
        <p:spPr>
          <a:xfrm>
            <a:off x="6172200" y="1066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4" name="Footer Placeholder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462C-27BF-4F39-BCB6-C094588F3F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6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2525-AE0F-4DAE-A3DA-9A21BCAE9AD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7" name="Rectangle 3"/>
          <p:cNvSpPr/>
          <p:nvPr/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■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ffice split: Each unit a separate room, the door closed.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◘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urity job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o ensure the privacy of employees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uitable work should focus on high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◘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Disadvantages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Cost area, increasing the cost of electricity, office equipment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9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OSE SPACE LAYOUT OFFI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60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12F8-F256-4F50-A883-D3E963E55D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6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5506-3F25-4C46-B43D-DCF2216C714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63" name="Rectangle 3"/>
          <p:cNvSpPr/>
          <p:nvPr/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Văn phòng chia nhỏ: Từng bộ phận bố trí phòng riêng, cửa đóng kín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Ưu điểm: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Bảo mật công việ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Bảo đảm tính riêng tư của nhân viê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Phù hợp công việc cần tập trung ca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</a:t>
            </a:r>
            <a:r>
              <a:rPr b="1" i="1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Nhược điểm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Tốn diện tích, tăng chi phí điện, thiết bị VP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65" name="Horizontal Scroll 8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ĂN PHÒNG KHÔNG GIAN ĐÓ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66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6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3CBB-1D80-4ED4-85DD-A3990D3C50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6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D7C5-7B19-4CAF-85C1-65E76D81B4E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670" name="Picture 2" descr="http://cuanhualoithep.com/wp-content/uploads/vach-kinh-pano1.jpg"/>
          <p:cNvPicPr/>
          <p:nvPr/>
        </p:nvPicPr>
        <p:blipFill>
          <a:blip r:embed="rId1"/>
          <a:stretch/>
        </p:blipFill>
        <p:spPr>
          <a:xfrm>
            <a:off x="304920" y="1295280"/>
            <a:ext cx="8534160" cy="5029200"/>
          </a:xfrm>
          <a:prstGeom prst="rect">
            <a:avLst/>
          </a:prstGeom>
          <a:ln w="0">
            <a:noFill/>
          </a:ln>
        </p:spPr>
      </p:pic>
      <p:sp>
        <p:nvSpPr>
          <p:cNvPr id="671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72" name="Horizontal Scroll 6"/>
          <p:cNvSpPr/>
          <p:nvPr/>
        </p:nvSpPr>
        <p:spPr>
          <a:xfrm>
            <a:off x="228600" y="33480"/>
            <a:ext cx="8686800" cy="11858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ĂN PHÒNG KHÔNG GIAN ĐÓ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D1FF-41EB-4CFA-89CB-33DF6907FA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74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A38F-BD70-4CE8-BA4F-FF3D67294C9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ác bộ phận bố trí trong phòng lớ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</a:t>
            </a:r>
            <a:r>
              <a:rPr b="1" i="1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Ưu điể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iết kiệm chi phí, diện tí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uận tiện trong giao tiếp giữa các bộ phậ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Dễ quản lý nhân viên về thời g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</a:t>
            </a:r>
            <a:r>
              <a:rPr b="1" i="1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Nhược điể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Không phù hợp công việc cần tập trung c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77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ĂN PHÒNG KHÔNG GIAN MỞ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78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F5F1-D01E-4855-AFE4-D5A9263433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0" name="Date Placeholder 5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6E49-6071-4396-AB6D-41390C72315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681" name="Picture 2" descr="http://www.donnhatrongoi.info/Uploads/Image/van_phong.jpg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5105160"/>
          </a:xfrm>
          <a:prstGeom prst="rect">
            <a:avLst/>
          </a:prstGeom>
          <a:ln w="0">
            <a:noFill/>
          </a:ln>
        </p:spPr>
      </p:pic>
      <p:sp>
        <p:nvSpPr>
          <p:cNvPr id="682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3" name="Horizontal Scroll 7"/>
          <p:cNvSpPr/>
          <p:nvPr/>
        </p:nvSpPr>
        <p:spPr>
          <a:xfrm>
            <a:off x="228600" y="0"/>
            <a:ext cx="8686800" cy="11858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Ô HÌNH VĂN PHÒNG MỞ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684" name="Picture 8" descr="http://vneconomy2.vcmedia.vn/zoom/500_312/Images/Uploaded/Share/2011/02/08/044.jpg"/>
          <p:cNvPicPr/>
          <p:nvPr/>
        </p:nvPicPr>
        <p:blipFill>
          <a:blip r:embed="rId2"/>
          <a:stretch/>
        </p:blipFill>
        <p:spPr>
          <a:xfrm>
            <a:off x="257040" y="1219320"/>
            <a:ext cx="8658360" cy="5181480"/>
          </a:xfrm>
          <a:prstGeom prst="rect">
            <a:avLst/>
          </a:prstGeom>
          <a:ln w="0">
            <a:noFill/>
          </a:ln>
        </p:spPr>
      </p:pic>
      <p:sp>
        <p:nvSpPr>
          <p:cNvPr id="685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D579-A62D-48A9-A7C4-0B8E528560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7" name="Date Placeholder 4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2A45-AAAA-4633-836E-ADEA7C679D3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688" name="Picture 2" descr="http://ssp.com.vn/store_editor/image/Sanphamvadichvu/Chothuevanphong/van%20phong%202.jpg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10516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0" name="Horizontal Scroll 7"/>
          <p:cNvSpPr/>
          <p:nvPr/>
        </p:nvSpPr>
        <p:spPr>
          <a:xfrm>
            <a:off x="228600" y="0"/>
            <a:ext cx="8686800" cy="11858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Ô HÌNH VĂN PHÒNG MỞ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1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1180-DE58-4979-A500-43A6DD7FFD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3" name="Date Placeholder 2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F4A9-769B-4FDD-879B-72A8C3EBD81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4" name="Rectangle 3"/>
          <p:cNvSpPr/>
          <p:nvPr/>
        </p:nvSpPr>
        <p:spPr>
          <a:xfrm>
            <a:off x="457200" y="990720"/>
            <a:ext cx="830592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Equipment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Telephone, fax, photo-copy machine, computers ..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Furniture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Tables, chairs, filing cabinets, racks document ..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Modernization of the office: Computerization &amp; telecommunicatio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Paperless office, electronic documents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Electronic office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6" name="Horizontal Scroll 5"/>
          <p:cNvSpPr/>
          <p:nvPr/>
        </p:nvSpPr>
        <p:spPr>
          <a:xfrm>
            <a:off x="304920" y="0"/>
            <a:ext cx="853416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3. OFFICE EQUIPMEN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7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76F4-3690-4ADE-AB60-FC27394A4D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3" name="Date Placeholder 5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E2B2-001E-4212-B5F4-3513848212D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743200" y="2133360"/>
            <a:ext cx="5943600" cy="5331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Khái quát về QT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6" name="Horizontal Scroll 6"/>
          <p:cNvSpPr/>
          <p:nvPr/>
        </p:nvSpPr>
        <p:spPr>
          <a:xfrm>
            <a:off x="304920" y="33480"/>
            <a:ext cx="8458200" cy="9572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ƯƠNG TRÌNH MÔN HỌC (1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457200" y="990720"/>
            <a:ext cx="8229600" cy="99036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ẦN 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ỔNG QUAN VỀ QUẢN TRỊ VĂN PHÒ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58" name="Picture 9" descr="https://encrypted-tbn1.gstatic.com/images?q=tbn:ANd9GcRz0-7y_77Ycxnori6GErNJ3ju76oqe8Xd_a6hhufYClLZGMaYo4A"/>
          <p:cNvPicPr/>
          <p:nvPr/>
        </p:nvPicPr>
        <p:blipFill>
          <a:blip r:embed="rId1"/>
          <a:stretch/>
        </p:blipFill>
        <p:spPr>
          <a:xfrm>
            <a:off x="485640" y="5105520"/>
            <a:ext cx="8201160" cy="12952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59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0" name="Rounded Rectangle 10"/>
          <p:cNvSpPr/>
          <p:nvPr/>
        </p:nvSpPr>
        <p:spPr>
          <a:xfrm>
            <a:off x="457200" y="2133720"/>
            <a:ext cx="2209680" cy="5331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2743200" y="2743200"/>
            <a:ext cx="5943600" cy="533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Quản trị thông tin &amp; hồ sơ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2" name="Rounded Rectangle 13"/>
          <p:cNvSpPr/>
          <p:nvPr/>
        </p:nvSpPr>
        <p:spPr>
          <a:xfrm>
            <a:off x="457200" y="2743200"/>
            <a:ext cx="2209680" cy="5335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743200" y="3352680"/>
            <a:ext cx="5943600" cy="533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Tổ chức công tác lễ tâ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2743200" y="3962520"/>
            <a:ext cx="5943600" cy="10666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Quản trị hội họp &amp; xây dựng chương trình, kế hoạc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5" name="Rounded Rectangle 16"/>
          <p:cNvSpPr/>
          <p:nvPr/>
        </p:nvSpPr>
        <p:spPr>
          <a:xfrm>
            <a:off x="457200" y="3352680"/>
            <a:ext cx="2209680" cy="5335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3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6" name="Rounded Rectangle 17"/>
          <p:cNvSpPr/>
          <p:nvPr/>
        </p:nvSpPr>
        <p:spPr>
          <a:xfrm>
            <a:off x="457200" y="3962520"/>
            <a:ext cx="2209680" cy="106668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4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841F-E26D-45DC-ABBB-EF90E423B2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9" name="Date Placeholder 5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CAF4-E87B-4E57-99AE-733572DA2F8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Thiết bị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Điện thoại, máy fax, máy photo-copy, máy vi tính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Đồ dùng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Bàn, ghế, tủ hồ sơ, giá để tài liệu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Hiện đại hóa công tác VP: Tin học hóa, viễn thông hó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VP không giấy, văn thư điện tử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Văn phòng điện tử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02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3. TRANG THIẾT BỊ VĂN PHÒ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03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Ô HÌNH VĂN PHÒNG ĐIỆN T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DB4B-0378-4CFE-A17D-17122076CB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06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EF0A-EA16-48BB-A3D7-105B0056914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707" name="Picture 6" descr="http://doanhnghiepmoi.net/UploadImages/VANPHONGDIENTU.png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708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687C-9E77-4313-B9F7-2CA81B3755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10" name="Date Placeholder 4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6A5E-3B0E-423D-BA27-A05D7EEB33F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711" name="Picture 2" descr="http://egov.iuh.edu.vn/Resources/Icons/Design/bgLogin.png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33412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13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Ệ THỐNG VĂN THƯ ĐIỆN TỬ IU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14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66F7-9D52-4AD4-AA42-E4AE6937B3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16" name="Date Placeholder 2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7F7C-8497-4E14-967C-0C96712C9E5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17" name="Rectangle 3"/>
          <p:cNvSpPr/>
          <p:nvPr/>
        </p:nvSpPr>
        <p:spPr>
          <a:xfrm>
            <a:off x="457200" y="1066680"/>
            <a:ext cx="8458200" cy="10670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Office tradition: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     The actual activity in the office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19" name="Horizontal Scroll 5"/>
          <p:cNvSpPr/>
          <p:nvPr/>
        </p:nvSpPr>
        <p:spPr>
          <a:xfrm>
            <a:off x="304920" y="33480"/>
            <a:ext cx="861048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FORMS OF OFFICE OPERATION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20" name="Horizontal Scroll 6"/>
          <p:cNvSpPr/>
          <p:nvPr/>
        </p:nvSpPr>
        <p:spPr>
          <a:xfrm>
            <a:off x="457200" y="990720"/>
            <a:ext cx="380988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fice traditio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21" name="Rectangle 3"/>
          <p:cNvSpPr/>
          <p:nvPr/>
        </p:nvSpPr>
        <p:spPr>
          <a:xfrm>
            <a:off x="457200" y="2362320"/>
            <a:ext cx="8458200" cy="4038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■ </a:t>
            </a: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Virtual Office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:   No actual work at the office</a:t>
            </a:r>
            <a:br>
              <a:rPr sz="3200"/>
            </a:b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● Office for rent 0m ²: Registered address founded company, branches, representative offices, set the table name company, receive &amp; send faxes, letters, mailers &amp; other utilities rent on demand: seats, meeting rooms...</a:t>
            </a:r>
            <a:br>
              <a:rPr sz="3200"/>
            </a:b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● Virtual office is only suitable representative offices, small businesses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22" name="Horizontal Scroll 8"/>
          <p:cNvSpPr/>
          <p:nvPr/>
        </p:nvSpPr>
        <p:spPr>
          <a:xfrm>
            <a:off x="457200" y="2286000"/>
            <a:ext cx="320040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rtual Office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23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24" name="Oval 10"/>
          <p:cNvSpPr/>
          <p:nvPr/>
        </p:nvSpPr>
        <p:spPr>
          <a:xfrm>
            <a:off x="0" y="1066680"/>
            <a:ext cx="457200" cy="60984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25" name="Oval 11"/>
          <p:cNvSpPr/>
          <p:nvPr/>
        </p:nvSpPr>
        <p:spPr>
          <a:xfrm>
            <a:off x="0" y="2362320"/>
            <a:ext cx="457200" cy="60948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EE03-DC09-4CD2-B373-B4AA7D7415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27" name="Date Placeholder 5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E83B-E62C-4649-B0FD-16FC90DE269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8381880" cy="7617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VP truyền thống: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 Hoạt động thực tế tại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30" name="Horizontal Scroll 6"/>
          <p:cNvSpPr/>
          <p:nvPr/>
        </p:nvSpPr>
        <p:spPr>
          <a:xfrm>
            <a:off x="304920" y="33480"/>
            <a:ext cx="861048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HÌNH THỨC HOẠT ĐỘNG CỦA 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31" name="Rectangle 3"/>
          <p:cNvSpPr/>
          <p:nvPr/>
        </p:nvSpPr>
        <p:spPr>
          <a:xfrm>
            <a:off x="457200" y="2209680"/>
            <a:ext cx="8381880" cy="4114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VP ảo: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  Không hoạt động thực tế tại VP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VP cho thuê 0m²: Địa chỉ đăng ký thành lập Cty, Chi nhánh, VPĐD, đặt bảng tên Cty, nhận &amp; gởi fax, thư từ bưu phẩm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●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Các tiện ích khác thuê theo nhu cầu: chỗ ngồi, phòng họp, photocopy, máy in…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VP ảo chỉ thích hợp VPĐD, DN nhỏ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32" name="Horizontal Scroll 8"/>
          <p:cNvSpPr/>
          <p:nvPr/>
        </p:nvSpPr>
        <p:spPr>
          <a:xfrm>
            <a:off x="457200" y="2133720"/>
            <a:ext cx="1752480" cy="7617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P ảo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33" name="Horizontal Scroll 9"/>
          <p:cNvSpPr/>
          <p:nvPr/>
        </p:nvSpPr>
        <p:spPr>
          <a:xfrm>
            <a:off x="457200" y="1143000"/>
            <a:ext cx="3733920" cy="762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P truyền thố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34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35" name="Oval 11"/>
          <p:cNvSpPr/>
          <p:nvPr/>
        </p:nvSpPr>
        <p:spPr>
          <a:xfrm>
            <a:off x="0" y="1219320"/>
            <a:ext cx="457200" cy="60948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36" name="Oval 12"/>
          <p:cNvSpPr/>
          <p:nvPr/>
        </p:nvSpPr>
        <p:spPr>
          <a:xfrm>
            <a:off x="0" y="2209680"/>
            <a:ext cx="457200" cy="60984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033B-BDFC-4103-84AE-C673F7C933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38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DBC1-A2C9-444F-BD03-0BEEA05F7AE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739" name="Picture 2" descr="http://images03.jaovat.com/ui/4/07/51/1348481685_441080651_14-Cho-thue-van-phong-tron-goi-tai-137-Nguyen-Ngoc-V-Ha-Noi-0977177155-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2" descr="http://raovat.haiphonginfo.vn/Images/Items/%E1%BA%A3nh%289%2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1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001B-C755-4272-838C-F1F0150E2E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43" name="Date Placeholder 4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D2E1-A515-42BD-82BD-71771F29A70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744" name="Picture 2" descr="http://www.goffice.vn/vn/images/stories/hinhanh/37/1.jpg"/>
          <p:cNvPicPr/>
          <p:nvPr/>
        </p:nvPicPr>
        <p:blipFill>
          <a:blip r:embed="rId1"/>
          <a:stretch/>
        </p:blipFill>
        <p:spPr>
          <a:xfrm>
            <a:off x="304920" y="1219320"/>
            <a:ext cx="3504960" cy="510516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745" name="Title 1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46" name="Title 1"/>
          <p:cNvSpPr/>
          <p:nvPr/>
        </p:nvSpPr>
        <p:spPr>
          <a:xfrm>
            <a:off x="3886200" y="1219320"/>
            <a:ext cx="1371600" cy="510516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ỊCH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Ụ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O THUÊ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ĂN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ÒNG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ẢO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47" name="Title 1"/>
          <p:cNvSpPr/>
          <p:nvPr/>
        </p:nvSpPr>
        <p:spPr>
          <a:xfrm>
            <a:off x="0" y="0"/>
            <a:ext cx="457200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aigon Trade Center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(37 Tôn Đức Thắng)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0" y="-360"/>
            <a:ext cx="457200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Saigon Tower</a:t>
            </a:r>
            <a:br>
              <a:rPr sz="3200"/>
            </a:b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(29 Lê Duẩ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50" name="Rounded Rectangle 12"/>
          <p:cNvSpPr/>
          <p:nvPr/>
        </p:nvSpPr>
        <p:spPr>
          <a:xfrm>
            <a:off x="304920" y="5715000"/>
            <a:ext cx="19047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G-Office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751" name="Picture 14" descr="Regus Virtual Office in Ho Chi Minh City, Saigon Tower"/>
          <p:cNvPicPr/>
          <p:nvPr/>
        </p:nvPicPr>
        <p:blipFill>
          <a:blip r:embed="rId2"/>
          <a:stretch/>
        </p:blipFill>
        <p:spPr>
          <a:xfrm>
            <a:off x="5334120" y="1219320"/>
            <a:ext cx="3581280" cy="510516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752" name="Rounded Rectangle 14"/>
          <p:cNvSpPr/>
          <p:nvPr/>
        </p:nvSpPr>
        <p:spPr>
          <a:xfrm>
            <a:off x="5334120" y="5715000"/>
            <a:ext cx="19047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Regus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Slide Number Placeholder 1"/>
          <p:cNvSpPr/>
          <p:nvPr/>
        </p:nvSpPr>
        <p:spPr>
          <a:xfrm>
            <a:off x="6553080" y="62326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0E1A-1EA4-49F1-A116-79B280AA8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54" name="Date Placeholder 2"/>
          <p:cNvSpPr/>
          <p:nvPr/>
        </p:nvSpPr>
        <p:spPr>
          <a:xfrm>
            <a:off x="457200" y="622944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57FC-3085-4371-A981-B5B7BC55A1E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55" name="Rectangle 3"/>
          <p:cNvSpPr/>
          <p:nvPr/>
        </p:nvSpPr>
        <p:spPr>
          <a:xfrm>
            <a:off x="33840" y="-9062640"/>
            <a:ext cx="572364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ảng giá dịch vụ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ảng giá gói cước văn phòng ảo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756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</p:pic>
      <p:graphicFrame>
        <p:nvGraphicFramePr>
          <p:cNvPr id="757" name=""/>
          <p:cNvGraphicFramePr/>
          <p:nvPr/>
        </p:nvGraphicFramePr>
        <p:xfrm>
          <a:off x="228600" y="1676520"/>
          <a:ext cx="8610480" cy="297180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Gói cướ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HD Tow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79240">
                <a:tc>
                  <a:txBody>
                    <a:bodyPr lIns="10080" rIns="1008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Basic Clas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780.000 VNĐ/thá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77800">
                <a:tc>
                  <a:txBody>
                    <a:bodyPr lIns="10080" rIns="1008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Economy Clas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1.180.000 VNĐ/thá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78160">
                <a:tc>
                  <a:txBody>
                    <a:bodyPr lIns="10080" rIns="1008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Business Clas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1.680.000 VNĐ/thá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77800">
                <a:tc>
                  <a:txBody>
                    <a:bodyPr lIns="10080" rIns="1008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First Clas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2.500.000 VNĐ/thá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sp>
        <p:nvSpPr>
          <p:cNvPr id="758" name="Rectangle 12"/>
          <p:cNvSpPr/>
          <p:nvPr/>
        </p:nvSpPr>
        <p:spPr>
          <a:xfrm>
            <a:off x="228600" y="4648320"/>
            <a:ext cx="8610480" cy="167616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Arial"/>
              </a:rPr>
              <a:t>Cty 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vi-V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Đầu tư </a:t>
            </a:r>
            <a:r>
              <a:rPr b="1" lang="vi-VN" sz="3200" spc="-1" strike="noStrike">
                <a:solidFill>
                  <a:srgbClr val="ffffff"/>
                </a:solidFill>
                <a:latin typeface="Arial"/>
              </a:rPr>
              <a:t>Hữu Liên.</a:t>
            </a:r>
            <a:br>
              <a:rPr sz="3200"/>
            </a:br>
            <a:r>
              <a:rPr b="1" lang="vi-VN" sz="3200" spc="-1" strike="noStrike">
                <a:solidFill>
                  <a:srgbClr val="ffffff"/>
                </a:solidFill>
                <a:latin typeface="Arial"/>
              </a:rPr>
              <a:t>Lầu 5, HD Tower, 25bis Nguyễn Thị Minh Khai, Bến Nghé, Q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vi-VN" sz="3200" spc="-1" strike="noStrike">
                <a:solidFill>
                  <a:srgbClr val="ffffff"/>
                </a:solidFill>
                <a:latin typeface="Arial"/>
              </a:rPr>
              <a:t> 1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P.</a:t>
            </a:r>
            <a:r>
              <a:rPr b="1" lang="vi-VN" sz="3200" spc="-1" strike="noStrike">
                <a:solidFill>
                  <a:srgbClr val="ffffff"/>
                </a:solidFill>
                <a:latin typeface="Arial"/>
              </a:rPr>
              <a:t>HC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59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402A-07F0-4AE9-A983-D2CB77D7B6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61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D573-4E17-4405-BDF9-42052A9D1E4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762" name="Picture 2" descr="http://www.sohovina.com/data/Picture/Cho%20ngoiu%20ca%20nhan_1331349708.jpg"/>
          <p:cNvPicPr/>
          <p:nvPr/>
        </p:nvPicPr>
        <p:blipFill>
          <a:blip r:embed="rId1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4" descr="http://www.sohovina.com/data/Picture/Phong%20hop_1331349562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0056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6" descr="http://www.sohovina.com/data/Picture/Sanh%20tiep%20khach%285%29_1331601725.jpg"/>
          <p:cNvPicPr/>
          <p:nvPr/>
        </p:nvPicPr>
        <p:blipFill>
          <a:blip r:embed="rId3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8" descr="http://www.sohovina.com/data/Picture/Tien%20ich%20tai%20soho%286%29_1331601808.jpg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0" descr="http://www.soffice.vn/files/news/283/6d402d68-f3c7-4465-bd5e-2897eebaeb33.jpg"/>
          <p:cNvPicPr/>
          <p:nvPr/>
        </p:nvPicPr>
        <p:blipFill>
          <a:blip r:embed="rId5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14" descr="http://www.soffice.vn/files/news/303/bbb35732-1d21-4811-81bd-83d195c7667b.JPG"/>
          <p:cNvPicPr/>
          <p:nvPr/>
        </p:nvPicPr>
        <p:blipFill>
          <a:blip r:embed="rId6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6" descr="http://www.soffice.vn/files/assets/canhcam/25-bis_daidien.jpg"/>
          <p:cNvPicPr/>
          <p:nvPr/>
        </p:nvPicPr>
        <p:blipFill>
          <a:blip r:embed="rId7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769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8325-B63E-4652-9240-AAD4B335EC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71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EE30-A62E-43E8-AADC-9C41936AB60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772" name="Picture 2" descr="http://www.executivespacesolutions.com/wp-content/uploads/Virtual-Office-Solutions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4"/>
          <p:cNvSpPr/>
          <p:nvPr/>
        </p:nvSpPr>
        <p:spPr>
          <a:xfrm>
            <a:off x="655308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895F-1F8F-4BF0-BFE5-EEA4A2DA16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8" name="Date Placeholder 5"/>
          <p:cNvSpPr/>
          <p:nvPr/>
        </p:nvSpPr>
        <p:spPr>
          <a:xfrm>
            <a:off x="4572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989E-B42C-45C5-91E7-8D823BB9F20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743200" y="2133360"/>
            <a:ext cx="5943600" cy="5331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Khái quát về V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1" name="Horizontal Scroll 8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ƯƠNG TRÌNH MÔN HỌC (2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457200" y="1066680"/>
            <a:ext cx="8229600" cy="99072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ẦN 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Ỹ THUẬT SOẠN THẢO, TRÌNH BÀY VB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3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4" name="Rounded Rectangle 10"/>
          <p:cNvSpPr/>
          <p:nvPr/>
        </p:nvSpPr>
        <p:spPr>
          <a:xfrm>
            <a:off x="457200" y="2133720"/>
            <a:ext cx="2209680" cy="5331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5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2743200" y="2743200"/>
            <a:ext cx="5943600" cy="533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Thể thức, kỹ thuật trình bày VB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743200" y="3352680"/>
            <a:ext cx="5943600" cy="9907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Phong cách ngôn ngữ trong VB hành chính - công vụ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2743200" y="4419720"/>
            <a:ext cx="5943600" cy="9903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Quy trình soạn thảo ban hành VB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2743200" y="5486400"/>
            <a:ext cx="5943600" cy="9907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Kỹ thuật soạn thảo, trình bày VB hành chính thông dụ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9" name="Rounded Rectangle 15"/>
          <p:cNvSpPr/>
          <p:nvPr/>
        </p:nvSpPr>
        <p:spPr>
          <a:xfrm>
            <a:off x="457200" y="2743200"/>
            <a:ext cx="2209680" cy="5335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6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0" name="Rounded Rectangle 16"/>
          <p:cNvSpPr/>
          <p:nvPr/>
        </p:nvSpPr>
        <p:spPr>
          <a:xfrm>
            <a:off x="457200" y="3352680"/>
            <a:ext cx="2209680" cy="9907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7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1" name="Rounded Rectangle 17"/>
          <p:cNvSpPr/>
          <p:nvPr/>
        </p:nvSpPr>
        <p:spPr>
          <a:xfrm>
            <a:off x="457200" y="4419720"/>
            <a:ext cx="2209680" cy="9903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8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2" name="Rounded Rectangle 18"/>
          <p:cNvSpPr/>
          <p:nvPr/>
        </p:nvSpPr>
        <p:spPr>
          <a:xfrm>
            <a:off x="457200" y="5486400"/>
            <a:ext cx="2209680" cy="9907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9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2726-75E9-492A-87A7-09087BCF10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75" name="Date Placeholder 2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6DCE-66A2-479C-8914-DF7BBEADFE3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76" name="Rectangle 3"/>
          <p:cNvSpPr/>
          <p:nvPr/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Office?</a:t>
            </a:r>
            <a:br>
              <a:rPr sz="3600"/>
            </a:b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2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The basic functions of the office?</a:t>
            </a:r>
            <a:br>
              <a:rPr sz="3600"/>
            </a:b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3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Organizational structure of the office?</a:t>
            </a:r>
            <a:br>
              <a:rPr sz="3600"/>
            </a:b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4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The forms of the office?</a:t>
            </a:r>
            <a:br>
              <a:rPr sz="3600"/>
            </a:b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Analysis of the role of the office for agencies &amp; organizations?</a:t>
            </a:r>
            <a:br>
              <a:rPr sz="3600"/>
            </a:b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6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Office management methods, advantages &amp; disadvantages?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77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78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79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7C4A-9D3C-4C78-B784-B72A17C7CD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81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3C27-7AF1-4103-846B-51581CC6F9A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Văn phòng là gì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2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Các chức năng cơ bản của văn phò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3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Cơ cấu tổ chức văn phò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4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Các hình thức tổ chức văn phò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Phân tích vai trò của văn phòng đối với cơ quan, tổ chức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6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Nêu các phương pháp quản lý văn phòng, ưu nhược điể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84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ÂU HỎI ÔN TẬ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85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03:20:02Z</dcterms:created>
  <dc:creator>Bài giảng QTVP_Thầy Nam Hà</dc:creator>
  <dc:description/>
  <dc:language>en-US</dc:language>
  <cp:lastModifiedBy>ntc</cp:lastModifiedBy>
  <dcterms:modified xsi:type="dcterms:W3CDTF">2014-03-23T17:30:44Z</dcterms:modified>
  <cp:revision>677</cp:revision>
  <dc:subject/>
  <dc:title>Chương 1</dc:title>
</cp:coreProperties>
</file>