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AA98-CE00-429E-9A72-D73454D5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E384-0C33-482E-9FD7-260A945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3A05-D76E-48BC-AB32-92A79261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DA55-67C4-4712-806A-D41C5707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699D-C8E7-49BC-8D6D-A2584AD4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19EF-E7E3-4AB5-A4C8-D779178B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0687-990B-4A1A-A824-BC5C786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AEBC-4CE6-44D5-B472-141C812B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A1E8-5B65-4ADF-AB22-9EEC3AE5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152-5C43-4B27-9C5B-C5EFD82B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96BD-D349-4BA2-AB56-78C2EEC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D7A7-1B66-4B58-ACC5-5FF29BE8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2479-AA0D-45C2-8FB5-C5FFB89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4A3-E875-4216-BA0F-CD713E1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8989-3BAC-470C-A724-18EFD1E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AE75-2B08-4464-A521-5E174522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DE6-EA7C-49B7-9223-FFB56DFE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D580-6AAA-479B-8EB5-C8FA4EF3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17DC-1201-4567-B0A4-C14F46CB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2D96-C894-4CAF-8FD7-CA315FF1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6410-60E0-4A50-9C7D-6BC78CC9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A559-5AF8-48AF-B48A-F6B6B2D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A78A-5C3D-4D0A-B066-89987D8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9B76-F2B7-4D12-88FE-932ED70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E25-B4AD-48E2-BFA2-DD7BF5181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DE2-09B1-46D1-8A81-8A118117E52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B99D-28C9-4602-B7E9-15539438EC5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7081-64E0-414B-A783-812A1DE73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7995-BC15-4910-B6BB-7B6D00412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7D9-E96C-4F22-8D80-B00ED03AAA5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BÁO C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40AF-380F-4996-B4C5-98F484639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7AB1-3188-4F47-83C5-98FA5F8B501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</a:t>
            </a: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. . . . .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……………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aëc ñieåm tình hình; Nhieäm vuï ñöôïc giao; Thuaän lôïi khoù kha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Muïc tieâu, nhieäm vuï saép tôùi; Caùc bieän phaùp thöïc hieän; Kieán nghò, ñeà xuaát vôùi caáp tre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i="1" lang="en-US" sz="2000" spc="-1" strike="noStrike">
                <a:solidFill>
                  <a:srgbClr val="000029"/>
                </a:solidFill>
                <a:latin typeface="VNI-Times"/>
              </a:rPr>
              <a:t>Nôi nhaän: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                                               QUYEÀN HAÏN, CHÖÙC VUÏ NGÖÔØI KY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…………………………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Löu VT, PHC 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62520" y="289548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Q, TC CẤP TRÊN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Ơ QUAN, TỔ CHỨ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429000" y="0"/>
            <a:ext cx="5715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066680" y="9907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724280" y="106668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AA36-5CF8-42CD-8A4C-5548A2278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C001-B974-4B08-98C2-2826804AA21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Neâu caùc yeâu caàu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aáu truùc cuûa baùo caùo vaø nhöõng noäi dung chính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ÂU HỎI ÔN TẬP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3520" y="4191120"/>
            <a:ext cx="8153280" cy="2133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Soaïn Baùo caùo veà hoaït ñoäng cuûa lôùp em naêm hoïc vöøa qua gôûi Phoøng Quaûn lyù HSSV&amp;TTGD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Horizontal Scroll 8"/>
          <p:cNvSpPr/>
          <p:nvPr/>
        </p:nvSpPr>
        <p:spPr>
          <a:xfrm>
            <a:off x="380880" y="32767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ÀI TẬP (30p)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DDC-6FA1-468F-A477-91CE6EEBA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2C25-7F32-4D08-AA9D-17D35BA775B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toång keát naêm hoïc 2010 - 2011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Phoøng Quaûn lyù HSSV &amp; TTG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Nhaän ñònh chung veà ñaëc ñieåm tình hình cuûa lôùp; Thuaän lôïi khoù khaên cuûa lôù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keát quaû hoaït ñoäng cuûa lôùp trong 3 lónh vöïc: Hoïc taäp, reøn luyeän, tham gia coâng taùc xaõ hoäi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-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eà xuaát, kieán nghò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5618160"/>
          <a:ext cx="8458200" cy="1011240"/>
        </p:xfrm>
        <a:graphic>
          <a:graphicData uri="http://schemas.openxmlformats.org/drawingml/2006/table">
            <a:tbl>
              <a:tblPr/>
              <a:tblGrid>
                <a:gridCol w="5334120"/>
                <a:gridCol w="31240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Nôi nhaä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ÔÙP TRÖÔÛ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Phoøng QLHSSV&amp;TTGD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ö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8"/>
          <p:cNvSpPr/>
          <p:nvPr/>
        </p:nvSpPr>
        <p:spPr>
          <a:xfrm>
            <a:off x="0" y="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OA QTK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ỚP …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29000" y="0"/>
            <a:ext cx="5715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724280" y="91440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4038480" y="2362320"/>
            <a:ext cx="1143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1143000" y="7621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0BB3-9786-4F00-8C1F-30CDBEE29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437-312B-45B1-BEB3-2CC17CA188F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Khái niệm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Yêu cầu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ân loại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Cấu trúc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ương pháp soạn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5"/>
          <p:cNvSpPr/>
          <p:nvPr/>
        </p:nvSpPr>
        <p:spPr>
          <a:xfrm>
            <a:off x="380880" y="18576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ỘI DUNG BÀI GIẢNG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FE50-A720-42FC-B1F5-8202C898A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091-F180-4FB3-B449-2FAA87CD9F6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Vaên baûn haø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Chæ duøng cho CQ, TC caáp döôù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Noäi d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Phaûn aùnh söï vieäc, hoaït ñoäng cuûa CQ, TC trong moät khoaûng thôøi gian cuï the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höùc naê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Q, TC caáp treân ñaùnh giaù ñöôïc tình hình thöïc teá, kòp thôøi ñeà ra chính saùch, bieän phaùp quaûn lyù phuø hôï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80880" y="3348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KHÁI NIỆM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4E39-BEEB-4B7F-8DA9-3A86C09E6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246-B778-41B3-B2CD-D30C12EFECD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Trung thöïc, khaùch quan, chính x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hi tieát, soá lieäu phaûi ñuùng thöïc te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uï theå, coù troïng taâm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aáp treân ñaùnh giaù ñuùng tình hình thöïc teá ñeå ban haønh caùc quyeát ñònh quaûn ly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Kòp thôøi, nhanh choù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Vì baùo caùo phuïc vuï coâng taùc quaûn lyù, ñieàu haø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YÊU CẦU CỦA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782-1BEC-4A35-A4B9-E9437E90E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BD98-6AF5-4BE0-9B42-F0129B87790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76320" y="2057400"/>
            <a:ext cx="259056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oâng taù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838080" y="3581280"/>
            <a:ext cx="28195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ñeà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5943600" y="2057400"/>
            <a:ext cx="30481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mo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00200" y="685800"/>
            <a:ext cx="5943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3. PHAÂN LOAÏI BAÙO CAÙ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276720" y="4419720"/>
            <a:ext cx="274320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5791320" y="3581280"/>
            <a:ext cx="274320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Thöïc teá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2666880" y="1828800"/>
            <a:ext cx="1905120" cy="9144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971440" y="1828800"/>
            <a:ext cx="1600200" cy="18288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4541760" y="1828800"/>
            <a:ext cx="106560" cy="25909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4495680" y="1828800"/>
            <a:ext cx="1676520" cy="1905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495680" y="1828800"/>
            <a:ext cx="1447920" cy="762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DEC-B2B5-4F70-B2FE-0194B9E74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B4CB-6656-4C0B-BF0E-28C4DF5F414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oâng t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Sô keát, toång ke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ñeà, vụ việ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Moät vaán ñeà trong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moân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aøi chính, thueá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Ñeà caäp taát caû caùc maët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thöïc teá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höïc teá coâng taùc vaø ñeà xuaát bieän phaùp giaûi quyeát vaán ñeà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5"/>
          <p:cNvSpPr/>
          <p:nvPr/>
        </p:nvSpPr>
        <p:spPr>
          <a:xfrm>
            <a:off x="380880" y="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PHÂN LOẠI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1CEB-3E03-41CA-ADF0-08E2C7AE0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BC1-B2C4-4B07-BEA6-1F8BF1A94E3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iệm vụ được giao, thuận lợi, khó khăn trong thực hiệ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80880" y="0"/>
            <a:ext cx="838224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CẤU TRÚC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Horizontal Scroll 6"/>
          <p:cNvSpPr/>
          <p:nvPr/>
        </p:nvSpPr>
        <p:spPr>
          <a:xfrm>
            <a:off x="457200" y="1100160"/>
            <a:ext cx="2514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09480" y="2819520"/>
            <a:ext cx="807732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ết quả thực hiện; công việc đã làm được, chưa làm được; nguyên nhân chủ quan, khách qu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Horizontal Scroll 8"/>
          <p:cNvSpPr/>
          <p:nvPr/>
        </p:nvSpPr>
        <p:spPr>
          <a:xfrm>
            <a:off x="533520" y="266688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09480" y="5029200"/>
            <a:ext cx="8077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tiêu, nhiệm vụ mới, biện pháp thực hiện, kiến nghị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10"/>
          <p:cNvSpPr/>
          <p:nvPr/>
        </p:nvSpPr>
        <p:spPr>
          <a:xfrm>
            <a:off x="533520" y="491004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9808-7366-4F2C-892D-71DC09C91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E073-618F-4DFA-89E6-A30EB5E9D6A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Xaùc ñònh muïc ñích cuûa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hu thaäp döõ lieäu caàn baùo caùo: Ñoái chieáu thoâng tin ñeå kieåm chöùng ñoä xaùc thöïc cuûa thoâng t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Saép xeáp, toång hôïp döõ lieäu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ổng kết hoaït ñoäng, kinh nghieäm, yù kieán caàn ñeà xuaát leân caáp treâ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Horizontal Scroll 5"/>
          <p:cNvSpPr/>
          <p:nvPr/>
        </p:nvSpPr>
        <p:spPr>
          <a:xfrm>
            <a:off x="380880" y="0"/>
            <a:ext cx="845820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 PHƯƠNG PHÁP SOẠN THẢ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6"/>
          <p:cNvSpPr/>
          <p:nvPr/>
        </p:nvSpPr>
        <p:spPr>
          <a:xfrm>
            <a:off x="457200" y="1100160"/>
            <a:ext cx="830592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93E8-D77D-4FA6-952B-8B3B3DE03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4DD-4A81-4BEA-B1CB-27F3E0D39E9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Coâng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vieäc ñaõ laøm ñöôïc, chöa laøm ñöô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uû quan, khaùch q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Bieän phaùp thöïc hieän coâng vieäc coøn laï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Horizontal Scroll 5"/>
          <p:cNvSpPr/>
          <p:nvPr/>
        </p:nvSpPr>
        <p:spPr>
          <a:xfrm>
            <a:off x="380880" y="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2. VIẾT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Horizontal Scroll 6"/>
          <p:cNvSpPr/>
          <p:nvPr/>
        </p:nvSpPr>
        <p:spPr>
          <a:xfrm>
            <a:off x="457200" y="9144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SƠ KẾT (6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33520" y="4191120"/>
            <a:ext cx="8076960" cy="2209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Toång hôïp nhieäm vuï ñaõ hoaøn thaønh, chöa hoaøn thaønh (keát quaû cuï theå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ưa hoaøn thaønh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Phöông höôùng nhieäm vuï cho năm sau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Horizontal Scroll 9"/>
          <p:cNvSpPr/>
          <p:nvPr/>
        </p:nvSpPr>
        <p:spPr>
          <a:xfrm>
            <a:off x="457200" y="34290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TỔNG KẾT (12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08-10T08:27:38Z</dcterms:modified>
  <cp:revision>306</cp:revision>
  <dc:subject/>
  <dc:title>Chương 9.4</dc:title>
</cp:coreProperties>
</file>