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7B81-6EF8-4EBC-A399-A414B7EF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16E2-A8E7-406A-B197-73B17F58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AFA0-6DD5-482C-ADA2-78BC9EA2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CAF5-ECD3-47E2-A65D-737E321D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F494-6F4D-4800-B68F-E44B09A4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3E27-4861-48FE-85F1-A8200426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EF24-F358-44B8-A666-3B97865B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32F2-DB59-4E3A-8513-6223BB88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08B4-19DF-44F2-A18F-B4CDBE06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A1F2-5B0E-4EE2-9933-BA733AC1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30E0-FC35-4C11-83E5-A4DBBAC5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B774-BF11-4AAC-A378-11A75E88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1FAE-6516-4CFC-8E2C-B0CE7D4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DAA6-BAF7-443C-AFB5-2FEFC96C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45D6-8EF1-4035-BFFB-63514509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7457-39C0-40FF-B742-EECED6F6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11F1-60FB-4F63-996B-09BA6CC3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7C9D-90D9-447E-B4E5-1B3745D2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3C1D-E733-4157-A886-6B72360D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9CFB-567D-49D4-B83F-D7CC88A1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CE5CB-5D6B-4725-830B-92EEFDB2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271B-66E3-4CCD-B72A-583ACD1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029D-5B66-43C7-BD0B-B52F14C6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FEAC-FA22-4A25-BA76-DA87E626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9E8D-6447-481B-A8F7-3F976B9FCB7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5491-72FB-4A3D-A098-8D5D9223231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2822400" y="103500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4648320" y="4876920"/>
            <a:ext cx="4038480" cy="5331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5715000" y="5562720"/>
            <a:ext cx="2971800" cy="53316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42244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YỂN MỘ VÀ LỰA CHỌN</a:t>
            </a: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 NGUỒN NHÂN LỰC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21337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52560" indent="-52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Lợi ích:</a:t>
            </a:r>
            <a:br>
              <a:rPr sz="2400"/>
            </a:b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ết được năng lực và phẩm chất của nhân viên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Nhân viên nắm bắt và thực hiện công việc nhanh hơn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Tiết kiệm thời gian và chi phí tuyển dụng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Tạo cơ hội thăng tiến cho nhân viên.</a:t>
            </a:r>
            <a:br>
              <a:rPr sz="2400"/>
            </a:br>
            <a:br>
              <a:rPr sz="1000"/>
            </a:b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: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 Nhân viên làm việc theo khuôn rập, không sáng tạo, thi đua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 Thực hiện không tốt =&gt; mất đoàn kết nội bộ.</a:t>
            </a:r>
            <a:br>
              <a:rPr sz="2400"/>
            </a:b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447920"/>
            <a:ext cx="518184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133720"/>
            <a:ext cx="41148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TRO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049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52388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209680"/>
            <a:ext cx="38862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NGOÀ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895480"/>
            <a:ext cx="7162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Một số nguồn bên ngoài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bạn bè, người thân của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nhân viên cũ của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Ứng viên do quảng c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u hút từ sự kiện đặc biệt(hội chợ)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các trường đại học, cao đẳ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52388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133720"/>
            <a:ext cx="38862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NGOÀ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666880"/>
            <a:ext cx="84981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u hút nhiều nhân tài tham gia công t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ạo phong cánh làm việc mới mẻ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Phát triển kỹ năng, kinh nghiệm cho nhân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Giảm chi phí đào tạo, hiệu suất công việc cao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: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-   Tốn nhiều thời gian và chi phí tuyển dụng và thử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Giảm cơ hội thăng tiến cho nv trong tổ chứ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Ứng viên cần thời gian thích ứng công việc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Lựa chọn được ứng viên phù hợp công việc khó khăn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2666880"/>
            <a:ext cx="8001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1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ập kế hoạch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2</a:t>
            </a:r>
            <a:r>
              <a:rPr b="0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 Lựa chọn giải pháp tìm kiếm người xin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3: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ánh giá quá trình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4: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ải pháp thay thế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95480" y="1752480"/>
            <a:ext cx="45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 QUY TRÌNH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676520"/>
            <a:ext cx="502920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2. QUY TRÌNH TUYỂN MỘ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752480"/>
            <a:ext cx="510516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1. LẬP KẾ HOẠCH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6668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Xác định vị trí, số lượng người cần tuyể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guồn tuyển mộ và phương pháp tuyển mộ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ành lập hội đồng tuyển dụ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Xác định thời gian, địa điểm, chi phí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ắm rõ các chính sách, mục tiêu, quy định pháp chế của nhà nước và tổ chứ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9900"/>
                </a:solidFill>
                <a:uFillTx/>
                <a:latin typeface="Arial"/>
              </a:rPr>
              <a:t>XÁC ĐỊNH TỶ LỆ SÀNG LỌC QUA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thị trường lao động (cung- cầu lao động)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chất lượng của NNL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mức độ phức tạp của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tâm lý chọn nghề của tập thể người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inh nghiệm tổ chức trong công tác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600200"/>
            <a:ext cx="54100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3 CÁC HÌNH THỨC THU HÚT NNL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giới thiệu của cán bộ công nhân viên chức trong và ngoài D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quảng c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trung tâm giới thiệu việc là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uyển trực tiếp từ các trường Đại học, cao đẳng, trung cấp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hội chợ việc là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truyền thông, internet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1600200"/>
            <a:ext cx="5943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4. ĐÁNH GIÁ QUÁ TRÌNH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Số lượng hồ sơ dự tuyể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ời gian để thực hiện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hi phí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1600200"/>
            <a:ext cx="65530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5 GIẢI PHÁP THAY THẾ CHO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2057400"/>
            <a:ext cx="66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Làm thêm giờ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Nhờ giúp tạm thờ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Hợp đồng thầu lại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Thuê lao động từ công ty khá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2057400"/>
            <a:ext cx="45720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KHÁI NIỆM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52680"/>
            <a:ext cx="6933960" cy="2286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305160"/>
            <a:ext cx="815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Tuyển chọn là quá trình đánh giá và chọn lọc kỹ lưỡng các ứng viên phù hợp với yêu cầu công việc đặt ra của tổ chức”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Trần Kim Dung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íao trình QTNNL, NXB thống kê – 2006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Nguyễn Ngọc Quân và Ths Nguyễn Văn Điền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iáo trình QTNNL, NXB trường ĐH Kinh Tế Quốc Dân- 2007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Một số tài liệu tham khảo khác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1905120"/>
            <a:ext cx="6553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 VAI TRÒ CỦA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ưa ra các quyết định tuyển dụng đúng đắ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ựa chọn người có kỹ năng phù hợp với chiến lược và mục tiêu của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ảm chi phí và rủi ro trong quá trình thực hiệ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Ảnh hưởng đến chiến lược kinh doanh của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ánh giá mức độ thông tin chính xác và khoa học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Xuất phát từ kế hoạch sản xuất kinh doanh và kế họach NNL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uyển ngừời có trình độ chuyên môn-&gt; đạt năng suất và hiệu suất công tác cao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uyển người có tinh thần và trách nhiệm làm việc cao, gắn bó với công việc,.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905120"/>
            <a:ext cx="6553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3 CÁC YÊU CẦU CỦA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4114800"/>
            <a:ext cx="2666880" cy="182880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 QUY TRÌNH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75248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Tiếp nhận Hồ sơ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362320"/>
            <a:ext cx="243828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Phỏng vấn sơ bộ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297180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Trắc nghiệ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358128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Phỏng vấn chọn lọ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4191120"/>
            <a:ext cx="243864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Xác minh, điều tr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4876920"/>
            <a:ext cx="243828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Kiểm tra sức khỏ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5562720"/>
            <a:ext cx="243864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Hướng dẫn hội nhập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257440" y="1980720"/>
            <a:ext cx="3352680" cy="124308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NI-Times"/>
              </a:rPr>
              <a:t> </a:t>
            </a:r>
            <a:r>
              <a:rPr b="0" lang="vi-VN" sz="2000" spc="-1" strike="noStrike" u="sng">
                <a:solidFill>
                  <a:srgbClr val="003300"/>
                </a:solidFill>
                <a:uFillTx/>
                <a:latin typeface="Arial"/>
              </a:rPr>
              <a:t>Lưu ý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003300"/>
                </a:solidFill>
                <a:latin typeface="Arial"/>
              </a:rPr>
              <a:t>Quy trình tuyển dụng có thể thay đổi linh họat tùy thuộc đặc điểm và vị trí công việc cầ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28600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28954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3505320"/>
            <a:ext cx="152640" cy="759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4114800"/>
            <a:ext cx="15264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47242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54100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7720" y="24084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Chọn ra hồ sơ đạt yêu cầu dựa trên biểu mẫu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oại bỏ các ứng viên yếu kém, không trung thự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Kiểm tra thông tin trong hồ sơ dự tuy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ứng viên đạt yêu cầu tham gia tiếp phần kiểm tra, trắc nghiệm,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600200"/>
            <a:ext cx="40384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1 PHỎNG VẤN SƠ B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ho ứng viên làm kiểm tra/ trắc nghiệ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ó thể dùng các dạng kiểm tra/ trắc nghiệm sau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IQ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kỹ năng, chuyên mô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kiến thức tổng qua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tâm lý, tính các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thành tích,vv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ông báo ứng viên đạt yêu cầu tham gia phỏng vấn tuyển chọ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600200"/>
            <a:ext cx="4648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2. KIỂM TRA, TRẮC NGHIỆ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3300"/>
                </a:solidFill>
                <a:uFillTx/>
                <a:latin typeface="Arial"/>
              </a:rPr>
              <a:t>Mục tiêu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u thập thông tin về ứng viê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Giới thiệu về công t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ung cấp thông tin cần thiết cho các ứng viê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iết lập quan hệ, tăng khả năng giao tiếp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52388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9900"/>
                </a:solidFill>
                <a:uFillTx/>
                <a:latin typeface="Arial"/>
              </a:rPr>
              <a:t>Các dạng phỏng vấn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mẫu/ không mẫu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tình huố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nhóm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hội đồng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căng thẳng,vv..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676520"/>
            <a:ext cx="480060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Trình tự phỏng vấn gồ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Lên kế hoạch phỏng vấ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Chuẩn bị và lựa chọn bản câu hỏi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Xây dựng hệ thống thang điểm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Tiến hành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3300"/>
                </a:solidFill>
                <a:uFillTx/>
                <a:latin typeface="Arial"/>
              </a:rPr>
              <a:t>Chú ý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ần chuẩn bị các bước theo đúng quy trình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Đặt câu hỏi, lắng nghe, và quan sát ứng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52388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352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Xác minh năng lực, lòng trung thành, trình độ, lý lịch cá nhân của ứng viên qu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ông ty cũ của ứng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Địa phương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rường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ông báo cho ứng viên trúng tuyể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ung cấp các tiêu chuẩn về thể lực cho các yêu cầu vị trí công việc cụ thể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6002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4. XÁC MINH, ĐIỀU TRA 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8006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5 KIỂM TRA SỨC KHỎE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ới thiệu nhân viên mới với các thành viên cũ trong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Hướng dẫn công việc, nhiệm vụ cần phải thực hiệ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ực hiện thử việc dựa theo bảng đánh giá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Quyết định tuyển dụng chính thức và ký hợp đồng lao động dài hạ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8288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6. HƯỚNG DẪN HỘI NHẬP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2286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GUỒN NHÂN LỰC 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00200"/>
            <a:ext cx="3733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1460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Hiểu được khái niệm và vai trò của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 NN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Các nhân tố ảnh hưởng đến quá trình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Quy trình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 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Đánh giá kết quả tuyển dụng và thực hiện bố trí nhân sự</a:t>
            </a:r>
            <a:br>
              <a:rPr sz="2400"/>
            </a:b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981080"/>
            <a:ext cx="426744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HÁI QUÁT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TUYỂN DỤNG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1337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Là quá trình bao gồm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Tuyển mộ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Tuyển chọn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Bố trí</a:t>
            </a:r>
            <a:r>
              <a:rPr b="0" i="1" lang="vi-VN" sz="2800" spc="-1" strike="noStrike">
                <a:solidFill>
                  <a:srgbClr val="0033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húng được liên kết chặt chẽ với nhau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312408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Tuyển mộ là quá trình thu hút những ứng viên có năng lực phù hợp tham gia vào quá trình tuyển chọn của công ty.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828800"/>
            <a:ext cx="441972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1. KHÁI NIỆM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rot="16200000">
            <a:off x="-722160" y="2627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80880" y="228600"/>
            <a:ext cx="8458200" cy="5943600"/>
            <a:chOff x="380880" y="228600"/>
            <a:chExt cx="8458200" cy="5943600"/>
          </a:xfrm>
        </p:grpSpPr>
        <p:grpSp>
          <p:nvGrpSpPr>
            <p:cNvPr id="126" name=""/>
            <p:cNvGrpSpPr/>
            <p:nvPr/>
          </p:nvGrpSpPr>
          <p:grpSpPr>
            <a:xfrm>
              <a:off x="380880" y="228600"/>
              <a:ext cx="8458200" cy="5943600"/>
              <a:chOff x="380880" y="228600"/>
              <a:chExt cx="8458200" cy="5943600"/>
            </a:xfrm>
          </p:grpSpPr>
          <p:sp>
            <p:nvSpPr>
              <p:cNvPr id="127" name=""/>
              <p:cNvSpPr/>
              <p:nvPr/>
            </p:nvSpPr>
            <p:spPr>
              <a:xfrm>
                <a:off x="380880" y="609480"/>
                <a:ext cx="609840" cy="54864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7920" y="4572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Nhiều người tham gia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7920" y="9907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Tỷ lệ người được chấp nhậ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7920" y="1523880"/>
                <a:ext cx="5181480" cy="5079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Ứng viên có trình độ lành nghề cao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7920" y="21337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Các vấn đề tồn tại công việc 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7920" y="266688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Cung lao động- mức lương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7920" y="32004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Mức lương hấp dẫ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7920" y="37339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Ứng viên có tay nghề.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47920" y="426708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Giảm thời gian và chi phí đào tạo.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48006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Bố trí công việc thích hợp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7920" y="5334120"/>
                <a:ext cx="5181480" cy="83808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Hình ảnh công ty ảnh hưởng số lượng 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đơn xin dự tuyển của ứng viê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10280" y="2286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Tuyển chọ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010280" y="16002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Đánh giá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công việc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10280" y="27432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Thù lao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10280" y="3733920"/>
                <a:ext cx="1828800" cy="7617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Đào tạo và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Phát triể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4876920"/>
                <a:ext cx="1828800" cy="7617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Mối quan hệ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Lao động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29400" y="68580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29400" y="18288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29400" y="28954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29400" y="396252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29400" y="502920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990720" y="76212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990720" y="1143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990720" y="2286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990720" y="3429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990720" y="44956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990720" y="56386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16200000">
              <a:off x="-1485720" y="2780640"/>
              <a:ext cx="434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>
                  <a:solidFill>
                    <a:srgbClr val="003300"/>
                  </a:solidFill>
                  <a:latin typeface="Arial"/>
                </a:rPr>
                <a:t>TUYỂN MỘ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0880" y="6248520"/>
            <a:ext cx="8382240" cy="457200"/>
          </a:xfrm>
          <a:prstGeom prst="rect">
            <a:avLst/>
          </a:prstGeom>
          <a:solidFill>
            <a:srgbClr val="66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MỐI QUAN HỆ TUYỂN MỘ VÀ CHỨC NĂNG KHÁ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251460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u hút những người tài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Bổ nhiệm và bố trí lại nhân sự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Kích thích tinh thần làm việc, tính sáng tạo, đạt hiệu quả công việc cao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ạo nguồn sinh lực mới cho doanh nghiệ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Xây dựng và phát triển văn hóa tổ chức tốt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ăng lợi thế cạnh tranh cho doanh nghiệ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600200"/>
            <a:ext cx="487692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2 MỤC TIÊU CỦA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523880"/>
            <a:ext cx="7238880" cy="6098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1.3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CÁC NHÂN TỐ ẢNH HƯỞNG TUYỂN MỘ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90720" y="225576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Uy tín của doanh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tuyển dụ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Chính sách quản lý nhân sự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Quan hệ với trung tâm giới thiệu việc là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ài chính của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Mối quan tâm giữa các ngành nghề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ị trường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ối thủ cạnh tranh cùng ngàn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286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60020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 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048120"/>
            <a:ext cx="792468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Ứng viên là nhân viên bên trong công ty. Họ đượ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ới thiệu từ cán bộ, công nhân trong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tuyển dụng công khai các chức danh     cần tuy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ề bạt dựa trên thông tin về quá trình làm việc, trình độ, thành tích cá nhân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362320"/>
            <a:ext cx="403848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TRO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7:36:44Z</dcterms:created>
  <dc:creator>TUAN HANH</dc:creator>
  <dc:description/>
  <dc:language>en-US</dc:language>
  <cp:lastModifiedBy>TUAN HANH</cp:lastModifiedBy>
  <dcterms:modified xsi:type="dcterms:W3CDTF">2010-05-04T07:41:4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