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E22-149E-490B-A98E-7EBCCAF6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864-8421-4763-8356-745DC22BE5F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CCC-F21C-4A06-8E70-F56974E6F27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9B7-E78E-4C4E-95FC-46B2B900992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D16-9EA3-4BE4-8DA2-C8459D52920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0A3D-A616-46A8-BD65-A2C3D4B10DF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C12E-2FB4-4861-8924-49B13DEA787B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6AE4-5C6E-4914-8D75-68F5E17502D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6397-4C56-4F9B-BF20-08B7994D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E651-6B2F-4DEE-8DF4-7251D02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9855-A54E-4F1B-9617-0602C9FC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1080-CD6E-4B4E-838F-11774996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00CD-ECB2-4180-9D84-B3CF12BF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6FD-7DE3-466E-9D67-75297732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19C0-B0A5-4D3F-8619-68CA8E2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4509-D44F-4097-930B-9F444704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0E99-A964-4520-A4B9-53D218F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E6B0-5A53-4F75-9286-BB63D0A4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1F86-F936-4049-8468-112AAE2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2A4C-955B-4444-9EF5-AB8AD2E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6F5-3090-4B79-B155-3FE38B5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F23-CFFD-4F5C-A766-51569F56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B9A-11B1-4793-8C60-BE7CF45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C9EA-ED09-40B9-9EF9-AB9A7865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4CC-6392-487B-BD18-4B1CA4EA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18C7-5D0D-4EE9-A738-ADAC9B9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27CA-ABAA-4CAA-8D1B-2061C13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84B6-97FE-4F48-8786-05DE8B7A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2E0E-4E9C-411A-A6C3-2D8C8DAB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B3BF-11CA-4356-9182-F0609DC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EC24-EAA0-4F32-888D-17EE2C3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1B26-189B-4B67-86C9-F073E48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DEB-6266-4C0E-9013-DBD933A3C28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A661-D26F-4654-87D7-9C332945AC8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5"/>
          <p:cNvSpPr/>
          <p:nvPr/>
        </p:nvSpPr>
        <p:spPr>
          <a:xfrm>
            <a:off x="2822760" y="103500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209680" y="2209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ĐÁNH GIÁ KẾT QUẢ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THỰC HIỆN CÔNG VIỆ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9"/>
          <p:cNvSpPr/>
          <p:nvPr/>
        </p:nvSpPr>
        <p:spPr>
          <a:xfrm>
            <a:off x="304920" y="2844720"/>
            <a:ext cx="7543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chấm điể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lưu giữ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so sánh cặ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xếp hạng luân ph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quản trị mục tiêu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định lượ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>
            <a:off x="685800" y="1981080"/>
            <a:ext cx="64008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PHƯƠNG THỨ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85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NGƯỜI 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ười tham gia đánh giá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ường là người lãnh đạo, giám sát trực tiếp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Một số nhân viên, cán bộ, cá nhân người lao động, khách hà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Kết hợp các ý kiến đánh giá để có bản nhận xét chung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Đào tạo người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văn bản hướng dẫ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ổ chức các lớp tập hu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7"/>
          <p:cNvSpPr/>
          <p:nvPr/>
        </p:nvSpPr>
        <p:spPr>
          <a:xfrm>
            <a:off x="68580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685800" y="2438280"/>
            <a:ext cx="556272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4. ĐO LƯỜNG HIỆU QUẢ CÔNG VIỆC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33520" y="3060720"/>
            <a:ext cx="8305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0000"/>
                </a:solidFill>
                <a:latin typeface="Arial"/>
              </a:rPr>
              <a:t>Thu thập thông tin về kết quả thực hiệ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Quan sát và kiểm tra tiến trình làm việc của NV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ính khối lượng hoàn thành công việ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eo dõi ngày công, nội quy, kỷ luật của nhân viên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Phỏng vấn, tham khảo ý kiến người khá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Ghi lại những sự kiện quan trọng về nhân viê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76212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762120" y="2438280"/>
            <a:ext cx="533376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5. ĐÁNH GIÁ KẾT QUẢ THỰC HIỆN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914400" y="3048120"/>
            <a:ext cx="7620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ff0000"/>
                </a:solidFill>
                <a:latin typeface="Arial"/>
              </a:rPr>
              <a:t>Dựa trên những tiêu chí đối chiếu kết quả thực hiện của nhân viên với bản tiêu chuẩ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Mức độ hoàn thành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ái độ thực hiện của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ỹ năng làm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riển vọng phát tri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7"/>
          <p:cNvSpPr/>
          <p:nvPr/>
        </p:nvSpPr>
        <p:spPr>
          <a:xfrm>
            <a:off x="609480" y="1828800"/>
            <a:ext cx="7543800" cy="825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ỮNG LỖI CẦN TRÁNH KHI ĐÁNH GIÁ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ÔNG VIỆ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3520" y="2743200"/>
            <a:ext cx="7238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Bản tiêu chuẩn đánh giá không rõ rà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á dễ hay quá khắt khe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iếu tính công bằng/ thiên v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Dựa vào thông tin từ trí nhớ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u hướng bình quâ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ành kiế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Ảnh hưởng sự kiện gần nhất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ịnh kiến do tập quán văn hóa/ giới tính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7"/>
          <p:cNvSpPr/>
          <p:nvPr/>
        </p:nvSpPr>
        <p:spPr>
          <a:xfrm>
            <a:off x="685800" y="1600200"/>
            <a:ext cx="6019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33520" y="220968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ống nhất với nhân viên về kết quả đánh giá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Đưa ra phản hồi giúp nhân viên có kinh nghiệm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Hiểu những khó khăn của nhân viên trong công việ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Lên kế hoạch cho mục tiêu công việc s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ắ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 t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ác bước thực hiệ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Mở đầu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ực hiện phỏng vấ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Kết thú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ó 3 hình thức phỏng vấn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không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thỏa mãn- thay đổ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ác lỗi cần tránh với nhà quản lý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phê bìn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cung cấp thông tin phản hồi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biết ccách phê phán các sự việc, vấn đề cụ thề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609480" y="1752480"/>
            <a:ext cx="59436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85800" y="1981080"/>
            <a:ext cx="373392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66680" y="2819520"/>
            <a:ext cx="7239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Hiểu mục đích và vai trò của h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oạt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động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hương pháp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y trình đánh giá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ải pháp nâng cao hiệu quả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2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971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Đánh giá một cách có hệ thống năng suất và hiệu quả công việc của người lao động; giúp nhà quản lý đưa ra các quyết định nhân sự đúng đắn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6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" name="Rectangle 53"/>
          <p:cNvSpPr/>
          <p:nvPr/>
        </p:nvSpPr>
        <p:spPr>
          <a:xfrm>
            <a:off x="609480" y="1905120"/>
            <a:ext cx="32767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4"/>
          <p:cNvSpPr/>
          <p:nvPr/>
        </p:nvSpPr>
        <p:spPr>
          <a:xfrm>
            <a:off x="-76320" y="2602080"/>
            <a:ext cx="88394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nhân viê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Củng cố, cải thiện và duy trì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mục tiêu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nhu cầu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hành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ết nối lương, thưởng với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ánh giá chính sách và chương trình NNL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57"/>
          <p:cNvSpPr/>
          <p:nvPr/>
        </p:nvSpPr>
        <p:spPr>
          <a:xfrm>
            <a:off x="533520" y="19051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MỤC TIÊU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tổ chứ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ánh giá năng lực của nhân viê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ống nhất mục tiêu sắp tới với nhân viê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a ra quyết định nhân sự đúng đắ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chương trình hỗ trợ phù hợp nâng cao chất lượng NNL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hận biết điểm mạnh và điểm yế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ắm được mục tiêu và yêu cầu công việc sắp tớ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đề nghị cải thiện điều kiện làm việ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ợc cố vấn về đào tạo và hướng nghiệp để nâng cao hiệu quả công việ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36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2286000"/>
            <a:ext cx="0" cy="4267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AutoShape 57"/>
          <p:cNvSpPr/>
          <p:nvPr/>
        </p:nvSpPr>
        <p:spPr>
          <a:xfrm>
            <a:off x="457200" y="16765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ỢI Í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QUY TRÌNH ĐÁNH GIÁ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4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4" name="Group 63"/>
          <p:cNvGrpSpPr/>
          <p:nvPr/>
        </p:nvGrpSpPr>
        <p:grpSpPr>
          <a:xfrm>
            <a:off x="533520" y="2743200"/>
            <a:ext cx="8001000" cy="3505320"/>
            <a:chOff x="533520" y="2743200"/>
            <a:chExt cx="8001000" cy="3505320"/>
          </a:xfrm>
        </p:grpSpPr>
        <p:sp>
          <p:nvSpPr>
            <p:cNvPr id="145" name="Rectangle 64"/>
            <p:cNvSpPr/>
            <p:nvPr/>
          </p:nvSpPr>
          <p:spPr>
            <a:xfrm>
              <a:off x="4038480" y="28195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phương pháp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Rectangle 65"/>
            <p:cNvSpPr/>
            <p:nvPr/>
          </p:nvSpPr>
          <p:spPr>
            <a:xfrm>
              <a:off x="533520" y="281952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iết lập tiêu chuẩ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5334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và huấn luyệ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ỹ năng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Rectangle 67"/>
            <p:cNvSpPr/>
            <p:nvPr/>
          </p:nvSpPr>
          <p:spPr>
            <a:xfrm>
              <a:off x="1905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ưa ra tiêu chí, nội dụng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phạm vi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Rectangle 68"/>
            <p:cNvSpPr/>
            <p:nvPr/>
          </p:nvSpPr>
          <p:spPr>
            <a:xfrm>
              <a:off x="60948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ực hiện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11480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ảo luận kết quả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5715000" y="55627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iều chỉnh và công bố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ết quả mới cho NV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>
              <a:off x="3352680" y="31244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3429000" y="49532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4" name="Group 73"/>
            <p:cNvGrpSpPr/>
            <p:nvPr/>
          </p:nvGrpSpPr>
          <p:grpSpPr>
            <a:xfrm>
              <a:off x="6858000" y="3124440"/>
              <a:ext cx="457200" cy="533160"/>
              <a:chOff x="6858000" y="3124440"/>
              <a:chExt cx="457200" cy="533160"/>
            </a:xfrm>
          </p:grpSpPr>
          <p:sp>
            <p:nvSpPr>
              <p:cNvPr id="155" name="Line 74"/>
              <p:cNvSpPr/>
              <p:nvPr/>
            </p:nvSpPr>
            <p:spPr>
              <a:xfrm>
                <a:off x="7315200" y="31244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858000" y="312444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6"/>
            <p:cNvGrpSpPr/>
            <p:nvPr/>
          </p:nvGrpSpPr>
          <p:grpSpPr>
            <a:xfrm>
              <a:off x="6934320" y="5029200"/>
              <a:ext cx="457200" cy="533160"/>
              <a:chOff x="6934320" y="5029200"/>
              <a:chExt cx="457200" cy="533160"/>
            </a:xfrm>
          </p:grpSpPr>
          <p:sp>
            <p:nvSpPr>
              <p:cNvPr id="158" name="Line 77"/>
              <p:cNvSpPr/>
              <p:nvPr/>
            </p:nvSpPr>
            <p:spPr>
              <a:xfrm>
                <a:off x="7391520" y="502920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6934320" y="50292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0" name="Line 79"/>
            <p:cNvSpPr/>
            <p:nvPr/>
          </p:nvSpPr>
          <p:spPr>
            <a:xfrm flipH="1">
              <a:off x="4724280" y="396252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61" name="Group 80"/>
            <p:cNvGrpSpPr/>
            <p:nvPr/>
          </p:nvGrpSpPr>
          <p:grpSpPr>
            <a:xfrm>
              <a:off x="1295280" y="4038840"/>
              <a:ext cx="609840" cy="533160"/>
              <a:chOff x="1295280" y="4038840"/>
              <a:chExt cx="609840" cy="533160"/>
            </a:xfrm>
          </p:grpSpPr>
          <p:sp>
            <p:nvSpPr>
              <p:cNvPr id="162" name="Line 81"/>
              <p:cNvSpPr/>
              <p:nvPr/>
            </p:nvSpPr>
            <p:spPr>
              <a:xfrm>
                <a:off x="1295280" y="40388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3" name="Line 82"/>
              <p:cNvSpPr/>
              <p:nvPr/>
            </p:nvSpPr>
            <p:spPr>
              <a:xfrm>
                <a:off x="1295280" y="4038840"/>
                <a:ext cx="60984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83"/>
            <p:cNvSpPr/>
            <p:nvPr/>
          </p:nvSpPr>
          <p:spPr>
            <a:xfrm>
              <a:off x="358344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4"/>
            <p:cNvSpPr/>
            <p:nvPr/>
          </p:nvSpPr>
          <p:spPr>
            <a:xfrm>
              <a:off x="7545600" y="281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Rectangle 85"/>
            <p:cNvSpPr/>
            <p:nvPr/>
          </p:nvSpPr>
          <p:spPr>
            <a:xfrm>
              <a:off x="487872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Rectangle 86"/>
            <p:cNvSpPr/>
            <p:nvPr/>
          </p:nvSpPr>
          <p:spPr>
            <a:xfrm>
              <a:off x="91620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Rectangle 87"/>
            <p:cNvSpPr/>
            <p:nvPr/>
          </p:nvSpPr>
          <p:spPr>
            <a:xfrm>
              <a:off x="365940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9" name="Rectangle 88"/>
            <p:cNvSpPr/>
            <p:nvPr/>
          </p:nvSpPr>
          <p:spPr>
            <a:xfrm>
              <a:off x="7545600" y="472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Dựa vào bảng hệ thống thông tin</a:t>
            </a:r>
            <a:r>
              <a:rPr b="0" lang="vi-VN" sz="2600" spc="-1" strike="noStrike">
                <a:solidFill>
                  <a:srgbClr val="009900"/>
                </a:solidFill>
                <a:latin typeface="Arial"/>
              </a:rPr>
              <a:t> 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bản mô tả, bản yêu cầu và bản tiêu chuẩ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3 yếu tố cơ bản của hệ thống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ác tiêu chuẩ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o lường thực hiện theo tiêu thức trong tiêu chuẩn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tin phản hồi giữa người quản lý và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Chuẩn bị biểu mẫu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4" name="AutoShape 57"/>
          <p:cNvSpPr/>
          <p:nvPr/>
        </p:nvSpPr>
        <p:spPr>
          <a:xfrm>
            <a:off x="457200" y="1828800"/>
            <a:ext cx="6019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phù hợp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in cậ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hực tiễ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được chấp nhậ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nhạy cả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7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9" name="AutoShape 57"/>
          <p:cNvSpPr/>
          <p:nvPr/>
        </p:nvSpPr>
        <p:spPr>
          <a:xfrm>
            <a:off x="457200" y="1828800"/>
            <a:ext cx="6248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9:19:05Z</dcterms:created>
  <dc:creator>TUAN HANH</dc:creator>
  <dc:description/>
  <dc:language>en-US</dc:language>
  <cp:lastModifiedBy>TUAN HANH</cp:lastModifiedBy>
  <dcterms:modified xsi:type="dcterms:W3CDTF">2010-05-04T08:32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