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C073-19CF-4AA0-8AC1-B2F73D5B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47D9-AEB7-4689-95C8-13FEB539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4159-D633-4185-857D-A433D5D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9036-8EAD-4B43-9BD6-2BDACADB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D08B-4E94-45BD-9AFF-22C24E03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29EF-CE1F-4F37-BF74-35443E7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3A4E-AB89-43C8-BA4A-E3903793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AA1D-5D8B-4020-8CEC-7D6B8A8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0293-EDCF-4B80-89DA-0870492C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43F-32A0-4FBD-AFCC-8F9380D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1DD-CC01-439C-879B-1D940EB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151E-B9CD-4DD4-8595-D5A4A5E0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37E-043C-4DFC-84AA-9F1CF00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D06-AA68-4E7B-9ACD-1EE14FC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9DE-F898-4A8F-9FCC-FD118DFE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A93-1FB9-49D7-A94E-94E21562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F121-D826-4396-953A-433B30FD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28E5-8C78-43BC-9FA1-2112F93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561C-19BA-4B62-9B4E-4CCC00B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C363-B054-44A5-A51D-5FAE47CA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58B4-8CE8-409C-B3A2-7C6A931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993F-25ED-471D-8342-A4FB055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AE17-F7CE-47C2-BF9C-BE76B0C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9F55-301E-454F-ACC8-8212075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4709-4641-4C7B-B430-E20A8148BCC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5C5-DFC0-4EA2-822D-D6B6CE632AC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2822400" y="103500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224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YỂN MỘ VÀ LỰA CHỌN</a:t>
            </a: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 NGUỒN NHÂN LỰ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21337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Lợi ích:</a:t>
            </a:r>
            <a:br>
              <a:rPr sz="2400"/>
            </a:b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ết được năng lực và phẩm chất của nhân viê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Nhân viên nắm bắt và thực hiện công việc nhanh hơ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iết kiệm thời gian và chi phí tuyển dụng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ạo cơ hội thăng tiến cho nhân viên.</a:t>
            </a:r>
            <a:br>
              <a:rPr sz="2400"/>
            </a:br>
            <a:br>
              <a:rPr sz="1000"/>
            </a:b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Nhân viên làm việc theo khuôn rập, không sáng tạo, thi đua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Thực hiện không tốt =&gt; mất đoàn kết nội bộ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518184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41148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895480"/>
            <a:ext cx="716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Một số nguồn bên ngoài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bạn bè, người thân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nhân viên cũ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Ứng viên do quảng c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u hút từ sự kiện đặc biệt(hội chợ)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các trường đại học, cao đẳ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666880"/>
            <a:ext cx="84981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u hút nhiều nhân tài tham gia công 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ạo phong cánh làm việc mới mẻ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Phát triển kỹ năng, kinh nghiệm cho 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hi phí đào tạo, hiệu suất công việc ca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  Tốn nhiều thời gian và chi phí tuyển dụng và thử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ơ hội thăng tiến cho nv trong tổ chứ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Ứng viên cần thời gian thích ứng công việc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Lựa chọn được ứng viên phù hợp công việc khó khăn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666880"/>
            <a:ext cx="8001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1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ập kế hoạc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2</a:t>
            </a:r>
            <a:r>
              <a:rPr b="0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Lựa chọn giải pháp tìm kiếm người xin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3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quá trìn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4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i pháp thay thế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1752480"/>
            <a:ext cx="45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QUY TRÌN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 QUY TRÌNH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752480"/>
            <a:ext cx="51051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1. LẬP KẾ HOẠC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666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vị trí, số lượng người cần tuyể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guồn tuyển mộ và phương pháp tuyển mộ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ành lập hội đồng tuyển dụ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thời gian, địa điểm, 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ắm rõ các chính sách, mục tiêu, quy định pháp chế của nhà nước và tổ chứ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XÁC ĐỊNH TỶ LỆ SÀNG LỌC QUA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thị trường lao động (cung- cầu lao động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chất lượng của NNL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mức độ phức tạp của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tâm lý chọn nghề của tập thể người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inh nghiệm tổ chức trong công tác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600200"/>
            <a:ext cx="5410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3 CÁC HÌNH THỨC THU HÚT NN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giới thiệu của cán bộ công nhân viên chức trong và ngoài D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quảng c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uyển trực tiếp từ các trường Đại học, cao đẳng, trung cấp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hội chợ việc là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yền thông, internet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600200"/>
            <a:ext cx="5943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4. ĐÁNH GIÁ QUÁ TRÌNH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Số lượng hồ sơ dự tuyể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ời gian để thực hiện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600200"/>
            <a:ext cx="6553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5 GIẢI PHÁP THAY THẾ CHO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057400"/>
            <a:ext cx="66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Làm thêm gi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Nhờ giúp tạm thờ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Hợp đồng thầu lạ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Thuê lao động từ công ty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2057400"/>
            <a:ext cx="45720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KHÁI NIỆM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52680"/>
            <a:ext cx="6933960" cy="2286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0516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uyển chọn là quá trình đánh giá và chọn lọc kỹ lưỡng các ứng viên phù hợp với yêu cầu công việc đặt ra của tổ chức”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 VAI TRÒ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ưa ra các quyết định tuyển dụng đúng đắ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ựa chọn người có kỹ năng phù hợp với chiến lược và mục tiêu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m chi phí và rủi ro trong quá trình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Ảnh hưởng đến chiến lược kinh doanh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mức độ thông tin chính xác và khoa học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Xuất phát từ kế hoạch sản xuất kinh doanh và kế họach NN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ừời có trình độ chuyên môn-&gt; đạt năng suất và hiệu suất công tác ca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ười có tinh thần và trách nhiệm làm việc cao, gắn bó với công việc,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 CÁC YÊU CẦU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4114800"/>
            <a:ext cx="2666880" cy="1828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 QUY TRÌ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7524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iếp nhận Hồ sơ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3623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sơ bộ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97180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rắc nghiệ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5812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chọn lọ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41911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Xác minh, điều t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8769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Kiểm tra sức khỏ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5627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Hướng dẫn hội nhậ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57440" y="1980720"/>
            <a:ext cx="3352680" cy="124308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NI-Times"/>
              </a:rPr>
              <a:t> </a:t>
            </a:r>
            <a:r>
              <a:rPr b="0" lang="vi-VN" sz="2000" spc="-1" strike="noStrike" u="sng">
                <a:solidFill>
                  <a:srgbClr val="003300"/>
                </a:solidFill>
                <a:uFillTx/>
                <a:latin typeface="Arial"/>
              </a:rPr>
              <a:t>Lưu ý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3300"/>
                </a:solidFill>
                <a:latin typeface="Arial"/>
              </a:rPr>
              <a:t>Quy trình tuyển dụng có thể thay đổi linh họat tùy thuộc đặc điểm và vị trí công việc cầ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28600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954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505320"/>
            <a:ext cx="152640" cy="759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114800"/>
            <a:ext cx="15264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7242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4100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4084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ọn ra hồ sơ đạt yêu cầu dựa trên biểu mẫu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oại bỏ các ứng viên yếu kém, không trung thự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iểm tra thông tin trong hồ sơ dự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ứng viên đạt yêu cầu tham gia tiếp phần kiểm tra, trắc nghiệm,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600200"/>
            <a:ext cx="40384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1 PHỎNG VẤN SƠ B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o ứng viên làm kiểm tra/ trắc nghiệ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ó thể dùng các dạng kiểm tra/ trắc nghiệm sau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IQ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ỹ năng, chuyên mô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iến thức tổng qua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âm lý, tính c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hành tích,vv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báo ứng viên đạt yêu cầu tham gia phỏng vấn tuyển chọ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600200"/>
            <a:ext cx="4648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2. KIỂM TRA, TRẮC NGHIỆ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3300"/>
                </a:solidFill>
                <a:uFillTx/>
                <a:latin typeface="Arial"/>
              </a:rPr>
              <a:t>Mục tiêu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u thập thông tin về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Giới thiệu về công 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ung cấp thông tin cần thiết cho các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iết lập quan hệ, tăng khả năng giao tiếp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Các dạng phỏng vấ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mẫu/ không mẫ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tình huố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nhó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hội đồng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căng thẳng,vv.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480060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Trình tự phỏng vấn gồ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Lên kế hoạch phỏng v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Chuẩn bị và lựa chọn bản câu hỏi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Xây dựng hệ thống thang điểm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Tiến hà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3300"/>
                </a:solidFill>
                <a:uFillTx/>
                <a:latin typeface="Arial"/>
              </a:rPr>
              <a:t>Chú ý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ần chuẩn bị các bước theo đúng quy trì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ặt câu hỏi, lắng nghe, và quan sát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Xác minh năng lực, lòng trung thành, trình độ, lý lịch cá nhân của ứng viên qu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ông ty cũ của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ịa phươ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rường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ông báo cho ứng viên trúng tuyể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tiêu chuẩn về thể lực cho các yêu cầu vị trí công việc cụ thể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6002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4. XÁC MINH, ĐIỀU TRA 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5 KIỂM TRA SỨC KHỎ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nhân viên mới với các thành viên cũ trong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Hướng dẫn công việc, nhiệm vụ cần phải thực hiệ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ực hiện thử việc dựa theo bảng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yết định tuyển dụng chính thức và ký hợp đồng lao động dài hạ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6. HƯỚNG DẪN HỘI NHẬ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UỒN NHÂN LỰC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1460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Hiểu được khái niệm và vai trò của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NN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Các nhân tố ảnh hưởng đến quá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Quy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Đánh giá kết quả tuyển dụng và thực hiện bố trí nhân sự</a:t>
            </a:r>
            <a:br>
              <a:rPr sz="2400"/>
            </a:b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981080"/>
            <a:ext cx="426744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HÁI QUÁT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TUYỂN DỤ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1337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Là quá trình bao gồm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mộ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chọ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Bố trí</a:t>
            </a:r>
            <a:r>
              <a:rPr b="0" i="1" lang="vi-VN" sz="2800" spc="-1" strike="noStrike">
                <a:solidFill>
                  <a:srgbClr val="0033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úng được liên kết chặt chẽ với nhau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312408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uyển mộ là quá trình thu hút những ứng viên có năng lực phù hợp tham gia vào quá trình tuyển chọn của công ty.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44197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1. KHÁI NIỆM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200000">
            <a:off x="-722160" y="262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228600"/>
            <a:ext cx="8458200" cy="5943600"/>
            <a:chOff x="380880" y="228600"/>
            <a:chExt cx="8458200" cy="5943600"/>
          </a:xfrm>
        </p:grpSpPr>
        <p:grpSp>
          <p:nvGrpSpPr>
            <p:cNvPr id="126" name=""/>
            <p:cNvGrpSpPr/>
            <p:nvPr/>
          </p:nvGrpSpPr>
          <p:grpSpPr>
            <a:xfrm>
              <a:off x="380880" y="228600"/>
              <a:ext cx="8458200" cy="5943600"/>
              <a:chOff x="380880" y="228600"/>
              <a:chExt cx="8458200" cy="5943600"/>
            </a:xfrm>
          </p:grpSpPr>
          <p:sp>
            <p:nvSpPr>
              <p:cNvPr id="127" name=""/>
              <p:cNvSpPr/>
              <p:nvPr/>
            </p:nvSpPr>
            <p:spPr>
              <a:xfrm>
                <a:off x="380880" y="609480"/>
                <a:ext cx="609840" cy="54864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7920" y="4572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Nhiều người tham gi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920" y="990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Tỷ lệ người được chấp nhậ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7920" y="1523880"/>
                <a:ext cx="5181480" cy="507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rình độ lành nghề c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7920" y="2133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ác vấn đề tồn tại công việc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7920" y="26668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ung lao động- mức lươ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7920" y="32004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Mức lương hấp dẫ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7339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ay nghề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42670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Giảm thời gian và chi phí đào tạo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48006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Bố trí công việc thích hợp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7920" y="5334120"/>
                <a:ext cx="5181480" cy="8380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Hình ảnh công ty ảnh hưởng số lượng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đơn xin dự tuyển của ứng viê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0280" y="2286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uyển chọ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10280" y="1600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ánh giá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công việ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0280" y="2743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hù l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3733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ào tạo và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Phát triể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4876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Lao độ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29400" y="6858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29400" y="18288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29400" y="28954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29400" y="396252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29400" y="50292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990720" y="76212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990720" y="1143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990720" y="2286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990720" y="3429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990720" y="4495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990720" y="5638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-1485720" y="2780640"/>
              <a:ext cx="434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>
                  <a:solidFill>
                    <a:srgbClr val="003300"/>
                  </a:solidFill>
                  <a:latin typeface="Arial"/>
                </a:rPr>
                <a:t>TUYỂN MỘ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66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ỐI QUAN HỆ TUYỂN MỘ VÀ CHỨC NĂNG KHÁ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146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u hút những người tài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Bổ nhiệm và bố trí lại nhân sự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ích thích tinh thần làm việc, tính sáng tạo, đạt hiệu quả công việc cao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ạo nguồn sinh lực mới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Xây dựng và phát triển văn hóa tổ chức tốt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ăng lợi thế cạnh tranh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00200"/>
            <a:ext cx="48769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 MỤC TIÊU CỦA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523880"/>
            <a:ext cx="7238880" cy="609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.3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CÁC NHÂN TỐ ẢNH HƯỞNG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90720" y="225576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Uy tín của doanh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ính sách quản lý nhân sự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an hệ với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ài chính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Mối quan tâm giữa các ngành nghề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ị trường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ối thủ cạnh tranh cùng ngàn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60020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 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048120"/>
            <a:ext cx="79246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Ứng viên là nhân viên bên trong công ty. Họ đượ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từ cán bộ, công nhân trong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 công khai các chức danh     cần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ề bạt dựa trên thông tin về quá trình làm việc, trình độ, thành tích cá nhân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62320"/>
            <a:ext cx="403848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7:36:44Z</dcterms:created>
  <dc:creator>TUAN HANH</dc:creator>
  <dc:description/>
  <dc:language>en-US</dc:language>
  <cp:lastModifiedBy>TUAN HANH</cp:lastModifiedBy>
  <dcterms:modified xsi:type="dcterms:W3CDTF">2010-05-04T07:41:4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