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0CB0-6BE0-47C9-89AF-160FC57C9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29D2-A6AE-4487-A633-6030F9C71A72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5066-94CF-41E0-8A38-E517D3AF9EBC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2EEB-1B53-487C-B658-F5FEA1E66E8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BD09-793E-4AE8-A2FA-69E8B1D4F8C7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58A0-F6C9-4412-AFD8-8A5E45F40A9B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22EB-7266-48CB-8D2C-CACFBEAF57FF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D488-3F78-47BF-BB3F-0FCEC611204F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74DB-BA99-4CC3-975E-FAAC1D44F43F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3BF9-CC87-41C6-AC6C-CF842AF4C04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F7E3-E0DE-40D4-BAD2-509A72F4E1FC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598B-9857-41CF-B1C2-6FB162D9311C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49BB-FF1D-4865-8F4C-2EAAF2FAAC00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C452-4AB3-4D09-8DEE-D2D7D80D1693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CF6F-022E-410B-B8D6-EEB50147A25E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20A0-E695-4FF0-B7C2-543EE91D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18CF9-86A7-478B-A392-188ADE21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0985-9C86-4D04-9D2B-ACBBB5F5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3AB6C-D234-4B62-98F9-22292B13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7CA1-7359-4BBB-8612-EEED333E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AE6C-A300-46E7-B7EF-EBD99A16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DB6B-8743-4809-8B09-C1CB2C14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7CCB-F01D-4475-8E7A-7DF3515F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16C4-2189-44D3-9938-9833939B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B689-489A-4C9B-9586-178DDCA2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AC2F-B68D-421D-AB3E-18A294B2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D0E3-C65D-49B5-BA8C-8C65896B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0B12-9BA1-4595-A6D6-BCBCF03A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194A-B4F7-4A2B-B91B-BA4708EE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670C-F6B7-4724-AFB5-C3AF6F99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FE09-9472-4F5F-9B3B-25AF5E1E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81CC-175E-47AE-A4DB-3A571BFB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C970-0964-4616-95A2-7A3A0B2B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82DA-FA7D-403E-A3BD-C57CBF23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4543C-FFB8-4B16-B90A-C1DF8C57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DDF2-BD7E-4B30-B051-E40BDC13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7C89-9CDE-44F8-A341-C06949B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5CE8-D1F3-4807-9C8E-6C76C0A4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C964-1786-4110-ADAD-0CDA0ACB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4F25-10B4-481A-B2FE-C0CDFD498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DB0F-585C-4259-86EE-EAF62BC6CA18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152280" y="820800"/>
            <a:ext cx="89154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800" spc="-1" strike="noStrike">
                <a:solidFill>
                  <a:srgbClr val="ffff00"/>
                </a:solidFill>
                <a:latin typeface="Arial"/>
              </a:rPr>
              <a:t>ĐÀO TẠO VÀ PHÁT TRIỂN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800" spc="-1" strike="noStrike">
                <a:solidFill>
                  <a:srgbClr val="ffff00"/>
                </a:solidFill>
                <a:latin typeface="Arial"/>
              </a:rPr>
              <a:t>NGUỒN NHÂN LỰC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2975040" y="97488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66"/>
                </a:solidFill>
                <a:latin typeface="Arial"/>
              </a:rPr>
              <a:t>Chương 5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4343400" y="5105520"/>
            <a:ext cx="3962520" cy="533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KHOA QUẢN TRỊ KINH DOA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5334120" y="5715000"/>
            <a:ext cx="2971800" cy="3808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GV. LÊ THỊ HẠ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88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vi-VN" sz="2600" spc="-1" strike="noStrike" u="sng">
                <a:solidFill>
                  <a:srgbClr val="ff3300"/>
                </a:solidFill>
                <a:uFillTx/>
                <a:latin typeface="Arial"/>
              </a:rPr>
              <a:t>Phương thức xác định nhu cầu đào tạo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rao đổi với quản lý các bộ phậ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Giám sát tình hình họat động của nhân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ỏng vấ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Dùng phiếu điều tra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ân tích các vấn đề của nhó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ân tích các báo cáo/ ghi chép về kết quả thực hiện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63" name="Group 6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64" name="Rectangle 7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6" name="Rectangle 7"/>
          <p:cNvSpPr/>
          <p:nvPr/>
        </p:nvSpPr>
        <p:spPr>
          <a:xfrm>
            <a:off x="533520" y="1752480"/>
            <a:ext cx="73152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XÁC ĐỊNH NHU CẦU &amp; MỤC TIÊU ĐÀO TẠO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3300"/>
                </a:solidFill>
                <a:uFillTx/>
                <a:latin typeface="Arial"/>
              </a:rPr>
              <a:t>Xác định mục tiêu đào tạo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Nhân viên sẽ tiếp thu được kiến thức và kỹ năng gì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của nhân viên được cải tiến ra sao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Xác định dựa trên tiêu chí 5W+1H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hất lượng NNL và hiệu quả chiến lược kinh doanh của doanh nghiệp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69" name="Rectangle 7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1" name="Rectangle 7"/>
          <p:cNvSpPr/>
          <p:nvPr/>
        </p:nvSpPr>
        <p:spPr>
          <a:xfrm>
            <a:off x="609480" y="1676520"/>
            <a:ext cx="731520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XÁC ĐỊNH NHU CẦU &amp; MỤC TIÊU ĐÀO TẠO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6360" indent="-306360"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Phân lọai các hình thức đào tạo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định hướng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mục đích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tổ chức hình thức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địa điểm và nơi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đối tượng học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Chọn phương thức đào tạo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ào tạo tại chỗ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ào tạo tập trung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74" name="Rectangle 5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5" name="Rectangle 6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6" name="Rectangle 7"/>
          <p:cNvSpPr/>
          <p:nvPr/>
        </p:nvSpPr>
        <p:spPr>
          <a:xfrm>
            <a:off x="609480" y="1447920"/>
            <a:ext cx="47246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ẬP KẾ HOẠCH ĐÀO TẠ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762120" y="2514600"/>
            <a:ext cx="1523880" cy="12193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TẠI CHỖ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85800" y="2454120"/>
            <a:ext cx="8001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hân viên tham gia khóa học ngắn hạn,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ổ chức tại doanh nghiệp, nắm bắt công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việc và kỹ năng làm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Phương pháp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minh họa, kèm cặp, đỡ đầu, luân chuyển công việc,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Ưu điểm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hi phí thấp, phù hợp đào tạo cho nhân viên mới, thuyên chuyển công việc, tạo ra sản phẩm,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hân viên bị chi phối, không tập trung vào công việ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80" name="Rectangle 6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2" name="Rectangle 7"/>
          <p:cNvSpPr/>
          <p:nvPr/>
        </p:nvSpPr>
        <p:spPr>
          <a:xfrm>
            <a:off x="609480" y="1600200"/>
            <a:ext cx="51818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ẬP KẾ HOẠCH ĐÀO TẠO 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3"/>
          <p:cNvSpPr/>
          <p:nvPr/>
        </p:nvSpPr>
        <p:spPr>
          <a:xfrm>
            <a:off x="685800" y="2362320"/>
            <a:ext cx="1676520" cy="121896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TẬP TRUNG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06400" y="2460600"/>
            <a:ext cx="780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Nhân viên tham gia khóa học dài hạn,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nhằm nâng cao chuyên môn và được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rang bị kiên thức mới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09480" y="36925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Phương pháp</a:t>
            </a:r>
            <a:r>
              <a:rPr b="0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huyết trình/ hội thảo, thảo luận nhóm, cử đi đào tạo, đào tạo từ xa, mô phỏng, giải quyết tình huống,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Ưu điểm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gười học không bị chi phối bởi công việc, nhân viên có động lực học tập tốt hơ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</a:t>
            </a:r>
            <a:r>
              <a:rPr b="0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hi phí cao, gián đọan công việ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87" name="Rectangle 7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9" name="Rectangle 7"/>
          <p:cNvSpPr/>
          <p:nvPr/>
        </p:nvSpPr>
        <p:spPr>
          <a:xfrm>
            <a:off x="609480" y="1600200"/>
            <a:ext cx="525780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ẬP KẾ HOẠCH ĐÀO TẠO 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440" y="26665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ổ chức đào tạo theo đúng kế hoạch đề r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ường xuyên theo dõi tiến độ thực hiện và đưa ra những điều chỉnh kế hoạch nếu cần thiế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92" name="Rectangle 7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94" name="Rectangle 2"/>
          <p:cNvSpPr/>
          <p:nvPr/>
        </p:nvSpPr>
        <p:spPr>
          <a:xfrm>
            <a:off x="762120" y="1981080"/>
            <a:ext cx="56386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3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HỰC HIỆN KẾ HOẠCH ĐÀO TẠ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609480" y="1828800"/>
            <a:ext cx="54104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ÁNH GIÁ KẾT QUẢ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ÀO TẠ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457200" y="2133720"/>
            <a:ext cx="8153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Đánh giá hiệu quả đào tạo thông qua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Bảng khảo sát người họ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Kiểm tra sau cuối mỗi khóa họ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So sánh hiệu quả làm việc của nhân viên trước và sau đào tạo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Đề nghị cấp trên đánh giá kết quả làm việc của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	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nhân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97" name="Group 19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98" name="Rectangle 20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9" name="Rectangle 21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533520" y="2438280"/>
            <a:ext cx="7924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Phân tích chi phí và lợi íc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Giá trị gia tăng do đào tạo: tăng năng suất, sản lượng, chất lượng sản phẩ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ổng chi phí đào tạo: Thuê giáo viên, địa điểm, thiết bị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990720" y="2895480"/>
            <a:ext cx="67816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Rectangle 26"/>
          <p:cNvSpPr/>
          <p:nvPr/>
        </p:nvSpPr>
        <p:spPr>
          <a:xfrm>
            <a:off x="3733920" y="2925720"/>
            <a:ext cx="413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3300"/>
                </a:solidFill>
                <a:latin typeface="Arial"/>
              </a:rPr>
              <a:t>Giá trị gia tăng do 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4055760" y="34592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3300"/>
                </a:solidFill>
                <a:latin typeface="Arial"/>
              </a:rPr>
              <a:t>Tổng chi phí 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3873600" y="3429000"/>
            <a:ext cx="3886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851040" y="3124080"/>
            <a:ext cx="311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3300"/>
                </a:solidFill>
                <a:latin typeface="Arial"/>
              </a:rPr>
              <a:t>Hiệu quả đào tạo =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06" name="Group 30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207" name="Rectangle 31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8" name="Rectangle 32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09" name="Rectangle 33"/>
          <p:cNvSpPr/>
          <p:nvPr/>
        </p:nvSpPr>
        <p:spPr>
          <a:xfrm>
            <a:off x="609480" y="1752480"/>
            <a:ext cx="55627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ÁNH GIÁ KẾT QUẢ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ÀO TẠO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1920" y="24379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Giúp cho mỗi người khám phá khả năng cá nhân của họ để có lựa chọn nghề nghiệp đúng đắn và chương trình đào tạo phù hợ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11" name="Group 30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212" name="Rectangle 31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14" name="Rectangle 33"/>
          <p:cNvSpPr/>
          <p:nvPr/>
        </p:nvSpPr>
        <p:spPr>
          <a:xfrm>
            <a:off x="609480" y="1752480"/>
            <a:ext cx="5029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4038480"/>
            <a:ext cx="1752480" cy="1676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Xác định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và yêu cầ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4191120"/>
            <a:ext cx="297180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ìm hiều năng khiế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guyện vọng cá nhâ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4038480"/>
            <a:ext cx="1752840" cy="1676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Đưa ra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hương trình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Hỗ trợ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952880"/>
            <a:ext cx="9144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4876920"/>
            <a:ext cx="6858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0000"/>
                </a:solidFill>
                <a:uFillTx/>
                <a:latin typeface="Arial"/>
              </a:rPr>
              <a:t>Xác định yêu cầu công việc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quản trị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kỹ thuật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bán hàng/ Marketi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nghiệp vụ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quan hệ khách hàng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1" name="Group 30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222" name="Rectangle 31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3" name="Rectangle 32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4" name="Rectangle 33"/>
          <p:cNvSpPr/>
          <p:nvPr/>
        </p:nvSpPr>
        <p:spPr>
          <a:xfrm>
            <a:off x="685800" y="1828800"/>
            <a:ext cx="51814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TÀI LIỆU THAM KHẢO</a:t>
            </a:r>
            <a:br>
              <a:rPr sz="4000"/>
            </a:b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*********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3886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Ts. Trần Kim Dung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giáo trình QTNNL, NXB thống kê – 2006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Ts. Nguyễn Ngọc Quân và Ths Nguyễn Văn Điền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giáo trình QTNNL, NXB trường ĐH Kinh Tế Quốc Dân- 2007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Một số tài liệu tham khảo khá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0000"/>
                </a:solidFill>
                <a:uFillTx/>
                <a:latin typeface="Arial"/>
              </a:rPr>
              <a:t>Tìm hiểu năng khiếu cá nhân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giao tiế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đàm phán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phân tíc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kỹ thuật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nghiên cứu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viết lách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ngoại ngữ,.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6" name="Group 30"/>
          <p:cNvGrpSpPr/>
          <p:nvPr/>
        </p:nvGrpSpPr>
        <p:grpSpPr>
          <a:xfrm>
            <a:off x="685800" y="457200"/>
            <a:ext cx="8153280" cy="1068840"/>
            <a:chOff x="685800" y="457200"/>
            <a:chExt cx="8153280" cy="1068840"/>
          </a:xfrm>
        </p:grpSpPr>
        <p:sp>
          <p:nvSpPr>
            <p:cNvPr id="227" name="Rectangle 31"/>
            <p:cNvSpPr/>
            <p:nvPr/>
          </p:nvSpPr>
          <p:spPr>
            <a:xfrm>
              <a:off x="685800" y="5331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685800" y="45720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9" name="Rectangle 33"/>
          <p:cNvSpPr/>
          <p:nvPr/>
        </p:nvSpPr>
        <p:spPr>
          <a:xfrm>
            <a:off x="685800" y="1905120"/>
            <a:ext cx="51814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Chương trình hỗ trợ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Hội thảo và cố vấn nghề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ổ biến thông tin về công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ản hồi cho nhân viên về năng lực làm việc và hướng phát triển nghề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ặt ra tiêu chuẩn và hướng dẫn thực hiệ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Luân chuyên nhân viê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uyến khích cơ hội học tập trong và ngoài công ty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685800" y="380880"/>
            <a:ext cx="8153280" cy="1068840"/>
            <a:chOff x="685800" y="380880"/>
            <a:chExt cx="8153280" cy="1068840"/>
          </a:xfrm>
        </p:grpSpPr>
        <p:sp>
          <p:nvSpPr>
            <p:cNvPr id="232" name="Rectangle 31"/>
            <p:cNvSpPr/>
            <p:nvPr/>
          </p:nvSpPr>
          <p:spPr>
            <a:xfrm>
              <a:off x="68580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3" name="Rectangle 32"/>
            <p:cNvSpPr/>
            <p:nvPr/>
          </p:nvSpPr>
          <p:spPr>
            <a:xfrm>
              <a:off x="68580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34" name="Rectangle 33"/>
          <p:cNvSpPr/>
          <p:nvPr/>
        </p:nvSpPr>
        <p:spPr>
          <a:xfrm>
            <a:off x="609480" y="1828800"/>
            <a:ext cx="51818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6172200"/>
            <a:ext cx="266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3300"/>
                </a:solidFill>
                <a:latin typeface="Arial"/>
              </a:rPr>
              <a:t>*THE END*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6172200"/>
            <a:ext cx="281952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5"/>
          <p:cNvSpPr/>
          <p:nvPr/>
        </p:nvSpPr>
        <p:spPr>
          <a:xfrm>
            <a:off x="609480" y="1905120"/>
            <a:ext cx="37339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MỤC TIÊU CHƯƠ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3581280" y="533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914400" y="2743200"/>
            <a:ext cx="7162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Hi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ểu khái niệm và mục đích của đào tạo và phát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triển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Phân loại các hình thức đào tạo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Tiến trình đào tạo và phát triển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Đánh giá hiệu quả đào tạo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Rectangle 36"/>
          <p:cNvSpPr/>
          <p:nvPr/>
        </p:nvSpPr>
        <p:spPr>
          <a:xfrm>
            <a:off x="914400" y="1066680"/>
            <a:ext cx="76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400" spc="-1" strike="noStrike">
                <a:solidFill>
                  <a:srgbClr val="ff0000"/>
                </a:solidFill>
                <a:latin typeface="Arial"/>
              </a:rPr>
              <a:t>ĐÀO TẠO VÀ PHÁT TRIỂN NNL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3"/>
          <p:cNvSpPr/>
          <p:nvPr/>
        </p:nvSpPr>
        <p:spPr>
          <a:xfrm>
            <a:off x="609480" y="2057400"/>
            <a:ext cx="65534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1. KHÁI NIỆM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 ĐÀO TẠO VÀ PHÁT TRIỂ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76320" y="2514600"/>
            <a:ext cx="86104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Đào tạo: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là quá trình được hoạch định và tổ chức nhằm trang bị / nâng cao kiến thức và kỹ năng cụ thể cho nhân viên nhằm nâng cao hiệu quả làm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Phát triển: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là quá trình chuẩn bị và bồi dưỡng năng lực cần thiết cho tổ chức trong tương la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Rectangle 71"/>
          <p:cNvSpPr/>
          <p:nvPr/>
        </p:nvSpPr>
        <p:spPr>
          <a:xfrm>
            <a:off x="609480" y="685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Rectangle 72"/>
          <p:cNvSpPr/>
          <p:nvPr/>
        </p:nvSpPr>
        <p:spPr>
          <a:xfrm>
            <a:off x="609480" y="6094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ĐÀO TẠO VÀ PHÁT TRIỂN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1"/>
          <p:cNvSpPr/>
          <p:nvPr/>
        </p:nvSpPr>
        <p:spPr>
          <a:xfrm>
            <a:off x="533520" y="2606760"/>
            <a:ext cx="80769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cá nhân</a:t>
            </a:r>
            <a:r>
              <a:rPr b="0" i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r>
              <a:rPr b="0" lang="vi-VN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hỏa mãn nhu cầu học tậ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hay đổi hành vi nghề nghiệp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ăng cơ hội thăng tiến và phát triển nghề nghiệp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doanh nghiệp:</a:t>
            </a:r>
            <a:r>
              <a:rPr b="1" i="1" lang="vi-V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ăng hiệu quả công việc: tăng năng suất, chất lượng, tiết kiệm thời gian, chi phí,..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Duy trì và nâng cao chất lượng NNL, tăng lợi thế cạnh tranh cho doanh nghiệp trên thị trườ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ăng khả năng thích ứng với sự thay đổi của môi trường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AutoShape 44"/>
          <p:cNvSpPr/>
          <p:nvPr/>
        </p:nvSpPr>
        <p:spPr>
          <a:xfrm>
            <a:off x="609480" y="1828800"/>
            <a:ext cx="25909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00"/>
                </a:solidFill>
                <a:latin typeface="Arial"/>
              </a:rPr>
              <a:t>LỢI ÍCH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45720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Rectangle 60"/>
          <p:cNvSpPr/>
          <p:nvPr/>
        </p:nvSpPr>
        <p:spPr>
          <a:xfrm>
            <a:off x="609480" y="3808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ĐÀO TẠO VÀ PHÁT TRIỂN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7"/>
          <p:cNvSpPr/>
          <p:nvPr/>
        </p:nvSpPr>
        <p:spPr>
          <a:xfrm>
            <a:off x="76320" y="2819520"/>
            <a:ext cx="89154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Tốn kém chi phí (thuê giảng viên, cơ sở, thiết bị, tài liệu,...)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ián đọan công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Khó lựa chọn người hướng dẫn, phương pháp và đánh giá hiệu quả đào tạo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Nhân viên được đào tạo chuyển nơi làm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2" name="Group 64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33" name="Rectangle 65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4" name="Rectangle 66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5" name="AutoShape 44"/>
          <p:cNvSpPr/>
          <p:nvPr/>
        </p:nvSpPr>
        <p:spPr>
          <a:xfrm>
            <a:off x="762120" y="2057400"/>
            <a:ext cx="259056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00"/>
                </a:solidFill>
                <a:latin typeface="Arial"/>
              </a:rPr>
              <a:t>BẤT LỢ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85800" y="2295360"/>
          <a:ext cx="7731000" cy="3883320"/>
        </p:xfrm>
        <a:graphic>
          <a:graphicData uri="http://schemas.openxmlformats.org/drawingml/2006/table">
            <a:tbl>
              <a:tblPr/>
              <a:tblGrid>
                <a:gridCol w="4118040"/>
                <a:gridCol w="3612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ĐÀO TẠO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ÁT TRIỂ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áp ứng nhu cầu công việc hiện tại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áp ứng nhu cầu công việc trong tương lai.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p dụng cho nhân viên yếu về kỹ năng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p dụng cho cá nhân, nhóm và tổ chức.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ắc phục vấn đề hiện tại.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ẩn bị cho sự thay đổi trong tương lai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ắn hạ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ài hạ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 tính bắt buộc 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 tính tự nguyệ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154"/>
          <p:cNvSpPr/>
          <p:nvPr/>
        </p:nvSpPr>
        <p:spPr>
          <a:xfrm>
            <a:off x="5335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Rectangle 172"/>
          <p:cNvSpPr/>
          <p:nvPr/>
        </p:nvSpPr>
        <p:spPr>
          <a:xfrm>
            <a:off x="609480" y="3049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ĐÀO TẠO VÀ PHÁT TRIỂN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Rectangle 181"/>
          <p:cNvSpPr/>
          <p:nvPr/>
        </p:nvSpPr>
        <p:spPr>
          <a:xfrm>
            <a:off x="685800" y="1676520"/>
            <a:ext cx="7772400" cy="60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2.PHÂN BIỆT GIỮA ĐÀO TẠO VÀ PHÁT TRIỂ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609480" y="1676520"/>
            <a:ext cx="541044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QUY TRÌNH THỰC HIỆN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ÀO TẠ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Rectangle 34"/>
          <p:cNvSpPr/>
          <p:nvPr/>
        </p:nvSpPr>
        <p:spPr>
          <a:xfrm>
            <a:off x="685800" y="2514600"/>
            <a:ext cx="4648320" cy="76212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1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Xác định nhu cầ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ục tiêu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Rectangle 35"/>
          <p:cNvSpPr/>
          <p:nvPr/>
        </p:nvSpPr>
        <p:spPr>
          <a:xfrm>
            <a:off x="2133720" y="3429000"/>
            <a:ext cx="3733560" cy="674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2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Lập kế hoạch 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Rectangle 36"/>
          <p:cNvSpPr/>
          <p:nvPr/>
        </p:nvSpPr>
        <p:spPr>
          <a:xfrm>
            <a:off x="3581280" y="4267080"/>
            <a:ext cx="3657600" cy="674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3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Tiến hành 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Rectangle 37"/>
          <p:cNvSpPr/>
          <p:nvPr/>
        </p:nvSpPr>
        <p:spPr>
          <a:xfrm>
            <a:off x="5105520" y="5105520"/>
            <a:ext cx="3352680" cy="76176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4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Đánh giá 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5" name="Group 38"/>
          <p:cNvGrpSpPr/>
          <p:nvPr/>
        </p:nvGrpSpPr>
        <p:grpSpPr>
          <a:xfrm>
            <a:off x="1523880" y="3276720"/>
            <a:ext cx="609840" cy="304560"/>
            <a:chOff x="1523880" y="3276720"/>
            <a:chExt cx="609840" cy="304560"/>
          </a:xfrm>
        </p:grpSpPr>
        <p:sp>
          <p:nvSpPr>
            <p:cNvPr id="146" name="Line 39"/>
            <p:cNvSpPr/>
            <p:nvPr/>
          </p:nvSpPr>
          <p:spPr>
            <a:xfrm>
              <a:off x="1523880" y="3276720"/>
              <a:ext cx="0" cy="30456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7" name="Line 40"/>
            <p:cNvSpPr/>
            <p:nvPr/>
          </p:nvSpPr>
          <p:spPr>
            <a:xfrm>
              <a:off x="1523880" y="3581280"/>
              <a:ext cx="60984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2971800" y="4114800"/>
            <a:ext cx="609480" cy="304920"/>
            <a:chOff x="2971800" y="4114800"/>
            <a:chExt cx="609480" cy="304920"/>
          </a:xfrm>
        </p:grpSpPr>
        <p:sp>
          <p:nvSpPr>
            <p:cNvPr id="149" name="Line 42"/>
            <p:cNvSpPr/>
            <p:nvPr/>
          </p:nvSpPr>
          <p:spPr>
            <a:xfrm>
              <a:off x="2971800" y="4114800"/>
              <a:ext cx="0" cy="30492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0" name="Line 43"/>
            <p:cNvSpPr/>
            <p:nvPr/>
          </p:nvSpPr>
          <p:spPr>
            <a:xfrm>
              <a:off x="2971800" y="4419720"/>
              <a:ext cx="60948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1" name="Group 44"/>
          <p:cNvGrpSpPr/>
          <p:nvPr/>
        </p:nvGrpSpPr>
        <p:grpSpPr>
          <a:xfrm>
            <a:off x="4419720" y="4952880"/>
            <a:ext cx="609480" cy="304920"/>
            <a:chOff x="4419720" y="4952880"/>
            <a:chExt cx="609480" cy="304920"/>
          </a:xfrm>
        </p:grpSpPr>
        <p:sp>
          <p:nvSpPr>
            <p:cNvPr id="152" name="Line 45"/>
            <p:cNvSpPr/>
            <p:nvPr/>
          </p:nvSpPr>
          <p:spPr>
            <a:xfrm>
              <a:off x="4419720" y="4952880"/>
              <a:ext cx="0" cy="30492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3" name="Line 46"/>
            <p:cNvSpPr/>
            <p:nvPr/>
          </p:nvSpPr>
          <p:spPr>
            <a:xfrm>
              <a:off x="4419720" y="5257800"/>
              <a:ext cx="60948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55" name="Rectangle 48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160" y="24379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3300"/>
                </a:solidFill>
                <a:latin typeface="Arial"/>
              </a:rPr>
              <a:t>Đào tạo khi nào?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Mở rộng cơ cấu và chiến lược kinh doanh của công ty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hân viên thiếu kỹ năng, trình độ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Kết quả thực hiện công việc của nhân viên ké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Áp dụng kỹ thuât, công nghệ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hăng chức và thuyên chuyển NV sang vị trí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uyển nhân sự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Áp dụng thời kỳ tái đào tạo cho nhân viê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59" name="Rectangle 5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0" name="Rectangle 6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1" name="Rectangle 7"/>
          <p:cNvSpPr/>
          <p:nvPr/>
        </p:nvSpPr>
        <p:spPr>
          <a:xfrm>
            <a:off x="533520" y="1752480"/>
            <a:ext cx="68580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XÁC ĐỊNH NHU CẦU &amp; MỤC TIÊU ĐÀO TẠ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4:09:13Z</dcterms:created>
  <dc:creator>TUAN HANH</dc:creator>
  <dc:description/>
  <dc:language>en-US</dc:language>
  <cp:lastModifiedBy>TUAN HANH</cp:lastModifiedBy>
  <dcterms:modified xsi:type="dcterms:W3CDTF">2010-05-04T08:30:51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