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D706-9EC5-485A-8646-F3E5E0E4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AA21-435C-47BA-8447-C73003E9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4A9-C392-4B64-AB0B-18684D04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157-3B9F-4C3D-AB37-40FC962E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F69-E22B-4B6F-B4F7-04859B31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B33C-3F3B-45C6-BF6C-4C7750C8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115E-D5D5-41AC-9DBA-6315B52E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735-AE86-41CD-A280-251DC666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A66-9BD8-4D56-BC52-874EEA4D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3F79-59DF-421F-9C07-55FF4D5D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A36-1EA1-434C-B55D-0F1FD90B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F3F-C8E6-427E-8473-D78765DF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C119-08FD-4BE2-BB8E-F0C702241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10T23:58:40Z</dcterms:modified>
  <cp:revision>187</cp:revision>
  <dc:subject/>
  <dc:title>Diapositiva 1</dc:title>
</cp:coreProperties>
</file>