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284-DF88-41D4-8D4A-579A1623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BBFB-C598-4712-88E5-E30BE5EB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7C7F-8017-47D6-8D36-C19DF241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2337-473E-47DD-B777-26602A6B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C4CD-CA65-4CD4-9D46-A5162167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A8B8-DD9F-4A03-828D-6B675D0C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2BEA-40FE-4994-9A60-EE12D2D1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1AA7-F95C-4668-8E69-289DE823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65CC-A142-4F7A-A90A-CE220A72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B006-BCDD-408E-96DC-E8F513A3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A11E-98A5-4A52-B7B9-E98B9844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A5FD-104D-438B-B498-9061087C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ED7C-FB8E-4048-961E-BD0F6A789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3284280"/>
            <a:ext cx="496584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riajose</cp:lastModifiedBy>
  <dcterms:modified xsi:type="dcterms:W3CDTF">2009-12-13T22:10:16Z</dcterms:modified>
  <cp:revision>19</cp:revision>
  <dc:subject/>
  <dc:title>Diapositiva 1</dc:title>
</cp:coreProperties>
</file>