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5504-3C5C-412E-B873-67766182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394C-7415-4C54-98E2-82BD7858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8922-EEFC-4879-BB0E-F0C6DD25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1360-6F15-47CF-BBE0-0C55AB69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BB29-9A19-4A7B-BFBA-99FD5169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1515-464B-45FB-84AA-6976D1AC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096E-318A-4AC3-8C33-D87F61C1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5BE2-2DC8-4720-AD2D-BA044EAD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4111-708B-4756-B3CA-195B654F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CC2A-B6AC-47E9-9DF0-1A50E584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451F-C3D3-4C45-BA64-023C51A7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1F35-CBD4-43B0-9595-EBB9C77C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F6D8-E467-40F7-A198-6A8AE6AD8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Mai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0-08T20:15:09Z</dcterms:modified>
  <cp:revision>4</cp:revision>
  <dc:subject/>
  <dc:title>Diapositiva 1</dc:title>
</cp:coreProperties>
</file>