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20A78-503C-4ECB-A7A3-A14014399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9294E-4D20-4007-865F-CA8E046D6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578FA-F476-497E-92C5-35AD3F7F5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9480D-E22B-4058-87F8-214B91847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72122-2E32-486E-9C04-6589B6207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D09D9-401F-470C-A2DE-4F365B228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1E60B-6EC7-461F-BE4B-92E561641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DF42D-791E-4EE3-B872-1BD3D15D4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CA105-B9F7-4052-913F-5DAE82BB7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146DB-7894-459C-B13B-92799699A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DFF05-CFBE-4E47-83B7-B8F9EC48B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24389-88D2-4ADB-B394-24C8CD31A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03AE0-3784-4BE7-BEA2-A5E61D1FD1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278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11280" y="274320"/>
            <a:ext cx="80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10920" y="1773360"/>
            <a:ext cx="806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27T21:46:18Z</dcterms:created>
  <dc:creator>Mariajose</dc:creator>
  <dc:description/>
  <dc:language>en-US</dc:language>
  <cp:lastModifiedBy>Mariajose</cp:lastModifiedBy>
  <dcterms:modified xsi:type="dcterms:W3CDTF">2010-08-06T16:51:09Z</dcterms:modified>
  <cp:revision>10</cp:revision>
  <dc:subject/>
  <dc:title>Title</dc:title>
</cp:coreProperties>
</file>