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0E7D-2B78-46DC-AB2A-49529A71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854-2A94-4C38-997D-4904C046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F199-45C9-471D-B200-779ABF89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6C26-4418-4D08-96E4-2C9BF153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0DE-6D31-4105-B7AD-B003F6B4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B27-E136-4A21-937E-1CE6DB2E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7F7A-A053-489F-81BE-DED3D7AA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F55B-742B-4D15-A525-CD6A4A75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ECF6-D37E-43FF-9D3E-CA7EC2CF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66F9-E124-4A2C-B8B6-32E16276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C6C-587E-42BA-99E9-70811ABE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632D-42BA-469D-A148-CFC628C0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C6E3-4ADB-40E5-8717-597CA15F2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3284280"/>
            <a:ext cx="496584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2-13T22:10:16Z</dcterms:modified>
  <cp:revision>19</cp:revision>
  <dc:subject/>
  <dc:title>Diapositiva 1</dc:title>
</cp:coreProperties>
</file>