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DE15-47CE-4C05-BCC2-DAE20A42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3EE9-54FA-46D1-9116-845A64D3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DC7-6C0E-429E-8F8C-3C688DFE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5A38-6DF5-4657-BEA2-D235C963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CC45-D67C-4295-B03E-B2FCD32B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89A-E3C8-4225-A575-EFCD77EA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9683-4192-4EB7-8528-34953524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01AA-257A-4BA3-A05F-BF953871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9B60-8073-4741-8722-605D8854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91B0-C5EF-4D1A-9509-8961DAF6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7FFD-60A8-4735-8EF4-33C26226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6D46-6978-4BF4-A434-05FBAD02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CEBB-439C-4861-86FF-890CF53CE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6-04T15:17:45Z</dcterms:modified>
  <cp:revision>31</cp:revision>
  <dc:subject/>
  <dc:title>Diapositiva 1</dc:title>
</cp:coreProperties>
</file>