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7D39-C3B9-4521-96E1-BE3599FF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C1D-0FAE-4A56-A850-C3E82C0F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6B6B-FF7C-4093-B8C7-6D038A71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F6B-38BA-4669-A119-2810BED1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13B-0BA5-4A18-91A2-CE420009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653-89E5-4C88-88B0-634A10B5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6B7-499B-47FA-84B8-4BC7BEDD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FD7A-EE1C-433B-B940-BF1A27D8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C03-36AD-4484-A63F-EA3DC982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589D-9276-4ACC-AA5D-87796ADD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D4D-A730-4027-83CA-AE1F10A6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064-AB66-4B1C-8D4D-CCA3F76C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BEDC-2220-4922-B229-A2C1F958F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Mariajose</cp:lastModifiedBy>
  <dcterms:modified xsi:type="dcterms:W3CDTF">2010-08-06T16:51:09Z</dcterms:modified>
  <cp:revision>10</cp:revision>
  <dc:subject/>
  <dc:title>Title</dc:title>
</cp:coreProperties>
</file>