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6250-0D8D-4867-B762-B8631FC77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5E2D-9A72-4421-A458-CA35B94B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824F-32FD-4435-9485-BA6C9A024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807B-E9D8-41B6-8321-89FB8FFD8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C306-91CF-45EE-BB5D-B37CF348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B418-1467-4090-ABCB-6B1E56E0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1111-43DD-4753-9EF1-63C96072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653A-29BC-4D61-A924-5F48DA48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352E-0135-47A9-B542-C9D29594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96DA-BD45-4D08-9103-EE367DAF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1EE3-149C-4A6C-918E-4DA7B83E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8E54-D482-4A5D-B752-023DB5D5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6764-4A70-4E1D-84F1-0CADC9C21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8:52:54Z</dcterms:created>
  <dc:creator>Mariajose</dc:creator>
  <dc:description/>
  <dc:language>en-US</dc:language>
  <cp:lastModifiedBy>Mariajose</cp:lastModifiedBy>
  <dcterms:modified xsi:type="dcterms:W3CDTF">2010-01-04T18:55:45Z</dcterms:modified>
  <cp:revision>2</cp:revision>
  <dc:subject/>
  <dc:title>Diapositiva 1</dc:title>
</cp:coreProperties>
</file>