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FBA7-C2D1-4C6E-B2B2-DFE73D7C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7D1-3F15-4BA8-B627-3B55D7DC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EAB-E039-4460-93A0-7BB88BBB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369-9F40-4AB7-9C59-5BE638AD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60D-2A94-46A6-AF57-92F25DA1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F0DE-8D25-4F94-AA02-614D36CF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D769-144B-4EFC-BCC5-92E8EFC5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CEA-2937-413C-901B-A314CCD0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674-4F3C-43E2-B177-54CFC67F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57A-9F02-4CE5-8ABD-5DCB1FA9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B7A-3486-4E14-A2D8-DA5A5F86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90B-6E94-4079-87A9-8A26A829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DFE3-18AB-4308-959F-051D8308E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08T01:14:46Z</dcterms:modified>
  <cp:revision>180</cp:revision>
  <dc:subject/>
  <dc:title>Diapositiva 1</dc:title>
</cp:coreProperties>
</file>