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D0A1-2007-4405-89D1-7A4657E03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D71C-DC50-4A35-8541-B88D79D9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1B3E-3542-4E5D-B214-5A0DE131A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CA54-CF6A-4210-82EB-BD035F16C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D40D-F9C4-4F30-9A93-F588F828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D3D1-4CBF-4D9C-939E-230C220C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7E5B-DA31-47F4-AF97-F5FB8ADB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DE86-1ABC-4735-B02E-345B0721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60B3-3D09-4328-BE9B-E08B7D70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8B9B-309E-4893-AA7B-3B7D9D02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6731-50FA-470F-9FA8-60AC152F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57AB-CFA1-4A95-B60F-31818E18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0773-726B-44B8-B674-B8C08D71C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9-10T23:58:40Z</dcterms:modified>
  <cp:revision>187</cp:revision>
  <dc:subject/>
  <dc:title>Diapositiva 1</dc:title>
</cp:coreProperties>
</file>