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2F1E-D472-4BAD-B0ED-CD941159D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E484-7095-42ED-A1B9-022FA3D9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4AC9-7669-49A1-AFFC-447099180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F8F8-4898-4A70-A96A-F304D6FD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F98B-482B-454B-8DEC-CA610E10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C99E-F7B0-4E43-8F9B-37AE0C44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3EC2-6F55-4C99-9650-CBA6D012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5412-A41C-40BE-A64A-DE7B7D9F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DE61-EC4D-4ED1-A1DE-982AE777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A63A-DF16-4CDA-9F35-233DAE0D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3A1D-AE9C-4275-AB60-FBE2F306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E608-6DBF-4862-AA79-3CE15D5D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7F65-184F-427B-AD89-FF8E6143F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9-10T23:58:40Z</dcterms:modified>
  <cp:revision>187</cp:revision>
  <dc:subject/>
  <dc:title>Diapositiva 1</dc:title>
</cp:coreProperties>
</file>