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C4A-DCD0-4A1B-86ED-6D1CC1CA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FEC-551C-457D-A87C-AB6700AC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E781-C401-4FA6-BA52-6029D410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9BEF-37FD-4687-B743-5C54E73F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F0E-E1AA-4AA7-8883-209BF9A9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0F8-707C-4990-9347-7099AE53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C75D-B1FA-4F94-8A3E-C5DE12CA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EB5B-02EE-4CB1-99DD-676A4954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349-A129-4FC6-9279-E8494BCF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18EE-4F17-4804-9308-FB7A7CDA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0369-0F90-4BCA-B552-AE68914B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FFE-B97C-4F3B-A156-0759EA76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23AC-0007-4F78-B706-D58C5F5B6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04T15:17:45Z</dcterms:modified>
  <cp:revision>31</cp:revision>
  <dc:subject/>
  <dc:title>Diapositiva 1</dc:title>
</cp:coreProperties>
</file>