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788-49CF-401D-96AE-EBF16A92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9A1-267C-4EA6-A1C3-575930D8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F7F-9249-4112-9BF5-BCAC1B64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521-C461-43A9-BC1A-0FA227C1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E7C-4A7B-466B-B936-5F8F7013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95C-0DBA-44AD-B3CB-3C379580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902E-5C36-4171-8CD4-60DCD9CB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63B-3ACC-4D78-B4CA-F6790548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A47-0B10-4818-A7E8-D4B0792F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17D-D70D-4CC2-AFF1-64666D77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32F-9A1F-44BB-9E62-4B5CE536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889-92BC-46FB-80A5-6A833C25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48C6-5EEA-4287-A5A8-0D0276009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3:31:36Z</dcterms:created>
  <dc:creator>Mariajose</dc:creator>
  <dc:description/>
  <dc:language>en-US</dc:language>
  <cp:lastModifiedBy>Mariajose</cp:lastModifiedBy>
  <dcterms:modified xsi:type="dcterms:W3CDTF">2009-09-16T15:22:29Z</dcterms:modified>
  <cp:revision>9</cp:revision>
  <dc:subject/>
  <dc:title>Slide 1</dc:title>
</cp:coreProperties>
</file>