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4E5D-B54C-4456-8EAA-6CA0B549C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3276-2160-43AC-B272-6CF41F97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A5A6-0BA6-4912-B8CA-F583DD741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2C17-1A54-412C-8C82-1A804B6AE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12DE-8DBF-4F0D-8D7F-3D545995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53EE-2494-4C3E-9CB8-523AA03D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92AB-563A-473A-BEDF-A75E0CC7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D8C2-D14F-42FB-9BF3-96D4AFE8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B4D4-4FD6-4BA0-8735-E0A55757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6CBD-727E-4868-8BA2-430D1261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1DB2-F015-4308-8DEE-235DDDD3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5C9A-8140-49BB-831E-81580007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ACEF-8B67-4E1F-9DBD-9BBF12DA1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8:52:54Z</dcterms:created>
  <dc:creator>Mariajose</dc:creator>
  <dc:description/>
  <dc:language>en-US</dc:language>
  <cp:lastModifiedBy>Mariajose</cp:lastModifiedBy>
  <dcterms:modified xsi:type="dcterms:W3CDTF">2010-01-04T18:55:45Z</dcterms:modified>
  <cp:revision>2</cp:revision>
  <dc:subject/>
  <dc:title>Diapositiva 1</dc:title>
</cp:coreProperties>
</file>