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91649-60E5-4D61-BD68-4558A3C79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F4DE0-237D-4154-9604-BB5AA568D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5F10D-C6FA-47CB-89E1-C863A7E31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E0594-8227-475A-B643-2084583FD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163A6-C3E4-4205-BEDD-9F53ACB7B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4224C-FFAB-42EF-A4E0-B629645D4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CB45E-3306-4BCE-849E-66A51467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94532-1374-450D-B84F-58DB5CDD2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58296-F06E-4B05-B6F7-9E6BDEE6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D11C8-99CE-4BDD-AD65-366320B6E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4E505-F498-4CE9-AC0C-1A372AE1F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B3F1A-D9F7-4A02-B047-825A36BC1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689A-7392-4DEB-A839-22F1D376622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41320" y="1981080"/>
            <a:ext cx="751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TOÅNG THEÅ</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E179172E-968B-433D-9469-7F1771A758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doïc (Vertical Integration)</a:t>
            </a:r>
            <a:endParaRPr b="1" i="1" lang="en-US" sz="3400" spc="-1" strike="noStrike">
              <a:solidFill>
                <a:srgbClr val="ffff00"/>
              </a:solidFill>
              <a:latin typeface="VNI-Helve"/>
            </a:endParaRPr>
          </a:p>
        </p:txBody>
      </p:sp>
      <p:sp>
        <p:nvSpPr>
          <p:cNvPr id="115"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sau (Backward Integration) laø tìm kieám quyeàn sôû höõu hoaëc quyeàn kieåm soaùt ñoái vôùi caùc nhaø cung caáp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tröôùc (Forward Integration) laø tìm kieám quyeàn sôû höõu hoaëc quyeàn kieåm soaùt ñoái vôùi caùc phaân phoái saûn phaåm cuûa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183710D-7B6F-4A7F-8183-94ADD38D8C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ñoàng taâm (Concentric Diversification)</a:t>
            </a:r>
            <a:endParaRPr b="1" i="1" lang="en-US" sz="3400" spc="-1" strike="noStrike">
              <a:solidFill>
                <a:srgbClr val="ffff00"/>
              </a:solidFill>
              <a:latin typeface="VNI-Helve"/>
            </a:endParaRPr>
          </a:p>
        </p:txBody>
      </p:sp>
      <p:sp>
        <p:nvSpPr>
          <p:cNvPr id="117"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ñoâng taâm laø nhaèm môû roäng hoaït ñoäng kinh doanh ôû nhöõng lónh vöïc coù lieân quan veà coâng ngheä, thò tröôøng hôïac saûn phaå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ñieåm maïnh vaø cô hoäi kinh doanh, giaûm ñieåm yeáu vaø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8A20551-615E-4BF4-9B04-92B4CF7EDB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keát khoái (Conglomerate Diversific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keát khoái laø nhaèm môû roäng hoaït ñoäng kinh doanh baèng nhöõng saûn phaåm / dòch vuï môùi, khoâng lieân heä gì vôùi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i thaùc nguoàn löïc chung (synergy) ñeå laøm taêng lôïi theá caïnh tra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115A6F6-E9E2-44C2-9F4D-84849DD2FF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lieân doanh </a:t>
            </a:r>
            <a:br>
              <a:rPr sz="3400"/>
            </a:br>
            <a:r>
              <a:rPr b="1" lang="en-US" sz="3400" spc="-1" strike="noStrike">
                <a:solidFill>
                  <a:srgbClr val="ffff00"/>
                </a:solidFill>
                <a:latin typeface="VNI-Helve"/>
              </a:rPr>
              <a:t>(Joint Venture)</a:t>
            </a:r>
            <a:endParaRPr b="1" i="1" lang="en-US" sz="3400" spc="-1" strike="noStrike">
              <a:solidFill>
                <a:srgbClr val="ffff00"/>
              </a:solidFill>
              <a:latin typeface="VNI-Helve"/>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hay nhieàu coâng ty thaønh laäp moät coâng ty hôïp danh nhaèm khai thaùc moät cô hoäi kinh doanh naøo ñoù hoaëc nhaèm taïo ñöôïc lôïi theá caïnh tranh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a seû quyeàn söû duï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vaø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phaân phoái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chuyeån nhöôïng (Licensing)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8439937-6AD3-4988-8FA8-D950CCB632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ieân minh chieán löôïc </a:t>
            </a:r>
            <a:br>
              <a:rPr sz="3400"/>
            </a:br>
            <a:r>
              <a:rPr b="1" lang="en-US" sz="3400" spc="-1" strike="noStrike">
                <a:solidFill>
                  <a:srgbClr val="ffff00"/>
                </a:solidFill>
                <a:latin typeface="VNI-Helve"/>
              </a:rPr>
              <a:t>(Alliance)</a:t>
            </a:r>
            <a:endParaRPr b="1" i="1" lang="en-US" sz="3400" spc="-1" strike="noStrike">
              <a:solidFill>
                <a:srgbClr val="ffff00"/>
              </a:solidFill>
              <a:latin typeface="VNI-Helve"/>
            </a:endParaRPr>
          </a:p>
        </p:txBody>
      </p:sp>
      <p:sp>
        <p:nvSpPr>
          <p:cNvPr id="123"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ieân minh chieán löôïc nhaèm khai thaùc lôïi theá veø thò tröôøng, coâng ngheä, nguyeân lieäu, nguoàn lao ñoä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oûa thuaän cho pheùp khai thaùc (Licensing) baèng phaùt minh (Patents), thöông hieäu (Trademarks), hoaëc bí quyeát coâng ngheä (Know-how), … trong moät khoaûng thôøi gian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oâng chia seû quyeàn sôû höõu voá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E4B3D3E-5015-4A71-8A17-F29152DAB1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uûng coá </a:t>
            </a:r>
            <a:br>
              <a:rPr sz="3400"/>
            </a:br>
            <a:r>
              <a:rPr b="1" lang="en-US" sz="3400" spc="-1" strike="noStrike">
                <a:solidFill>
                  <a:srgbClr val="ffff00"/>
                </a:solidFill>
                <a:latin typeface="VNI-Helve"/>
              </a:rPr>
              <a:t>(Turnaround / Retrenchment)</a:t>
            </a:r>
            <a:endParaRPr b="1" i="1" lang="en-US" sz="3400" spc="-1" strike="noStrike">
              <a:solidFill>
                <a:srgbClr val="ffff00"/>
              </a:solidFill>
              <a:latin typeface="VNI-Helve"/>
            </a:endParaRPr>
          </a:p>
        </p:txBody>
      </p:sp>
      <p:sp>
        <p:nvSpPr>
          <p:cNvPr id="12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uûng coá ñöôïc söû duïng ñeå toå chöùc laïi hoaït ñoäng kinh doanh cuûa coâng ty baèng vieäc caét giaûm chi phí vaø taøi saûn ñeå cöùu vaõn tình theá doanh soá vaø lôïi nhuaän ñang suït giaû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ét giaûm chi phí, giaûm bôùt taøi saû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9F578A3-987C-4066-868B-F0F1EF0202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giaûm bôùt hoaït ñoäng (Divestiture)</a:t>
            </a:r>
            <a:endParaRPr b="1" i="1" lang="en-US" sz="3400" spc="-1" strike="noStrike">
              <a:solidFill>
                <a:srgbClr val="ffff00"/>
              </a:solidFill>
              <a:latin typeface="VNI-Helve"/>
            </a:endParaRPr>
          </a:p>
        </p:txBody>
      </p:sp>
      <p:sp>
        <p:nvSpPr>
          <p:cNvPr id="12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ûm bôùt hoaït ñoäng nhaèm baùn bôùt moät boä phaän hay moät ñôn vò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voán cho hoaït ñoäng ñaàu tö hay mua laïi coù tính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F00B2EC-ADAC-44AA-93E7-A72E2080A9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hanh lyù (Liquidation)</a:t>
            </a:r>
            <a:endParaRPr b="1" i="1" lang="en-US" sz="3400" spc="-1" strike="noStrike">
              <a:solidFill>
                <a:srgbClr val="ffff00"/>
              </a:solidFill>
              <a:latin typeface="VNI-Helve"/>
            </a:endParaRPr>
          </a:p>
        </p:txBody>
      </p:sp>
      <p:sp>
        <p:nvSpPr>
          <p:cNvPr id="12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aùn töøng phaàn hoaëc toaøn boä taøi saûn cuûa coâng ty theo giaù trò thö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ieán löôïc naøy giuùp giaûm thieåu thieät haïi/maát maùt cuûa nhöõng ñoái töôïng höõu qua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0D33987-5D62-4C9C-AD72-AEE35104F5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õ thuaät phaân tích SWOT ñöôïc duøng ñeå ñaùnh giaù ñieåm maïnh, ñieåm yeáu cuûa coâng ty vaø öôùc löôïng nhöõng cô hoäi vaø nguy cô cuûa moâi tröôøng kinh doanh beân ngoaøi ñeå töø ñoù coù söï phoái hôïp thích hôïp giöõa khaû naêng nguoàn löïc cuûa Coâng ty vaø tình hình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169C7F0-0996-400F-A855-7926BB3B44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3" name="PlaceHolder 2"/>
          <p:cNvSpPr>
            <a:spLocks noGrp="1"/>
          </p:cNvSpPr>
          <p:nvPr>
            <p:ph/>
          </p:nvPr>
        </p:nvSpPr>
        <p:spPr>
          <a:xfrm>
            <a:off x="457200" y="1294920"/>
            <a:ext cx="830592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ieåm maïnh laø nhöõng gì maø coâng ty ñaõ laøm toát laøm toát hôn so vôùi coâng ty khaùc hoaëc chuùng giuùp laøm taêng khaû naêng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kinh doanh laø nhöõng ñieàu kieän moâi tröôøng beân ngoaøi coù lôïi cho coâng ty.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DB253AA-9A48-48AC-A962-65113AB4AF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chieán löôïc toång theå</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ïa choïn chieán löôïc baèng ma traän SWO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B101313-B343-4179-A24F-C7CE6A41E5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LÖÏA CHOÏN CAÙC PHÖÔNG AÙN CHIEÁN LÖÔÏC</a:t>
            </a:r>
            <a:br>
              <a:rPr sz="3000"/>
            </a:br>
            <a:r>
              <a:rPr b="1" lang="en-US" sz="3000" spc="-1" strike="noStrike">
                <a:solidFill>
                  <a:srgbClr val="ffff00"/>
                </a:solidFill>
                <a:latin typeface="VNI-Helve"/>
              </a:rPr>
              <a:t>BAÈNG MA TRAÄN SWOT</a:t>
            </a:r>
            <a:endParaRPr b="1" i="1" lang="en-US" sz="3000" spc="-1" strike="noStrike">
              <a:solidFill>
                <a:srgbClr val="ffff00"/>
              </a:solidFill>
              <a:latin typeface="VNI-Helve"/>
            </a:endParaRPr>
          </a:p>
        </p:txBody>
      </p:sp>
      <p:sp>
        <p:nvSpPr>
          <p:cNvPr id="13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ñieåm maïnh, ñieåm yeáu, cô hoäi vaø nguy cô, lieät keâ töï theo möùc ñoä quan troïng vaøo caùc oâ töông öùng</a:t>
            </a:r>
            <a:endParaRPr b="0" lang="en-US" sz="2400" spc="-1" strike="noStrike">
              <a:solidFill>
                <a:srgbClr val="000000"/>
              </a:solidFill>
              <a:latin typeface="VNI-Helve"/>
            </a:endParaRPr>
          </a:p>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n haønh phaân tích töøng caëp caùc nhoùm yeáu toá </a:t>
            </a:r>
            <a:r>
              <a:rPr b="0" lang="en-US" sz="2400" spc="-1" strike="noStrike">
                <a:solidFill>
                  <a:srgbClr val="000000"/>
                </a:solidFill>
                <a:latin typeface="Wingdings"/>
                <a:ea typeface="Wingdings"/>
              </a:rPr>
              <a:t></a:t>
            </a:r>
            <a:r>
              <a:rPr b="0" lang="en-US" sz="2400" spc="-1" strike="noStrike">
                <a:solidFill>
                  <a:srgbClr val="000000"/>
                </a:solidFill>
                <a:latin typeface="VNI-Helve"/>
              </a:rPr>
              <a:t> xaùc ñònh caùc phöông aùn chieán löôïc caàn xem xeùt</a:t>
            </a:r>
            <a:endParaRPr b="0" lang="en-US" sz="24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O : Xaây döïng phöông aùn chieán löôïc ñeå phaùt huy ñieåm maïnh vaø khai thaù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O : Xaây döïng phöông aùn chieán löôïc ñeå khaéc phuïc ñieåm yeáu vaø khai thaùc ñöôï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T : Xaây döïng phöông aùn chieán löôïc ñeå phaùt huy ñieåm maïnh vaø giaûm thieåu/ loaïi boû nguy cô.</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T : Xaây döïng phöông aùn chieán löôïc ñeå khaéc phuïc ñieåm yeáu vaø giaûm thieåu/ loaïi boû nguy cô.</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688420AC-EDA7-4AF8-ACD9-7B86636F92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794200" y="4683240"/>
            <a:ext cx="259272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T: Caùc phöông aùn chieán löôïc khaéc phuïc ñieåm yeáu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7" name=""/>
          <p:cNvSpPr/>
          <p:nvPr/>
        </p:nvSpPr>
        <p:spPr>
          <a:xfrm>
            <a:off x="320184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O: Caùc phöông aùn chieán löôïc khaéc phuïc ñieåm yeáu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8" name=""/>
          <p:cNvSpPr/>
          <p:nvPr/>
        </p:nvSpPr>
        <p:spPr>
          <a:xfrm>
            <a:off x="60948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 Lieät keâ caùc ñieåm yeáu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39" name=""/>
          <p:cNvSpPr/>
          <p:nvPr/>
        </p:nvSpPr>
        <p:spPr>
          <a:xfrm>
            <a:off x="5794200" y="310356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T: Caùc phöông aùn chieán löôïc phaùt huy ñieåm maïnh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0" name=""/>
          <p:cNvSpPr/>
          <p:nvPr/>
        </p:nvSpPr>
        <p:spPr>
          <a:xfrm>
            <a:off x="320184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O: Caùc phöông aùn chieán löôïc phaùt huy ñieåm maïnh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1" name=""/>
          <p:cNvSpPr/>
          <p:nvPr/>
        </p:nvSpPr>
        <p:spPr>
          <a:xfrm>
            <a:off x="60948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 Lieät keâ caùc ñieåm maïnh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2" name=""/>
          <p:cNvSpPr/>
          <p:nvPr/>
        </p:nvSpPr>
        <p:spPr>
          <a:xfrm>
            <a:off x="5794200" y="152388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T: Lieät keâ nhöõng nguy cô chính:</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3" name=""/>
          <p:cNvSpPr/>
          <p:nvPr/>
        </p:nvSpPr>
        <p:spPr>
          <a:xfrm>
            <a:off x="320184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O: Lieät keâ nhöõng cô hoäi kinh doanh chính:</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4" name=""/>
          <p:cNvSpPr/>
          <p:nvPr/>
        </p:nvSpPr>
        <p:spPr>
          <a:xfrm>
            <a:off x="60948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52388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647532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48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38692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80" y="310356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184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420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468324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a traän SWO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4" name=""/>
          <p:cNvSpPr/>
          <p:nvPr/>
        </p:nvSpPr>
        <p:spPr>
          <a:xfrm>
            <a:off x="660240" y="2332080"/>
            <a:ext cx="1428840" cy="7160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trong</a:t>
            </a:r>
            <a:endParaRPr b="0" lang="en-US" sz="1600" spc="-1" strike="noStrike">
              <a:solidFill>
                <a:srgbClr val="000000"/>
              </a:solidFill>
              <a:latin typeface="Times New Roman"/>
            </a:endParaRPr>
          </a:p>
        </p:txBody>
      </p:sp>
      <p:sp>
        <p:nvSpPr>
          <p:cNvPr id="155" name=""/>
          <p:cNvSpPr/>
          <p:nvPr/>
        </p:nvSpPr>
        <p:spPr>
          <a:xfrm>
            <a:off x="1757520" y="1631880"/>
            <a:ext cx="1428480" cy="882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ngoaøi</a:t>
            </a:r>
            <a:endParaRPr b="0" lang="en-US" sz="1600" spc="-1" strike="noStrike">
              <a:solidFill>
                <a:srgbClr val="000000"/>
              </a:solidFill>
              <a:latin typeface="Times New Roman"/>
            </a:endParaRPr>
          </a:p>
        </p:txBody>
      </p:sp>
      <p:sp>
        <p:nvSpPr>
          <p:cNvPr id="156" name=""/>
          <p:cNvSpPr/>
          <p:nvPr/>
        </p:nvSpPr>
        <p:spPr>
          <a:xfrm>
            <a:off x="609480" y="1523880"/>
            <a:ext cx="2590920" cy="15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6320" y="954000"/>
            <a:ext cx="2592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911960" y="954000"/>
            <a:ext cx="18072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2F3748B8-4B1A-4D70-8C08-A9BE02403A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haän ra nhu caàu doøng tieàn (cashflow) cuûa caùc SBU khaùc nhau treân danh muïc voán ñaàu tö.</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aø ñaùnh giaù caùc SBU cuûa coâng ty</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sôû xaùc ñònh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vaø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ùnh giaù: </a:t>
            </a:r>
            <a:endParaRPr b="0" lang="en-US" sz="24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phaàn töông ñoái</a:t>
            </a:r>
            <a:endParaRPr b="0" lang="en-US" sz="20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æ leä taêng tröôûng cuûa SBU</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C0DB1CD2-C7B5-4430-AE2B-51EF66D0B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92000"/>
          </a:bodyPr>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caùc SBU treân moät ma traän, chæ roõ trieån voïng töông ñoái cuûa töøng SBU</a:t>
            </a:r>
            <a:endParaRPr b="0" lang="en-US" sz="2800" spc="-1" strike="noStrike">
              <a:solidFill>
                <a:srgbClr val="000000"/>
              </a:solidFill>
              <a:latin typeface="VNI-Helve"/>
            </a:endParaRPr>
          </a:p>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taû ma traän: </a:t>
            </a:r>
            <a:endParaRPr b="0" lang="en-US" sz="28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a traän vuoâng caáp 2,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ng hoaønh bieåu dieãn thò phaàn töông ñoái,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ïc tung bieåu dieãn tæ leä taêng tröôûng cuûa thò tröôøng</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ãi voøng troøn treân ma traän laø 1 SBU.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âm voøng troøn laø vò theá cuûa SBU ñöôïc xaùc ñònh baèng Thò phaàn töông ñoái vaø Tæ leä taêng tröôûng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ä lôùn cuûa voøng troøn töông öùng vôùi doanh thu.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55DC5AC-A710-4021-8256-798D049EDF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4" name=""/>
          <p:cNvSpPr/>
          <p:nvPr/>
        </p:nvSpPr>
        <p:spPr>
          <a:xfrm>
            <a:off x="1971720" y="5715000"/>
            <a:ext cx="6181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NI-Helve"/>
              </a:rPr>
              <a:t>Vò trí thò phaàn töông ñoái trong ngaønh</a:t>
            </a:r>
            <a:endParaRPr b="0" lang="en-US" sz="2000" spc="-1" strike="noStrike">
              <a:solidFill>
                <a:srgbClr val="000000"/>
              </a:solidFill>
              <a:latin typeface="Times New Roman"/>
            </a:endParaRPr>
          </a:p>
        </p:txBody>
      </p:sp>
      <p:sp>
        <p:nvSpPr>
          <p:cNvPr id="165" name=""/>
          <p:cNvSpPr/>
          <p:nvPr/>
        </p:nvSpPr>
        <p:spPr>
          <a:xfrm>
            <a:off x="325440" y="2720880"/>
            <a:ext cx="1238400" cy="162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oác ñoä taêng tröôûng baùn haøng cuûa ngaønh</a:t>
            </a:r>
            <a:endParaRPr b="0" lang="en-US" sz="1600" spc="-1" strike="noStrike">
              <a:solidFill>
                <a:srgbClr val="000000"/>
              </a:solidFill>
              <a:latin typeface="Times New Roman"/>
            </a:endParaRPr>
          </a:p>
        </p:txBody>
      </p:sp>
      <p:graphicFrame>
        <p:nvGraphicFramePr>
          <p:cNvPr id="166" name=""/>
          <p:cNvGraphicFramePr/>
          <p:nvPr/>
        </p:nvGraphicFramePr>
        <p:xfrm>
          <a:off x="2081160" y="1635120"/>
          <a:ext cx="5962680" cy="4097160"/>
        </p:xfrm>
        <a:graphic>
          <a:graphicData uri="http://schemas.openxmlformats.org/drawingml/2006/table">
            <a:tbl>
              <a:tblPr/>
              <a:tblGrid>
                <a:gridCol w="3079800"/>
                <a:gridCol w="2882880"/>
              </a:tblGrid>
              <a:tr h="186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r h="222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bl>
          </a:graphicData>
        </a:graphic>
      </p:graphicFrame>
      <p:pic>
        <p:nvPicPr>
          <p:cNvPr id="167" name="" descr=""/>
          <p:cNvPicPr/>
          <p:nvPr/>
        </p:nvPicPr>
        <p:blipFill>
          <a:blip r:embed="rId1"/>
          <a:stretch/>
        </p:blipFill>
        <p:spPr>
          <a:xfrm>
            <a:off x="2506680" y="1746360"/>
            <a:ext cx="2208240" cy="1585800"/>
          </a:xfrm>
          <a:prstGeom prst="rect">
            <a:avLst/>
          </a:prstGeom>
          <a:ln w="0">
            <a:noFill/>
          </a:ln>
        </p:spPr>
      </p:pic>
      <p:pic>
        <p:nvPicPr>
          <p:cNvPr id="168" name="" descr=""/>
          <p:cNvPicPr/>
          <p:nvPr/>
        </p:nvPicPr>
        <p:blipFill>
          <a:blip r:embed="rId2"/>
          <a:stretch/>
        </p:blipFill>
        <p:spPr>
          <a:xfrm>
            <a:off x="2540160" y="3689280"/>
            <a:ext cx="2179440" cy="1405080"/>
          </a:xfrm>
          <a:prstGeom prst="rect">
            <a:avLst/>
          </a:prstGeom>
          <a:ln w="0">
            <a:noFill/>
          </a:ln>
        </p:spPr>
      </p:pic>
      <p:pic>
        <p:nvPicPr>
          <p:cNvPr id="169" name="" descr=""/>
          <p:cNvPicPr/>
          <p:nvPr/>
        </p:nvPicPr>
        <p:blipFill>
          <a:blip r:embed="rId3"/>
          <a:stretch/>
        </p:blipFill>
        <p:spPr>
          <a:xfrm>
            <a:off x="5676840" y="3697200"/>
            <a:ext cx="1965240" cy="1540080"/>
          </a:xfrm>
          <a:prstGeom prst="rect">
            <a:avLst/>
          </a:prstGeom>
          <a:ln w="0">
            <a:noFill/>
          </a:ln>
        </p:spPr>
      </p:pic>
      <p:pic>
        <p:nvPicPr>
          <p:cNvPr id="170" name="" descr=""/>
          <p:cNvPicPr/>
          <p:nvPr/>
        </p:nvPicPr>
        <p:blipFill>
          <a:blip r:embed="rId4"/>
          <a:stretch/>
        </p:blipFill>
        <p:spPr>
          <a:xfrm>
            <a:off x="5821200" y="1816200"/>
            <a:ext cx="1497240" cy="1466640"/>
          </a:xfrm>
          <a:prstGeom prst="rect">
            <a:avLst/>
          </a:prstGeom>
          <a:ln w="0">
            <a:noFill/>
          </a:ln>
        </p:spPr>
      </p:pic>
      <p:sp>
        <p:nvSpPr>
          <p:cNvPr id="3" name="PlaceHolder 2"/>
          <p:cNvSpPr>
            <a:spLocks noGrp="1"/>
          </p:cNvSpPr>
          <p:nvPr>
            <p:ph type="sldNum" idx="3"/>
          </p:nvPr>
        </p:nvSpPr>
        <p:spPr/>
        <p:txBody>
          <a:bodyPr/>
          <a:p>
            <a:fld id="{75EC24B5-155F-4E19-A6AF-E26639ADE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caùc muïc tieâu taêng tröôûng cho töøng SBU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nhuaän caùc SBU boø sinh lôïi </a:t>
            </a:r>
            <a:r>
              <a:rPr b="0" lang="en-US" sz="2800" spc="-1" strike="noStrike">
                <a:solidFill>
                  <a:srgbClr val="000000"/>
                </a:solidFill>
                <a:latin typeface="Wingdings"/>
                <a:ea typeface="Wingdings"/>
              </a:rPr>
              <a:t></a:t>
            </a:r>
            <a:r>
              <a:rPr b="0" lang="en-US" sz="2800" spc="-1" strike="noStrike">
                <a:solidFill>
                  <a:srgbClr val="000000"/>
                </a:solidFill>
                <a:latin typeface="VNI-Helve"/>
              </a:rPr>
              <a:t> SBU daáu hoûi vaø ngoâi sa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daáu hoûi khoâng coù trieån voïng </a:t>
            </a:r>
            <a:r>
              <a:rPr b="0" lang="en-US" sz="2800" spc="-1" strike="noStrike">
                <a:solidFill>
                  <a:srgbClr val="000000"/>
                </a:solidFill>
                <a:latin typeface="Wingdings"/>
                <a:ea typeface="Wingdings"/>
              </a:rPr>
              <a:t></a:t>
            </a:r>
            <a:r>
              <a:rPr b="0" lang="en-US" sz="2800" spc="-1" strike="noStrike">
                <a:solidFill>
                  <a:srgbClr val="000000"/>
                </a:solidFill>
                <a:latin typeface="VNI-Helve"/>
              </a:rPr>
              <a:t> giaûi theå</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chuù choù </a:t>
            </a:r>
            <a:r>
              <a:rPr b="0" lang="en-US" sz="2800" spc="-1" strike="noStrike">
                <a:solidFill>
                  <a:srgbClr val="000000"/>
                </a:solidFill>
                <a:latin typeface="Wingdings"/>
                <a:ea typeface="Wingdings"/>
              </a:rPr>
              <a:t></a:t>
            </a:r>
            <a:r>
              <a:rPr b="0" lang="en-US" sz="2800" spc="-1" strike="noStrike">
                <a:solidFill>
                  <a:srgbClr val="000000"/>
                </a:solidFill>
                <a:latin typeface="VNI-Helve"/>
              </a:rPr>
              <a:t> </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uïc hoà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ûi theå (raøo caûn xuaát ngaønh)</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ây döïng danh muïc ñaàu tö caân ñoái</a:t>
            </a:r>
            <a:endParaRPr b="0" lang="en-US" sz="28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27B8372-0429-4AAF-9CF4-B28E62AD0B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CHIEÁN LÖÔÏC ÑÖÔÏC LÖÏA CHOÏN </a:t>
            </a:r>
            <a:endParaRPr b="1" i="1" lang="en-US" sz="3400" spc="-1" strike="noStrike">
              <a:solidFill>
                <a:srgbClr val="ffff00"/>
              </a:solidFill>
              <a:latin typeface="VNI-Helve"/>
            </a:endParaRPr>
          </a:p>
        </p:txBody>
      </p:sp>
      <p:sp>
        <p:nvSpPr>
          <p:cNvPr id="17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aït ñöôïc muïc tieâu</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aùt huy naêng löïc khaùc bieät vaø khai thaùc lôïi theá caïnh tranh</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linh hoaït vaø khaû naêng ñaùp öùng/thích nghi vôùi söï thay ñoåi cuûa moâi tröôø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CB413B0-0AA4-434E-A369-267D9ABC02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YEÁU TOÁ AÛNH HÖÔÛNG ÑEÁN VIEÄC LÖÏA CHOÏN CHIEÁN LÖÔÏC</a:t>
            </a:r>
            <a:endParaRPr b="1" i="1" lang="en-US" sz="3400" spc="-1" strike="noStrike">
              <a:solidFill>
                <a:srgbClr val="ffff00"/>
              </a:solidFill>
              <a:latin typeface="VNI-Helve"/>
            </a:endParaRPr>
          </a:p>
        </p:txBody>
      </p:sp>
      <p:sp>
        <p:nvSpPr>
          <p:cNvPr id="17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rong quaù khö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uï thuoäc vaøo caùc taùc löïc beân ngoaøi</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vôùi ruûi ro</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ính trò noäi boä</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ôøi gian</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n öùng ñoái vôùi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16CEB8B-0A27-4BBE-9905-F86E165FA503}"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vaán ñeà quan troïng cuûa chieán löôïc coâng ty</a:t>
            </a:r>
            <a:endParaRPr b="0" lang="en-US" sz="2800" spc="-1" strike="noStrike">
              <a:solidFill>
                <a:srgbClr val="000000"/>
              </a:solidFill>
              <a:latin typeface="VNI-Helve"/>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ònh höôùng hoaït ñoäng cuûa coâng ty theo höôùng taêng tröôûng (growth), duy trì söï oån ñònh (stability) hay thu heïp hoaït ñoäng (retrenchment)</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yeát ñònh danh muïc ñaàu tö cuûa coâng ty</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ây döïng caùch thöùc phoái hôïp hoaït ñoäng, chuyeån giao nguoàn löïc giöõa caùc ñôn vò kinh doanh, xaây döïng vaø boå sung nguoàn löïc caàn thieá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F00D0D8-C8E4-4A45-A3BC-8051CA9BA5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TOÅNG THEÅ</a:t>
            </a:r>
            <a:endParaRPr b="1" i="1" lang="en-US" sz="3400" spc="-1" strike="noStrike">
              <a:solidFill>
                <a:srgbClr val="ffff00"/>
              </a:solidFill>
              <a:latin typeface="VNI-Helve"/>
            </a:endParaRPr>
          </a:p>
        </p:txBody>
      </p:sp>
      <p:sp>
        <p:nvSpPr>
          <p:cNvPr id="93" name=""/>
          <p:cNvSpPr/>
          <p:nvPr/>
        </p:nvSpPr>
        <p:spPr>
          <a:xfrm>
            <a:off x="2933640" y="1219320"/>
            <a:ext cx="3086280" cy="1447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AÊNG TRÖÔÛNG  TAÄP TRU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âm nhaäp thò tröôøng (Market Pene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thò tröôøng (Marke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saûn phaåm (Produc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aûi tieán saûn phaåm (Product Innovation)</a:t>
            </a:r>
            <a:endParaRPr b="0" lang="en-US" sz="1200" spc="-1" strike="noStrike">
              <a:solidFill>
                <a:srgbClr val="000000"/>
              </a:solidFill>
              <a:latin typeface="Times New Roman"/>
            </a:endParaRPr>
          </a:p>
        </p:txBody>
      </p:sp>
      <p:sp>
        <p:nvSpPr>
          <p:cNvPr id="94" name=""/>
          <p:cNvSpPr/>
          <p:nvPr/>
        </p:nvSpPr>
        <p:spPr>
          <a:xfrm>
            <a:off x="152280" y="3108240"/>
            <a:ext cx="2667240" cy="1616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nga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Horizontal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doï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ertical Integration)</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tröôùc (Forward)</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sau (Backward)</a:t>
            </a:r>
            <a:endParaRPr b="0" lang="en-US" sz="1200" spc="-1" strike="noStrike">
              <a:solidFill>
                <a:srgbClr val="000000"/>
              </a:solidFill>
              <a:latin typeface="Times New Roman"/>
            </a:endParaRPr>
          </a:p>
        </p:txBody>
      </p:sp>
      <p:sp>
        <p:nvSpPr>
          <p:cNvPr id="95" name=""/>
          <p:cNvSpPr/>
          <p:nvPr/>
        </p:nvSpPr>
        <p:spPr>
          <a:xfrm>
            <a:off x="2971800" y="3108240"/>
            <a:ext cx="2971800" cy="161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DIVERS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ñoàng taâ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ic Diversific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keát khoá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glomerate Diversification)</a:t>
            </a:r>
            <a:endParaRPr b="0" lang="en-US" sz="1200" spc="-1" strike="noStrike">
              <a:solidFill>
                <a:srgbClr val="000000"/>
              </a:solidFill>
              <a:latin typeface="Times New Roman"/>
            </a:endParaRPr>
          </a:p>
        </p:txBody>
      </p:sp>
      <p:sp>
        <p:nvSpPr>
          <p:cNvPr id="96" name=""/>
          <p:cNvSpPr/>
          <p:nvPr/>
        </p:nvSpPr>
        <p:spPr>
          <a:xfrm>
            <a:off x="6172200" y="3108240"/>
            <a:ext cx="2743200" cy="1616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KEÁ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OP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doan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Joint Ven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minh/lieân ke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Alliance)</a:t>
            </a:r>
            <a:endParaRPr b="0" lang="en-US" sz="1200" spc="-1" strike="noStrike">
              <a:solidFill>
                <a:srgbClr val="000000"/>
              </a:solidFill>
              <a:latin typeface="Times New Roman"/>
            </a:endParaRPr>
          </a:p>
        </p:txBody>
      </p:sp>
      <p:sp>
        <p:nvSpPr>
          <p:cNvPr id="97" name=""/>
          <p:cNvSpPr/>
          <p:nvPr/>
        </p:nvSpPr>
        <p:spPr>
          <a:xfrm>
            <a:off x="2971800" y="5181480"/>
            <a:ext cx="2971800" cy="13478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SUY GIAÛM  (RETRENCH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uûng coá  (Turnaround)</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ûm ñaàu tö (Divesti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nh lyù (Liquidation)</a:t>
            </a:r>
            <a:endParaRPr b="0" lang="en-US" sz="1200" spc="-1" strike="noStrike">
              <a:solidFill>
                <a:srgbClr val="000000"/>
              </a:solidFill>
              <a:latin typeface="Times New Roman"/>
            </a:endParaRPr>
          </a:p>
        </p:txBody>
      </p:sp>
      <p:sp>
        <p:nvSpPr>
          <p:cNvPr id="98" name=""/>
          <p:cNvSpPr/>
          <p:nvPr/>
        </p:nvSpPr>
        <p:spPr>
          <a:xfrm>
            <a:off x="4495680" y="2666880"/>
            <a:ext cx="0" cy="47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47242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9920" y="1905120"/>
            <a:ext cx="167616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3000" y="4724280"/>
            <a:ext cx="18288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219320" y="1905120"/>
            <a:ext cx="17143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600" y="4724280"/>
            <a:ext cx="17524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7E3DF1A-B4DA-41AD-964B-6CC1A30A37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haâm nhaäp thò tröôøng </a:t>
            </a:r>
            <a:br>
              <a:rPr sz="3400"/>
            </a:br>
            <a:r>
              <a:rPr b="1" lang="en-US" sz="3400" spc="-1" strike="noStrike">
                <a:solidFill>
                  <a:srgbClr val="ffff00"/>
                </a:solidFill>
                <a:latin typeface="VNI-Helve"/>
              </a:rPr>
              <a:t>(Market Penet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5"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96000"/>
          </a:bodyPr>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haâm nhaäp thò tröôøng nhaèm laøm taêng thò phaàn cho caùc saûn phaåm/dòch vuï hieän coù trong caùc thò tröôøng hieän coù baèng nhöõng noã löïc tieáp thò lôùn hôn.</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m taêng suaát söû duïng cuûa khaùch haøng hieän taïi</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uûa ñoái thuû caïnh tranh</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höa söû duïng saûn phaåm</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FCBE500-2EC2-4448-81ED-F7C62B02EE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thò tröôøng </a:t>
            </a:r>
            <a:br>
              <a:rPr sz="3400"/>
            </a:br>
            <a:r>
              <a:rPr b="1" lang="en-US" sz="3400" spc="-1" strike="noStrike">
                <a:solidFill>
                  <a:srgbClr val="ffff00"/>
                </a:solidFill>
                <a:latin typeface="VNI-Helve"/>
              </a:rPr>
              <a:t>(Market Development Strategy)</a:t>
            </a:r>
            <a:endParaRPr b="1" i="1" lang="en-US" sz="3400" spc="-1" strike="noStrike">
              <a:solidFill>
                <a:srgbClr val="ffff00"/>
              </a:solidFill>
              <a:latin typeface="VNI-Helve"/>
            </a:endParaRPr>
          </a:p>
        </p:txBody>
      </p:sp>
      <p:sp>
        <p:nvSpPr>
          <p:cNvPr id="10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thò tröôøng laø noã löïc ñöa saûn phaåm/dòch vuï hieän coù vaøo nhöõng thò tröôøng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hò tröôøng veà ñòa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phaân khuùc khaùc cuûa thò tröô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C14E6B1-6650-4D09-8410-81A780DC5F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saûn phaåm </a:t>
            </a:r>
            <a:br>
              <a:rPr sz="3400"/>
            </a:br>
            <a:r>
              <a:rPr b="1" lang="en-US" sz="3400" spc="-1" strike="noStrike">
                <a:solidFill>
                  <a:srgbClr val="ffff00"/>
                </a:solidFill>
                <a:latin typeface="VNI-Helve"/>
              </a:rPr>
              <a:t>(Product Developmen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saûn phaåm nhaèm taêng doanh thu baèng vieäc caûi tieán hoaëc söûa ñoåi saûn phaåm/dòch vuï hieän taï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phaùt trieån saûn phaåm laø noã löïc keùo daøi voøng ñôøi saûn phaåm hioeän taïi vaø khai thaùc uy tín nhaõn hieäu.</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ính naêng môùi cuûa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veà chaát löôïng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kieåu daùng / kích thöôù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3B93726-D980-49B8-AB88-0121779223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aûi tieán saûn phaåm </a:t>
            </a:r>
            <a:br>
              <a:rPr sz="3400"/>
            </a:br>
            <a:r>
              <a:rPr b="1" lang="en-US" sz="3400" spc="-1" strike="noStrike">
                <a:solidFill>
                  <a:srgbClr val="ffff00"/>
                </a:solidFill>
                <a:latin typeface="VNI-Helve"/>
              </a:rPr>
              <a:t>(Product Innov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nhaèm laøm taêng doanh thu baèng saûn phaåm môùi hoaëc saûn phaåm ñaõ ñöôïc caûi tieá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laø noã löïc taïo ra voøng ñôøi saûn phaåm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àu tö nghieân cöùu caûi tieán saûn phaåm </a:t>
            </a:r>
            <a:r>
              <a:rPr b="0" lang="en-US" sz="2800" spc="-1" strike="noStrike">
                <a:solidFill>
                  <a:srgbClr val="000000"/>
                </a:solidFill>
                <a:latin typeface="Wingdings"/>
                <a:ea typeface="Wingdings"/>
              </a:rPr>
              <a:t></a:t>
            </a:r>
            <a:r>
              <a:rPr b="0" lang="en-US" sz="2800" spc="-1" strike="noStrike">
                <a:solidFill>
                  <a:srgbClr val="000000"/>
                </a:solidFill>
                <a:latin typeface="VNI-Helve"/>
              </a:rPr>
              <a:t>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686D04A-F530-48AB-93A6-45A9606C18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ngang (Horizontal Integ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3"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ngang laø tìm kieám quyeàn sôû höõu hoaëc kieåm soaùt ñoái vôùi caùc ñoái thuû caïnh tranh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o pheùp taêng hieäu quaû veà phaïm vi vaø laøm taêng trao ñoåi caùc nguoàn löïc vaø naêng lö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E5999FB-DF29-4ED1-8693-3DC21199EA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7:41Z</dcterms:modified>
  <cp:revision>26</cp:revision>
  <dc:subject/>
  <dc:title>PowerPoint Presentation</dc:title>
</cp:coreProperties>
</file>