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38A83-4F1E-40AF-9543-1D85DB931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1C3FE-34F9-440C-9F3B-4F6E793E3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F865A-ED85-4692-930D-AA39FBC72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DE8BF-2529-4436-AC78-D215976FB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94F23-ACEE-4EA2-A1C9-4A4AA1EB1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6E853-343B-42EB-92E2-0A3E5CA81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5610B-D323-4377-A70F-DAAC32FE1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43195-3EB8-4F30-B155-0E0854FE4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40718-030F-46F6-9C8E-2C9D31EE5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BFD4D-F259-42EB-983B-80BE9EF8E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70F59-34CA-4771-8A96-E8A14FB8D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6C826-C395-4B7B-BEEC-16A94EEF99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3F62C-92B7-490F-AFCC-06932BE382C7}"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380520" y="961920"/>
            <a:ext cx="8366040" cy="277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Phaân tíc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MOÂI TRÖÔØNG BEÂN NGOAØI</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amp; BEÂN TRONG</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565229B8-7771-4D95-AA6B-833E2EAA0B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xaõ hoäi (Social Factors)</a:t>
            </a:r>
            <a:endParaRPr b="1" i="1" lang="en-US" sz="3400" spc="-1" strike="noStrike">
              <a:solidFill>
                <a:srgbClr val="ffff00"/>
              </a:solidFill>
              <a:latin typeface="VNI-Helve"/>
            </a:endParaRPr>
          </a:p>
        </p:txBody>
      </p:sp>
      <p:sp>
        <p:nvSpPr>
          <p:cNvPr id="15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soáng (Living standard)</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ong caùch soáng (life style)</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u höôùng tieâu duøng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ëc ñieåm daân soá</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æ leä taêng daân soá/Dòch chuyeån daân soá/Di daâ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ëc ñieåm vaên hoùa</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ai troø phuï nöõ trong xaõ hoä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1BF48DE-B857-45AB-9878-29BFC56E6F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xaõ hoäi (Social Factors)</a:t>
            </a:r>
            <a:endParaRPr b="1" i="1" lang="en-US" sz="3400" spc="-1" strike="noStrike">
              <a:solidFill>
                <a:srgbClr val="ffff00"/>
              </a:solidFill>
              <a:latin typeface="VNI-Helve"/>
            </a:endParaRPr>
          </a:p>
        </p:txBody>
      </p:sp>
      <p:sp>
        <p:nvSpPr>
          <p:cNvPr id="155" name=""/>
          <p:cNvSpPr/>
          <p:nvPr/>
        </p:nvSpPr>
        <p:spPr>
          <a:xfrm>
            <a:off x="3646440" y="1676520"/>
            <a:ext cx="1542960" cy="56520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Soá phuï nöõ ñöôïc ñaøo taïo ÑH taêng</a:t>
            </a:r>
            <a:endParaRPr b="0" lang="en-US" sz="1300" spc="-1" strike="noStrike">
              <a:solidFill>
                <a:srgbClr val="000000"/>
              </a:solidFill>
              <a:latin typeface="Times New Roman"/>
            </a:endParaRPr>
          </a:p>
        </p:txBody>
      </p:sp>
      <p:sp>
        <p:nvSpPr>
          <p:cNvPr id="156" name=""/>
          <p:cNvSpPr/>
          <p:nvPr/>
        </p:nvSpPr>
        <p:spPr>
          <a:xfrm>
            <a:off x="3276720" y="2882880"/>
            <a:ext cx="2255760" cy="698400"/>
          </a:xfrm>
          <a:prstGeom prst="rect">
            <a:avLst/>
          </a:prstGeom>
          <a:solidFill>
            <a:srgbClr val="ffff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NI-Helve"/>
              </a:rPr>
              <a:t>Quan ñieåm cuûa phuï nöõ vaø quan ñieåm veà phuï nöõ thay ñoåi</a:t>
            </a:r>
            <a:endParaRPr b="0" lang="en-US" sz="1300" spc="-1" strike="noStrike">
              <a:solidFill>
                <a:srgbClr val="000000"/>
              </a:solidFill>
              <a:latin typeface="Times New Roman"/>
            </a:endParaRPr>
          </a:p>
        </p:txBody>
      </p:sp>
      <p:sp>
        <p:nvSpPr>
          <p:cNvPr id="157" name=""/>
          <p:cNvSpPr/>
          <p:nvPr/>
        </p:nvSpPr>
        <p:spPr>
          <a:xfrm>
            <a:off x="3646440" y="4011480"/>
            <a:ext cx="1542960" cy="7588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Chaêm soùc söùc khoûe vaø laøm ñeïp  nhieàu hôn</a:t>
            </a:r>
            <a:endParaRPr b="0" lang="en-US" sz="1300" spc="-1" strike="noStrike">
              <a:solidFill>
                <a:srgbClr val="000000"/>
              </a:solidFill>
              <a:latin typeface="Times New Roman"/>
            </a:endParaRPr>
          </a:p>
        </p:txBody>
      </p:sp>
      <p:sp>
        <p:nvSpPr>
          <p:cNvPr id="158" name=""/>
          <p:cNvSpPr/>
          <p:nvPr/>
        </p:nvSpPr>
        <p:spPr>
          <a:xfrm>
            <a:off x="5533920" y="2155680"/>
            <a:ext cx="1781280" cy="66384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Moái quan taâm ñeán coâng vieäc vaø söï nghieäp taêng</a:t>
            </a:r>
            <a:endParaRPr b="0" lang="en-US" sz="1300" spc="-1" strike="noStrike">
              <a:solidFill>
                <a:srgbClr val="000000"/>
              </a:solidFill>
              <a:latin typeface="Times New Roman"/>
            </a:endParaRPr>
          </a:p>
        </p:txBody>
      </p:sp>
      <p:sp>
        <p:nvSpPr>
          <p:cNvPr id="159" name=""/>
          <p:cNvSpPr/>
          <p:nvPr/>
        </p:nvSpPr>
        <p:spPr>
          <a:xfrm>
            <a:off x="5653080" y="3527280"/>
            <a:ext cx="1542960" cy="7858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Thôøi gian daønh cho coâng vieäc gia ñình ít hôn</a:t>
            </a:r>
            <a:endParaRPr b="0" lang="en-US" sz="1300" spc="-1" strike="noStrike">
              <a:solidFill>
                <a:srgbClr val="000000"/>
              </a:solidFill>
              <a:latin typeface="Times New Roman"/>
            </a:endParaRPr>
          </a:p>
        </p:txBody>
      </p:sp>
      <p:sp>
        <p:nvSpPr>
          <p:cNvPr id="160" name=""/>
          <p:cNvSpPr/>
          <p:nvPr/>
        </p:nvSpPr>
        <p:spPr>
          <a:xfrm>
            <a:off x="1474920" y="2236680"/>
            <a:ext cx="1542960" cy="56520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Löông cao hôn</a:t>
            </a:r>
            <a:endParaRPr b="0" lang="en-US" sz="1300" spc="-1" strike="noStrike">
              <a:solidFill>
                <a:srgbClr val="000000"/>
              </a:solidFill>
              <a:latin typeface="Times New Roman"/>
            </a:endParaRPr>
          </a:p>
        </p:txBody>
      </p:sp>
      <p:sp>
        <p:nvSpPr>
          <p:cNvPr id="161" name=""/>
          <p:cNvSpPr/>
          <p:nvPr/>
        </p:nvSpPr>
        <p:spPr>
          <a:xfrm>
            <a:off x="1474920" y="3527280"/>
            <a:ext cx="1542960" cy="56520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Nhu caàu theå hieän mình cao hôn</a:t>
            </a:r>
            <a:endParaRPr b="0" lang="en-US" sz="1300" spc="-1" strike="noStrike">
              <a:solidFill>
                <a:srgbClr val="000000"/>
              </a:solidFill>
              <a:latin typeface="Times New Roman"/>
            </a:endParaRPr>
          </a:p>
        </p:txBody>
      </p:sp>
      <p:sp>
        <p:nvSpPr>
          <p:cNvPr id="162" name=""/>
          <p:cNvSpPr/>
          <p:nvPr/>
        </p:nvSpPr>
        <p:spPr>
          <a:xfrm>
            <a:off x="3646440" y="5462640"/>
            <a:ext cx="1542960" cy="56520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VNI-Helve"/>
              </a:rPr>
              <a:t>???</a:t>
            </a:r>
            <a:endParaRPr b="0" lang="en-US" sz="2600" spc="-1" strike="noStrike">
              <a:solidFill>
                <a:srgbClr val="000000"/>
              </a:solidFill>
              <a:latin typeface="Times New Roman"/>
            </a:endParaRPr>
          </a:p>
        </p:txBody>
      </p:sp>
      <p:sp>
        <p:nvSpPr>
          <p:cNvPr id="163" name=""/>
          <p:cNvSpPr/>
          <p:nvPr/>
        </p:nvSpPr>
        <p:spPr>
          <a:xfrm flipV="1">
            <a:off x="4346640" y="2236320"/>
            <a:ext cx="0" cy="64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581280"/>
            <a:ext cx="3240" cy="43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flipV="1">
            <a:off x="3039840" y="2479320"/>
            <a:ext cx="617400" cy="41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5016960" y="2475000"/>
            <a:ext cx="462600" cy="37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3039840" y="3581280"/>
            <a:ext cx="541080" cy="26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029200" y="3581280"/>
            <a:ext cx="581040" cy="34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267080" y="4898880"/>
            <a:ext cx="236520" cy="482760"/>
          </a:xfrm>
          <a:prstGeom prst="downArrow">
            <a:avLst>
              <a:gd name="adj1" fmla="val 50000"/>
              <a:gd name="adj2" fmla="val 5102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616040" y="4898880"/>
            <a:ext cx="534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FE513BE-14D9-4037-A4D5-49219B4DD0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oâng ngheä </a:t>
            </a:r>
            <a:br>
              <a:rPr sz="3400"/>
            </a:br>
            <a:r>
              <a:rPr b="1" i="1" lang="en-US" sz="3400" spc="-1" strike="noStrike">
                <a:solidFill>
                  <a:srgbClr val="ffff00"/>
                </a:solidFill>
                <a:latin typeface="VNI-Helve"/>
              </a:rPr>
              <a:t>(Technology Factors) </a:t>
            </a:r>
            <a:endParaRPr b="1" i="1" lang="en-US" sz="3400" spc="-1" strike="noStrike">
              <a:solidFill>
                <a:srgbClr val="ffff00"/>
              </a:solidFill>
              <a:latin typeface="VNI-Helve"/>
            </a:endParaRPr>
          </a:p>
        </p:txBody>
      </p:sp>
      <p:sp>
        <p:nvSpPr>
          <p:cNvPr id="17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thaønh töïu khoa hoïc</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u höôùng coâng ngheä/Toác ñoä phaùt trieån cuûa coâng ngheä</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uyeån giao coâng ngheä</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ñaàu tö cho nghieân cöùu vaø phaùt trieån (R&amp;D)</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 phí cho nghieân cöùu vaø phaùt trieån</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baûo veä baûn quyeàn</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qui ñònh ñoái vôùi saûn phaåm</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A073771-8FBC-4A13-A741-BAD7A3484B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oâng ngheä </a:t>
            </a:r>
            <a:br>
              <a:rPr sz="3400"/>
            </a:br>
            <a:r>
              <a:rPr b="1" i="1" lang="en-US" sz="3400" spc="-1" strike="noStrike">
                <a:solidFill>
                  <a:srgbClr val="ffff00"/>
                </a:solidFill>
                <a:latin typeface="VNI-Helve"/>
              </a:rPr>
              <a:t>(Technology Factors) </a:t>
            </a:r>
            <a:endParaRPr b="1" i="1" lang="en-US" sz="3400" spc="-1" strike="noStrike">
              <a:solidFill>
                <a:srgbClr val="ffff00"/>
              </a:solidFill>
              <a:latin typeface="VNI-Helve"/>
            </a:endParaRPr>
          </a:p>
        </p:txBody>
      </p:sp>
      <p:sp>
        <p:nvSpPr>
          <p:cNvPr id="174" name=""/>
          <p:cNvSpPr/>
          <p:nvPr/>
        </p:nvSpPr>
        <p:spPr>
          <a:xfrm flipV="1">
            <a:off x="2293920" y="2058480"/>
            <a:ext cx="0" cy="24195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293920" y="4478400"/>
            <a:ext cx="4749840" cy="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684680" y="2057400"/>
            <a:ext cx="1425600" cy="322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Coâng ngheä B</a:t>
            </a:r>
            <a:endParaRPr b="0" lang="en-US" sz="1200" spc="-1" strike="noStrike">
              <a:solidFill>
                <a:srgbClr val="000000"/>
              </a:solidFill>
              <a:latin typeface="Times New Roman"/>
            </a:endParaRPr>
          </a:p>
        </p:txBody>
      </p:sp>
      <p:sp>
        <p:nvSpPr>
          <p:cNvPr id="177" name=""/>
          <p:cNvSpPr/>
          <p:nvPr/>
        </p:nvSpPr>
        <p:spPr>
          <a:xfrm>
            <a:off x="3189240" y="2946240"/>
            <a:ext cx="1424160" cy="32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Coâng ngheä A</a:t>
            </a:r>
            <a:endParaRPr b="0" lang="en-US" sz="1200" spc="-1" strike="noStrike">
              <a:solidFill>
                <a:srgbClr val="000000"/>
              </a:solidFill>
              <a:latin typeface="Times New Roman"/>
            </a:endParaRPr>
          </a:p>
        </p:txBody>
      </p:sp>
      <p:sp>
        <p:nvSpPr>
          <p:cNvPr id="178" name=""/>
          <p:cNvSpPr/>
          <p:nvPr/>
        </p:nvSpPr>
        <p:spPr>
          <a:xfrm>
            <a:off x="5381640" y="4719600"/>
            <a:ext cx="1781280" cy="56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Noã löïc nghieân cöùu phaùt trieån coâng nghieäp</a:t>
            </a:r>
            <a:endParaRPr b="0" lang="en-US" sz="1200" spc="-1" strike="noStrike">
              <a:solidFill>
                <a:srgbClr val="000000"/>
              </a:solidFill>
              <a:latin typeface="Times New Roman"/>
            </a:endParaRPr>
          </a:p>
        </p:txBody>
      </p:sp>
      <p:sp>
        <p:nvSpPr>
          <p:cNvPr id="179" name=""/>
          <p:cNvSpPr/>
          <p:nvPr/>
        </p:nvSpPr>
        <p:spPr>
          <a:xfrm>
            <a:off x="1411200" y="2787480"/>
            <a:ext cx="901800" cy="1613160"/>
          </a:xfrm>
          <a:prstGeom prst="rect">
            <a:avLst/>
          </a:prstGeom>
          <a:noFill/>
          <a:ln w="0">
            <a:noFill/>
          </a:ln>
        </p:spPr>
        <p:style>
          <a:lnRef idx="0"/>
          <a:fillRef idx="0"/>
          <a:effectRef idx="0"/>
          <a:fontRef idx="minor"/>
        </p:style>
        <p:txBody>
          <a:bodyPr lIns="90000" rIns="90000" tIns="46800" bIns="46800" anchor="t"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Hoaøn thaønh nghieân cöùu vaø phaùt trieån hoaëc tieán boä coâng nghieäp</a:t>
            </a:r>
            <a:endParaRPr b="0" lang="en-US" sz="1200" spc="-1" strike="noStrike">
              <a:solidFill>
                <a:srgbClr val="000000"/>
              </a:solidFill>
              <a:latin typeface="Times New Roman"/>
            </a:endParaRPr>
          </a:p>
        </p:txBody>
      </p:sp>
      <p:sp>
        <p:nvSpPr>
          <p:cNvPr id="180" name=""/>
          <p:cNvSpPr/>
          <p:nvPr/>
        </p:nvSpPr>
        <p:spPr>
          <a:xfrm>
            <a:off x="4613400" y="2457360"/>
            <a:ext cx="761760" cy="1086120"/>
          </a:xfrm>
          <a:custGeom>
            <a:avLst/>
            <a:gdLst/>
            <a:ahLst/>
            <a:rect l="l" t="t" r="r" b="b"/>
            <a:pathLst>
              <a:path w="1200" h="1620">
                <a:moveTo>
                  <a:pt x="1200" y="0"/>
                </a:moveTo>
                <a:cubicBezTo>
                  <a:pt x="1175" y="5"/>
                  <a:pt x="1149" y="6"/>
                  <a:pt x="1125" y="15"/>
                </a:cubicBezTo>
                <a:cubicBezTo>
                  <a:pt x="1061" y="39"/>
                  <a:pt x="1094" y="46"/>
                  <a:pt x="1050" y="90"/>
                </a:cubicBezTo>
                <a:cubicBezTo>
                  <a:pt x="1037" y="103"/>
                  <a:pt x="1020" y="110"/>
                  <a:pt x="1005" y="120"/>
                </a:cubicBezTo>
                <a:cubicBezTo>
                  <a:pt x="955" y="195"/>
                  <a:pt x="905" y="270"/>
                  <a:pt x="855" y="345"/>
                </a:cubicBezTo>
                <a:cubicBezTo>
                  <a:pt x="828" y="386"/>
                  <a:pt x="812" y="475"/>
                  <a:pt x="795" y="525"/>
                </a:cubicBezTo>
                <a:cubicBezTo>
                  <a:pt x="785" y="555"/>
                  <a:pt x="770" y="584"/>
                  <a:pt x="765" y="615"/>
                </a:cubicBezTo>
                <a:cubicBezTo>
                  <a:pt x="734" y="802"/>
                  <a:pt x="710" y="987"/>
                  <a:pt x="660" y="1170"/>
                </a:cubicBezTo>
                <a:cubicBezTo>
                  <a:pt x="649" y="1210"/>
                  <a:pt x="646" y="1252"/>
                  <a:pt x="630" y="1290"/>
                </a:cubicBezTo>
                <a:cubicBezTo>
                  <a:pt x="616" y="1323"/>
                  <a:pt x="581" y="1346"/>
                  <a:pt x="570" y="1380"/>
                </a:cubicBezTo>
                <a:cubicBezTo>
                  <a:pt x="558" y="1415"/>
                  <a:pt x="508" y="1493"/>
                  <a:pt x="480" y="1515"/>
                </a:cubicBezTo>
                <a:cubicBezTo>
                  <a:pt x="468" y="1525"/>
                  <a:pt x="449" y="1523"/>
                  <a:pt x="435" y="1530"/>
                </a:cubicBezTo>
                <a:cubicBezTo>
                  <a:pt x="419" y="1538"/>
                  <a:pt x="406" y="1553"/>
                  <a:pt x="390" y="1560"/>
                </a:cubicBezTo>
                <a:cubicBezTo>
                  <a:pt x="268" y="1614"/>
                  <a:pt x="131" y="1620"/>
                  <a:pt x="0" y="162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306600" y="3314880"/>
            <a:ext cx="963720" cy="922320"/>
          </a:xfrm>
          <a:custGeom>
            <a:avLst/>
            <a:gdLst/>
            <a:ahLst/>
            <a:rect l="l" t="t" r="r" b="b"/>
            <a:pathLst>
              <a:path w="1200" h="1620">
                <a:moveTo>
                  <a:pt x="1200" y="0"/>
                </a:moveTo>
                <a:cubicBezTo>
                  <a:pt x="1175" y="5"/>
                  <a:pt x="1149" y="6"/>
                  <a:pt x="1125" y="15"/>
                </a:cubicBezTo>
                <a:cubicBezTo>
                  <a:pt x="1061" y="39"/>
                  <a:pt x="1094" y="46"/>
                  <a:pt x="1050" y="90"/>
                </a:cubicBezTo>
                <a:cubicBezTo>
                  <a:pt x="1037" y="103"/>
                  <a:pt x="1020" y="110"/>
                  <a:pt x="1005" y="120"/>
                </a:cubicBezTo>
                <a:cubicBezTo>
                  <a:pt x="955" y="195"/>
                  <a:pt x="905" y="270"/>
                  <a:pt x="855" y="345"/>
                </a:cubicBezTo>
                <a:cubicBezTo>
                  <a:pt x="828" y="386"/>
                  <a:pt x="812" y="475"/>
                  <a:pt x="795" y="525"/>
                </a:cubicBezTo>
                <a:cubicBezTo>
                  <a:pt x="785" y="555"/>
                  <a:pt x="770" y="584"/>
                  <a:pt x="765" y="615"/>
                </a:cubicBezTo>
                <a:cubicBezTo>
                  <a:pt x="734" y="802"/>
                  <a:pt x="710" y="987"/>
                  <a:pt x="660" y="1170"/>
                </a:cubicBezTo>
                <a:cubicBezTo>
                  <a:pt x="649" y="1210"/>
                  <a:pt x="646" y="1252"/>
                  <a:pt x="630" y="1290"/>
                </a:cubicBezTo>
                <a:cubicBezTo>
                  <a:pt x="616" y="1323"/>
                  <a:pt x="581" y="1346"/>
                  <a:pt x="570" y="1380"/>
                </a:cubicBezTo>
                <a:cubicBezTo>
                  <a:pt x="558" y="1415"/>
                  <a:pt x="508" y="1493"/>
                  <a:pt x="480" y="1515"/>
                </a:cubicBezTo>
                <a:cubicBezTo>
                  <a:pt x="468" y="1525"/>
                  <a:pt x="449" y="1523"/>
                  <a:pt x="435" y="1530"/>
                </a:cubicBezTo>
                <a:cubicBezTo>
                  <a:pt x="419" y="1538"/>
                  <a:pt x="406" y="1553"/>
                  <a:pt x="390" y="1560"/>
                </a:cubicBezTo>
                <a:cubicBezTo>
                  <a:pt x="268" y="1614"/>
                  <a:pt x="131" y="1620"/>
                  <a:pt x="0" y="162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33280" y="5516640"/>
            <a:ext cx="526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NI-Helve"/>
              </a:rPr>
              <a:t>Chu kyø soáng cuûa coâng ngheä</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EBB5569-C28D-458A-BA96-613F584049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oâng ngheä </a:t>
            </a:r>
            <a:br>
              <a:rPr sz="3400"/>
            </a:br>
            <a:r>
              <a:rPr b="1" i="1" lang="en-US" sz="3400" spc="-1" strike="noStrike">
                <a:solidFill>
                  <a:srgbClr val="ffff00"/>
                </a:solidFill>
                <a:latin typeface="VNI-Helve"/>
              </a:rPr>
              <a:t>(Technology Factors) </a:t>
            </a:r>
            <a:endParaRPr b="1" i="1" lang="en-US" sz="3400" spc="-1" strike="noStrike">
              <a:solidFill>
                <a:srgbClr val="ffff00"/>
              </a:solidFill>
              <a:latin typeface="VNI-Helve"/>
            </a:endParaRPr>
          </a:p>
        </p:txBody>
      </p:sp>
      <p:pic>
        <p:nvPicPr>
          <p:cNvPr id="184" name="" descr=""/>
          <p:cNvPicPr/>
          <p:nvPr/>
        </p:nvPicPr>
        <p:blipFill>
          <a:blip r:embed="rId1"/>
          <a:stretch/>
        </p:blipFill>
        <p:spPr>
          <a:xfrm>
            <a:off x="609480" y="1676520"/>
            <a:ext cx="7925040" cy="4714920"/>
          </a:xfrm>
          <a:prstGeom prst="rect">
            <a:avLst/>
          </a:prstGeom>
          <a:ln w="0">
            <a:noFill/>
          </a:ln>
        </p:spPr>
      </p:pic>
      <p:sp>
        <p:nvSpPr>
          <p:cNvPr id="185" name=""/>
          <p:cNvSpPr/>
          <p:nvPr/>
        </p:nvSpPr>
        <p:spPr>
          <a:xfrm>
            <a:off x="674640" y="6361200"/>
            <a:ext cx="1701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ource: John Vu, Boeing</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21940C28-444B-4F8C-A391-4639D3AD1E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töï nhieân (Natural Factors) </a:t>
            </a:r>
            <a:endParaRPr b="1" i="1" lang="en-US" sz="3400" spc="-1" strike="noStrike">
              <a:solidFill>
                <a:srgbClr val="ffff00"/>
              </a:solidFill>
              <a:latin typeface="VNI-Helve"/>
            </a:endParaRPr>
          </a:p>
        </p:txBody>
      </p:sp>
      <p:sp>
        <p:nvSpPr>
          <p:cNvPr id="18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a ly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ôï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øi nguyeân thieân nhieâ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DFC7C9C-504F-4433-8913-D7C9F1058B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I TRÖÔØNG TAÙC NGHIEÄP</a:t>
            </a:r>
            <a:br>
              <a:rPr sz="3400"/>
            </a:br>
            <a:r>
              <a:rPr b="1" i="1" lang="en-US" sz="3400" spc="-1" strike="noStrike">
                <a:solidFill>
                  <a:srgbClr val="ffff00"/>
                </a:solidFill>
                <a:latin typeface="VNI-Helve"/>
              </a:rPr>
              <a:t>(Moâi tröôøng vi moâ / Taùc löïc caïnh tranh)</a:t>
            </a:r>
            <a:endParaRPr b="1" i="1" lang="en-US" sz="3400" spc="-1" strike="noStrike">
              <a:solidFill>
                <a:srgbClr val="ffff00"/>
              </a:solidFill>
              <a:latin typeface="VNI-Helve"/>
            </a:endParaRPr>
          </a:p>
        </p:txBody>
      </p:sp>
      <p:sp>
        <p:nvSpPr>
          <p:cNvPr id="1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Helve"/>
              </a:rPr>
              <a:t>Ngaønh coâng nghieäp</a:t>
            </a:r>
            <a:endParaRPr b="0" lang="en-US" sz="3200" spc="-1" strike="noStrike">
              <a:solidFill>
                <a:srgbClr val="000000"/>
              </a:solidFill>
              <a:latin typeface="VNI-Helv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nh nghóa: ngaønh coâng nghieäp laø moät nhoùm coâng ty saûn xuaát caùc saûn phaåm töông töï/ thay theá gaàn guõi cho nha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3325945-D5D2-4D3E-9E62-A24B1509CC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 hình Naêm Taùc Löïc – Five Forces Model</a:t>
            </a:r>
            <a:br>
              <a:rPr sz="3400"/>
            </a:br>
            <a:r>
              <a:rPr b="1" i="1" lang="en-US" sz="3400" spc="-1" strike="noStrike">
                <a:solidFill>
                  <a:srgbClr val="ffff00"/>
                </a:solidFill>
                <a:latin typeface="VNI-Helve"/>
              </a:rPr>
              <a:t>(Micheal E. Porter)</a:t>
            </a:r>
            <a:endParaRPr b="1" i="1" lang="en-US" sz="3400" spc="-1" strike="noStrike">
              <a:solidFill>
                <a:srgbClr val="ffff00"/>
              </a:solidFill>
              <a:latin typeface="VNI-Helve"/>
            </a:endParaRPr>
          </a:p>
        </p:txBody>
      </p:sp>
      <p:sp>
        <p:nvSpPr>
          <p:cNvPr id="191" name=""/>
          <p:cNvSpPr/>
          <p:nvPr/>
        </p:nvSpPr>
        <p:spPr>
          <a:xfrm>
            <a:off x="3557520" y="1468440"/>
            <a:ext cx="1427400" cy="56520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Caùc ñoái thuû tieàm aån</a:t>
            </a:r>
            <a:endParaRPr b="0" lang="en-US" sz="1600" spc="-1" strike="noStrike">
              <a:solidFill>
                <a:srgbClr val="000000"/>
              </a:solidFill>
              <a:latin typeface="Times New Roman"/>
            </a:endParaRPr>
          </a:p>
        </p:txBody>
      </p:sp>
      <p:sp>
        <p:nvSpPr>
          <p:cNvPr id="192" name=""/>
          <p:cNvSpPr/>
          <p:nvPr/>
        </p:nvSpPr>
        <p:spPr>
          <a:xfrm>
            <a:off x="1066680" y="3726000"/>
            <a:ext cx="1062000" cy="56484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Ngöôøi cung caáp</a:t>
            </a:r>
            <a:endParaRPr b="0" lang="en-US" sz="1600" spc="-1" strike="noStrike">
              <a:solidFill>
                <a:srgbClr val="000000"/>
              </a:solidFill>
              <a:latin typeface="Times New Roman"/>
            </a:endParaRPr>
          </a:p>
        </p:txBody>
      </p:sp>
      <p:sp>
        <p:nvSpPr>
          <p:cNvPr id="193" name=""/>
          <p:cNvSpPr/>
          <p:nvPr/>
        </p:nvSpPr>
        <p:spPr>
          <a:xfrm>
            <a:off x="6407280" y="3726000"/>
            <a:ext cx="984240" cy="56484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Ngöôøi mua</a:t>
            </a:r>
            <a:endParaRPr b="0" lang="en-US" sz="1600" spc="-1" strike="noStrike">
              <a:solidFill>
                <a:srgbClr val="000000"/>
              </a:solidFill>
              <a:latin typeface="Times New Roman"/>
            </a:endParaRPr>
          </a:p>
        </p:txBody>
      </p:sp>
      <p:sp>
        <p:nvSpPr>
          <p:cNvPr id="194" name=""/>
          <p:cNvSpPr/>
          <p:nvPr/>
        </p:nvSpPr>
        <p:spPr>
          <a:xfrm>
            <a:off x="3556080" y="2919240"/>
            <a:ext cx="1546200" cy="2340000"/>
          </a:xfrm>
          <a:prstGeom prst="rect">
            <a:avLst/>
          </a:prstGeom>
          <a:solidFill>
            <a:srgbClr val="ffcc66"/>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Caùc coâng ty trong cuøng ngaønh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Helve"/>
              </a:rPr>
              <a:t>Möùc ñoä caïnh tranh giöõa caùc coâng ty trong cuøng ngaønh coâng nghieäp</a:t>
            </a:r>
            <a:endParaRPr b="0" lang="en-US" sz="1200" spc="-1" strike="noStrike">
              <a:solidFill>
                <a:srgbClr val="000000"/>
              </a:solidFill>
              <a:latin typeface="Times New Roman"/>
            </a:endParaRPr>
          </a:p>
        </p:txBody>
      </p:sp>
      <p:sp>
        <p:nvSpPr>
          <p:cNvPr id="195" name=""/>
          <p:cNvSpPr/>
          <p:nvPr/>
        </p:nvSpPr>
        <p:spPr>
          <a:xfrm flipV="1">
            <a:off x="4060800" y="3733200"/>
            <a:ext cx="476280" cy="484200"/>
          </a:xfrm>
          <a:custGeom>
            <a:avLst/>
            <a:gdLst>
              <a:gd name="textAreaLeft" fmla="*/ 0 w 476280"/>
              <a:gd name="textAreaRight" fmla="*/ 476640 w 476280"/>
              <a:gd name="textAreaTop" fmla="*/ -360 h 484200"/>
              <a:gd name="textAreaBottom" fmla="*/ 484200 h 484200"/>
            </a:gdLst>
            <a:ahLst/>
            <a:rect l="textAreaLeft" t="textAreaTop" r="textAreaRight" b="textAreaBottom"/>
            <a:pathLst>
              <a:path w="21600" h="21600">
                <a:moveTo>
                  <a:pt x="2607" y="3763"/>
                </a:moveTo>
                <a:arcTo wR="-10800" hR="-10800" stAng="-8360406" swAng="-16241597"/>
                <a:lnTo>
                  <a:pt x="3863" y="19077"/>
                </a:lnTo>
                <a:arcTo wR="10800" hR="10800" stAng="7797997" swAng="16241597"/>
                <a:lnTo>
                  <a:pt x="21041" y="19596"/>
                </a:lnTo>
                <a:lnTo>
                  <a:pt x="17234" y="19885"/>
                </a:lnTo>
                <a:lnTo>
                  <a:pt x="16945" y="16078"/>
                </a:lnTo>
                <a:close/>
              </a:path>
            </a:pathLst>
          </a:custGeom>
          <a:solidFill>
            <a:srgbClr val="ffffff"/>
          </a:solidFill>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270320" y="2033640"/>
            <a:ext cx="0" cy="885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308480" y="2193840"/>
            <a:ext cx="1544760" cy="484200"/>
          </a:xfrm>
          <a:prstGeom prst="rect">
            <a:avLst/>
          </a:prstGeom>
          <a:solidFill>
            <a:srgbClr val="ffffff"/>
          </a:solid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Nguy cô coù caùc ñoái thuû caïnh tranh môùi</a:t>
            </a:r>
            <a:endParaRPr b="0" lang="en-US" sz="1200" spc="-1" strike="noStrike">
              <a:solidFill>
                <a:srgbClr val="000000"/>
              </a:solidFill>
              <a:latin typeface="Times New Roman"/>
            </a:endParaRPr>
          </a:p>
        </p:txBody>
      </p:sp>
      <p:sp>
        <p:nvSpPr>
          <p:cNvPr id="198" name=""/>
          <p:cNvSpPr/>
          <p:nvPr/>
        </p:nvSpPr>
        <p:spPr>
          <a:xfrm>
            <a:off x="4308480" y="5410080"/>
            <a:ext cx="1749600" cy="427320"/>
          </a:xfrm>
          <a:prstGeom prst="rect">
            <a:avLst/>
          </a:prstGeom>
          <a:solidFill>
            <a:srgbClr val="ffffff"/>
          </a:solidFill>
          <a:ln w="0">
            <a:noFill/>
          </a:ln>
        </p:spPr>
        <p:style>
          <a:lnRef idx="0"/>
          <a:fillRef idx="0"/>
          <a:effectRef idx="0"/>
          <a:fontRef idx="minor"/>
        </p:style>
        <p:txBody>
          <a:bodyPr lIns="18000" rIns="18000" tIns="10800" bIns="10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Nguy cô do caùc saûn phaåm vaø dòch vuï thay theá</a:t>
            </a:r>
            <a:endParaRPr b="0" lang="en-US" sz="1200" spc="-1" strike="noStrike">
              <a:solidFill>
                <a:srgbClr val="000000"/>
              </a:solidFill>
              <a:latin typeface="Times New Roman"/>
            </a:endParaRPr>
          </a:p>
        </p:txBody>
      </p:sp>
      <p:sp>
        <p:nvSpPr>
          <p:cNvPr id="199" name=""/>
          <p:cNvSpPr/>
          <p:nvPr/>
        </p:nvSpPr>
        <p:spPr>
          <a:xfrm flipV="1">
            <a:off x="4270320" y="5258880"/>
            <a:ext cx="0" cy="806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133720" y="3968640"/>
            <a:ext cx="1423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5101920" y="3968640"/>
            <a:ext cx="1305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247840" y="3200400"/>
            <a:ext cx="1260360" cy="48564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Khaû naêng thöông löôïngù cuûa ngöôøi cung caáp </a:t>
            </a:r>
            <a:endParaRPr b="0" lang="en-US" sz="1200" spc="-1" strike="noStrike">
              <a:solidFill>
                <a:srgbClr val="000000"/>
              </a:solidFill>
              <a:latin typeface="Times New Roman"/>
            </a:endParaRPr>
          </a:p>
        </p:txBody>
      </p:sp>
      <p:sp>
        <p:nvSpPr>
          <p:cNvPr id="203" name=""/>
          <p:cNvSpPr/>
          <p:nvPr/>
        </p:nvSpPr>
        <p:spPr>
          <a:xfrm>
            <a:off x="5219640" y="3276720"/>
            <a:ext cx="1187640" cy="46332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Khaû naêng thöông löôïngù cuûa ngöôøi mua</a:t>
            </a:r>
            <a:endParaRPr b="0" lang="en-US" sz="1200" spc="-1" strike="noStrike">
              <a:solidFill>
                <a:srgbClr val="000000"/>
              </a:solidFill>
              <a:latin typeface="Times New Roman"/>
            </a:endParaRPr>
          </a:p>
        </p:txBody>
      </p:sp>
      <p:sp>
        <p:nvSpPr>
          <p:cNvPr id="204" name=""/>
          <p:cNvSpPr/>
          <p:nvPr/>
        </p:nvSpPr>
        <p:spPr>
          <a:xfrm>
            <a:off x="3581280" y="6019920"/>
            <a:ext cx="1427400" cy="56520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Saûn phaåm thay theá</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72C7E053-A3D0-4D12-BD4F-89B07FF0A0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ïnh tranh cuûa caùc coâng ty trong cuøng ngaønh coâng nghieäp</a:t>
            </a:r>
            <a:endParaRPr b="1" i="1" lang="en-US" sz="3400" spc="-1" strike="noStrike">
              <a:solidFill>
                <a:srgbClr val="ffff00"/>
              </a:solidFill>
              <a:latin typeface="VNI-Helve"/>
            </a:endParaRPr>
          </a:p>
        </p:txBody>
      </p:sp>
      <p:sp>
        <p:nvSpPr>
          <p:cNvPr id="206"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ïnh tranh </a:t>
            </a:r>
            <a:r>
              <a:rPr b="0" lang="en-US" sz="2400" spc="-1" strike="noStrike">
                <a:solidFill>
                  <a:srgbClr val="000000"/>
                </a:solidFill>
                <a:latin typeface="Wingdings"/>
                <a:ea typeface="Wingdings"/>
              </a:rPr>
              <a:t></a:t>
            </a:r>
            <a:r>
              <a:rPr b="0" lang="en-US" sz="2400" spc="-1" strike="noStrike">
                <a:solidFill>
                  <a:srgbClr val="000000"/>
                </a:solidFill>
                <a:latin typeface="VNI-Helve"/>
              </a:rPr>
              <a:t> vò theá toát</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ình thöùc caïnh tranh: Giaù, quaûng caùo, saûn phaåm, dòch vuï, chaát löôïng, … </a:t>
            </a:r>
            <a:r>
              <a:rPr b="0" lang="en-US" sz="2400" spc="-1" strike="noStrike">
                <a:solidFill>
                  <a:srgbClr val="000000"/>
                </a:solidFill>
                <a:latin typeface="Wingdings"/>
                <a:ea typeface="Wingdings"/>
              </a:rPr>
              <a:t></a:t>
            </a:r>
            <a:r>
              <a:rPr b="0" lang="en-US" sz="2400" spc="-1" strike="noStrike">
                <a:solidFill>
                  <a:srgbClr val="000000"/>
                </a:solidFill>
                <a:latin typeface="VNI-Helve"/>
              </a:rPr>
              <a:t> thuyeát phuïc ngöôøi mua/khaùch haøng</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ïnh tranh gay gaét phuï thuoäc vaøo:</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oá löôïng ñoái thuû</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oác ñoä taêng tröôûng cuûa ngaønh</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hi phí coá ñònh vaø chi phí löu kho</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Lôïi theá theo qui moâ</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khaùc bieät hoùa saûn phaåm thaáp</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ñoái thuû caïnh tranh ña daïng</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aùi ñoä caïnh tranh cuûa ñoái thuû</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Raøo caûn ruùt lui cao</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DAE5C8CE-BE3B-4D3C-9FC9-57D69040C4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Phaân tích ñoái thuû caïnh tranh </a:t>
            </a:r>
            <a:endParaRPr b="1" i="1" lang="en-US" sz="3400" spc="-1" strike="noStrike">
              <a:solidFill>
                <a:srgbClr val="ffff00"/>
              </a:solidFill>
              <a:latin typeface="VNI-Helve"/>
            </a:endParaRPr>
          </a:p>
        </p:txBody>
      </p:sp>
      <p:sp>
        <p:nvSpPr>
          <p:cNvPr id="20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6000"/>
          </a:bodyPr>
          <a:p>
            <a:pPr marL="329040" indent="-329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töông lai</a:t>
            </a:r>
            <a:endParaRPr b="0" lang="en-US" sz="2800" spc="-1" strike="noStrike">
              <a:solidFill>
                <a:srgbClr val="000000"/>
              </a:solidFill>
              <a:latin typeface="VNI-Helve"/>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uïc tieâu cuûa coâng ty meï</a:t>
            </a:r>
            <a:endParaRPr b="0" lang="en-US" sz="2400" spc="-1" strike="noStrike">
              <a:solidFill>
                <a:srgbClr val="000000"/>
              </a:solidFill>
              <a:latin typeface="VNI-Helve"/>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uïc tieâu cuûa caùc ñôn vò kinh doanh/coâng ty con</a:t>
            </a:r>
            <a:endParaRPr b="0" lang="en-US" sz="2400" spc="-1" strike="noStrike">
              <a:solidFill>
                <a:srgbClr val="000000"/>
              </a:solidFill>
              <a:latin typeface="VNI-Helve"/>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ân tích danh muïc kinh doanh</a:t>
            </a:r>
            <a:endParaRPr b="0" lang="en-US" sz="2400" spc="-1" strike="noStrike">
              <a:solidFill>
                <a:srgbClr val="000000"/>
              </a:solidFill>
              <a:latin typeface="VNI-Helve"/>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ùc muïc tieâu quan troïng vaø öu tieân cuûa ñoái thuû caïnh tranh</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C184D4E7-BA26-4802-A019-8C2551B13E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 vó moâ</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ính trò – Phaùp lyù</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inh teá</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õ hoäi</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âng ngheä</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 taùc nghieäp</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aønh coâng nghieäp</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oâ hình Naêm Taùc Löïc</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cô hoäi, nguy cô</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F0BC1E5-7741-40DD-8117-57C4590126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hieän taïi </a:t>
            </a:r>
            <a:endParaRPr b="1" i="1" lang="en-US" sz="3400" spc="-1" strike="noStrike">
              <a:solidFill>
                <a:srgbClr val="ffff00"/>
              </a:solidFill>
              <a:latin typeface="VNI-Helve"/>
            </a:endParaRPr>
          </a:p>
        </p:txBody>
      </p:sp>
      <p:sp>
        <p:nvSpPr>
          <p:cNvPr id="21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chính saùch then choát / hoaït ñoäng quan troïng trong töøng hoaït ñoäng chöùc naê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ï phoái hôïp giöõa caùc boä phaän chöùc naê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hoaït ñoäng ñaùng quan taâm cuûa ñoái thuû</a:t>
            </a:r>
            <a:endParaRPr b="0" lang="en-US" sz="28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9EBAFC1B-60B2-4B15-AC35-66C1BA8125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haän ñònh</a:t>
            </a:r>
            <a:endParaRPr b="1" i="1" lang="en-US" sz="3400" spc="-1" strike="noStrike">
              <a:solidFill>
                <a:srgbClr val="ffff00"/>
              </a:solidFill>
              <a:latin typeface="VNI-Helve"/>
            </a:endParaRPr>
          </a:p>
        </p:txBody>
      </p:sp>
      <p:sp>
        <p:nvSpPr>
          <p:cNvPr id="21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ái thuû caïnh tranh töï ñaùnh giaù theá naøo veà hoï ?</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ái thuû caïnh tranh ñaùnh giaù caùc ñoái thuû khaùc nhö theá naøo? </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ái thuû caïnh tranh nhaän ñònh veà trieån voïng ngaø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8567030-485C-4E40-932B-332BFFB04A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aêng löïc cuûa ñoái thuû caïnh tranh</a:t>
            </a:r>
            <a:endParaRPr b="1" i="1" lang="en-US" sz="3400" spc="-1" strike="noStrike">
              <a:solidFill>
                <a:srgbClr val="ffff00"/>
              </a:solidFill>
              <a:latin typeface="VNI-Helve"/>
            </a:endParaRPr>
          </a:p>
        </p:txBody>
      </p:sp>
      <p:sp>
        <p:nvSpPr>
          <p:cNvPr id="214" name="PlaceHolder 2"/>
          <p:cNvSpPr>
            <a:spLocks noGrp="1"/>
          </p:cNvSpPr>
          <p:nvPr>
            <p:ph/>
          </p:nvPr>
        </p:nvSpPr>
        <p:spPr>
          <a:xfrm>
            <a:off x="457200" y="1447920"/>
            <a:ext cx="8305920" cy="44956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aûn xuaát</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ieáp thò</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hieân cöùu vaø phaùt trieån - R&amp;D</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uoàn nhaân lö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øi chí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eä thoáng thoâng ti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âng taùc quaûn ly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A88C3C50-B4C0-4687-9190-E2025B0765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KHAÙCH HAØNG / NGÖÔØI MUA </a:t>
            </a:r>
            <a:endParaRPr b="1" i="1" lang="en-US" sz="3400" spc="-1" strike="noStrike">
              <a:solidFill>
                <a:srgbClr val="ffff00"/>
              </a:solidFill>
              <a:latin typeface="VNI-Helve"/>
            </a:endParaRPr>
          </a:p>
        </p:txBody>
      </p:sp>
      <p:sp>
        <p:nvSpPr>
          <p:cNvPr id="216" name="PlaceHolder 2"/>
          <p:cNvSpPr>
            <a:spLocks noGrp="1"/>
          </p:cNvSpPr>
          <p:nvPr>
            <p:ph/>
          </p:nvPr>
        </p:nvSpPr>
        <p:spPr>
          <a:xfrm>
            <a:off x="457200" y="1447920"/>
            <a:ext cx="8305920" cy="449568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ùch haøng </a:t>
            </a:r>
            <a:r>
              <a:rPr b="0" lang="en-US" sz="2800" spc="-1" strike="noStrike">
                <a:solidFill>
                  <a:srgbClr val="000000"/>
                </a:solidFill>
                <a:latin typeface="Wingdings"/>
                <a:ea typeface="Wingdings"/>
              </a:rPr>
              <a:t></a:t>
            </a:r>
            <a:r>
              <a:rPr b="0" lang="en-US" sz="2800" spc="-1" strike="noStrike">
                <a:solidFill>
                  <a:srgbClr val="000000"/>
                </a:solidFill>
                <a:latin typeface="VNI-Helve"/>
              </a:rPr>
              <a:t> Taùc löïc cô baûn quyeát ñònh khaû naêng sinh lôïi tieàm taøng cuûa ngaønh cuõng nhö khaû naêng toàn taïi cuûa coâng ty.</a:t>
            </a:r>
            <a:endParaRPr b="0" lang="en-US" sz="2800" spc="-1" strike="noStrike">
              <a:solidFill>
                <a:srgbClr val="000000"/>
              </a:solidFill>
              <a:latin typeface="VNI-Helve"/>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ùch haøng khaùc nhau veà nhu caàu mua haøng </a:t>
            </a:r>
            <a:r>
              <a:rPr b="0" lang="en-US" sz="2800" spc="-1" strike="noStrike">
                <a:solidFill>
                  <a:srgbClr val="000000"/>
                </a:solidFill>
                <a:latin typeface="Wingdings"/>
                <a:ea typeface="Wingdings"/>
              </a:rPr>
              <a:t></a:t>
            </a:r>
            <a:r>
              <a:rPr b="0" lang="en-US" sz="2800" spc="-1" strike="noStrike">
                <a:solidFill>
                  <a:srgbClr val="000000"/>
                </a:solidFill>
                <a:latin typeface="VNI-Helve"/>
              </a:rPr>
              <a:t> ñoøi hoûi khaùc nhau veà möùc ñoä dòch vuï, chaát löôïng vaø ñaëc ñieåm cuûa saûn phaåm, keânh phaân phoái, … </a:t>
            </a:r>
            <a:r>
              <a:rPr b="0" lang="en-US" sz="2800" spc="-1" strike="noStrike">
                <a:solidFill>
                  <a:srgbClr val="000000"/>
                </a:solidFill>
                <a:latin typeface="Wingdings"/>
                <a:ea typeface="Wingdings"/>
              </a:rPr>
              <a:t></a:t>
            </a:r>
            <a:r>
              <a:rPr b="0" lang="en-US" sz="2800" spc="-1" strike="noStrike">
                <a:solidFill>
                  <a:srgbClr val="000000"/>
                </a:solidFill>
                <a:latin typeface="VNI-Helve"/>
              </a:rPr>
              <a:t> khaû naêng thöông löôïng cuûa khaùch ha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34C6A7F-704C-4949-8E29-944A167CCB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KHAÙCH HAØNG / NGÖÔØI MUA </a:t>
            </a:r>
            <a:endParaRPr b="1" i="1" lang="en-US" sz="3400" spc="-1" strike="noStrike">
              <a:solidFill>
                <a:srgbClr val="ffff00"/>
              </a:solidFill>
              <a:latin typeface="VNI-Helve"/>
            </a:endParaRPr>
          </a:p>
        </p:txBody>
      </p:sp>
      <p:sp>
        <p:nvSpPr>
          <p:cNvPr id="218" name="PlaceHolder 2"/>
          <p:cNvSpPr>
            <a:spLocks noGrp="1"/>
          </p:cNvSpPr>
          <p:nvPr>
            <p:ph/>
          </p:nvPr>
        </p:nvSpPr>
        <p:spPr>
          <a:xfrm>
            <a:off x="457200" y="1447560"/>
            <a:ext cx="8305920" cy="47242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höông löôïng (traû giaù) cuûa khaùch haøng</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ôïng haøng mua</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á löôïng nhaø cung caáp</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choïn löïa ñoái vôùi saûn phaåm thay theá.</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öï cung caáp</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quan troïng cuûa saûn phaåm ñoái vôùi K.Haøng</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ôïng thoâng tin cuûa khaùch haøng</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CC4CDCD-A742-4889-A84B-DC31377C31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HAØ CUNG  CAÁP</a:t>
            </a:r>
            <a:endParaRPr b="1" i="1" lang="en-US" sz="3400" spc="-1" strike="noStrike">
              <a:solidFill>
                <a:srgbClr val="ffff00"/>
              </a:solidFill>
              <a:latin typeface="VNI-Helve"/>
            </a:endParaRPr>
          </a:p>
        </p:txBody>
      </p:sp>
      <p:sp>
        <p:nvSpPr>
          <p:cNvPr id="220" name="PlaceHolder 2"/>
          <p:cNvSpPr>
            <a:spLocks noGrp="1"/>
          </p:cNvSpPr>
          <p:nvPr>
            <p:ph/>
          </p:nvPr>
        </p:nvSpPr>
        <p:spPr>
          <a:xfrm>
            <a:off x="457200" y="1294920"/>
            <a:ext cx="8305920" cy="5257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aø cung caáp </a:t>
            </a:r>
            <a:r>
              <a:rPr b="0" lang="en-US" sz="2800" spc="-1" strike="noStrike">
                <a:solidFill>
                  <a:srgbClr val="000000"/>
                </a:solidFill>
                <a:latin typeface="Wingdings"/>
                <a:ea typeface="Wingdings"/>
              </a:rPr>
              <a:t></a:t>
            </a:r>
            <a:r>
              <a:rPr b="0" lang="en-US" sz="2800" spc="-1" strike="noStrike">
                <a:solidFill>
                  <a:srgbClr val="000000"/>
                </a:solidFill>
                <a:latin typeface="VNI-Helve"/>
              </a:rPr>
              <a:t> Taùc löïc cô baûn quyeát ñònh khaû naêng caïnh tranh cuûa coâng ty.</a:t>
            </a:r>
            <a:endParaRPr b="0" lang="en-US" sz="2800" spc="-1" strike="noStrike">
              <a:solidFill>
                <a:srgbClr val="000000"/>
              </a:solidFill>
              <a:latin typeface="VNI-Helve"/>
            </a:endParaRPr>
          </a:p>
          <a:p>
            <a:pPr marL="318960" indent="-31896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höông löôïng (naâng giaù, giaûm chaát löôïng haøng hoaù) cuûa nhaø cung  caáp</a:t>
            </a:r>
            <a:endParaRPr b="0" lang="en-US" sz="28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löïa choïn saûn phaåm thay theá cuûa Cty. </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öôïng haøng mua</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öùc ñoä quan troïng cuûa saûn phaåm ñoái vôùi coâng ty</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aø cung caáp coù öu theá vì chuyeân bieät hoùa saûn phaåm</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töï  cung caáp cuûa coâng ty</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keát hôïp veà phía tröôùc cuûa nhaø cung caáp</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FA8CFEA0-EB0F-4881-8A10-9A614FCF30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SAÛN PHAÅM THAY THEÁ</a:t>
            </a:r>
            <a:endParaRPr b="1" i="1" lang="en-US" sz="3400" spc="-1" strike="noStrike">
              <a:solidFill>
                <a:srgbClr val="ffff00"/>
              </a:solidFill>
              <a:latin typeface="VNI-Helve"/>
            </a:endParaRPr>
          </a:p>
        </p:txBody>
      </p:sp>
      <p:sp>
        <p:nvSpPr>
          <p:cNvPr id="222" name="PlaceHolder 2"/>
          <p:cNvSpPr>
            <a:spLocks noGrp="1"/>
          </p:cNvSpPr>
          <p:nvPr>
            <p:ph/>
          </p:nvPr>
        </p:nvSpPr>
        <p:spPr>
          <a:xfrm>
            <a:off x="457200" y="1447920"/>
            <a:ext cx="830592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aûn phaåm thay theá</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í duï:</a:t>
            </a:r>
            <a:r>
              <a:rPr b="0" lang="en-US" sz="2800" spc="-1" strike="noStrike">
                <a:solidFill>
                  <a:srgbClr val="000000"/>
                </a:solidFill>
                <a:latin typeface="VNI-Helve"/>
              </a:rPr>
              <a:t>	</a:t>
            </a:r>
            <a:r>
              <a:rPr b="0" lang="en-US" sz="2800" spc="-1" strike="noStrike">
                <a:solidFill>
                  <a:srgbClr val="000000"/>
                </a:solidFill>
                <a:latin typeface="VNI-Helve"/>
              </a:rPr>
              <a:t>Coca Cola – Pepsi Cola</a:t>
            </a:r>
            <a:endParaRPr b="0" lang="en-US" sz="28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Traø Dilmal – Cafeù Trung nguyeân</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Ñaàu DVD Tieán Ñaït – Ñaàu DVD VTB</a:t>
            </a:r>
            <a:endParaRPr b="0" lang="en-US" sz="2400" spc="-1" strike="noStrike">
              <a:solidFill>
                <a:srgbClr val="000000"/>
              </a:solidFill>
              <a:latin typeface="VNI-Helve"/>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ù &amp; Nhu caàu khaùc bieät veà saûn phaåm </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ï phaùt trieån cuûa coâng ngheä</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Wingdings"/>
                <a:ea typeface="Wingdings"/>
              </a:rPr>
              <a:t></a:t>
            </a:r>
            <a:r>
              <a:rPr b="1" i="1" lang="en-US" sz="2400" spc="-1" strike="noStrike">
                <a:solidFill>
                  <a:srgbClr val="ff0000"/>
                </a:solidFill>
                <a:latin typeface="VNI-Helve"/>
              </a:rPr>
              <a:t> </a:t>
            </a:r>
            <a:r>
              <a:rPr b="1" i="1" lang="en-US" sz="2400" spc="-1" strike="noStrike">
                <a:solidFill>
                  <a:srgbClr val="ff0000"/>
                </a:solidFill>
                <a:latin typeface="VNI-Helve"/>
              </a:rPr>
              <a:t>Saûn phaåm thay theá</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07820398-B0C6-4579-B63C-D865E6F801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ÑOÁI THUÛ CAÏNH TRANH TIEÀM AÅN </a:t>
            </a:r>
            <a:endParaRPr b="1" i="1" lang="en-US" sz="3400" spc="-1" strike="noStrike">
              <a:solidFill>
                <a:srgbClr val="ffff00"/>
              </a:solidFill>
              <a:latin typeface="VNI-Helve"/>
            </a:endParaRPr>
          </a:p>
        </p:txBody>
      </p:sp>
      <p:sp>
        <p:nvSpPr>
          <p:cNvPr id="22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 daïng hoùa saûn phaåm</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ôïi theá nhôø qui moâ</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øi  chính – ñaàu tö</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âng ngheä</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now-how</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cuûa chính phuû</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Wingdings"/>
                <a:ea typeface="Wingdings"/>
              </a:rPr>
              <a:t></a:t>
            </a:r>
            <a:r>
              <a:rPr b="1" i="1" lang="en-US" sz="2400" spc="-1" strike="noStrike">
                <a:solidFill>
                  <a:srgbClr val="ff0000"/>
                </a:solidFill>
                <a:latin typeface="VNI-Helve"/>
              </a:rPr>
              <a:t> </a:t>
            </a:r>
            <a:r>
              <a:rPr b="1" i="1" lang="en-US" sz="2400" spc="-1" strike="noStrike">
                <a:solidFill>
                  <a:srgbClr val="ff0000"/>
                </a:solidFill>
                <a:latin typeface="VNI-Helve"/>
              </a:rPr>
              <a:t>Raøo caûn gia nhaäp (Entry barrier)</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11B94E69-7927-4D20-A2F4-1C6588C4F8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VNI-Helve"/>
              </a:rPr>
              <a:t>Cô hoäi vaø nguy cô </a:t>
            </a:r>
            <a:endParaRPr b="1" i="1" lang="en-US" sz="3000" spc="-1" strike="noStrike">
              <a:solidFill>
                <a:srgbClr val="ffff00"/>
              </a:solidFill>
              <a:latin typeface="VNI-Helve"/>
            </a:endParaRPr>
          </a:p>
        </p:txBody>
      </p:sp>
      <p:sp>
        <p:nvSpPr>
          <p:cNvPr id="22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3000"/>
          </a:bodyPr>
          <a:p>
            <a:pPr marL="318960" indent="-31896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moâi tröôøng beân ngoaøi nhaèm ñeå öôùc löôïng nhöõng cô hoäi vaø nguy cô ñeå töø ñoù coù nhöõng haønh ñoäng chieán löôïc tranh thuû cô hoäi vaø giaûm thieåu nguy cô.</a:t>
            </a:r>
            <a:endParaRPr b="0" lang="en-US" sz="2800" spc="-1" strike="noStrike">
              <a:solidFill>
                <a:srgbClr val="000000"/>
              </a:solidFill>
              <a:latin typeface="VNI-Helve"/>
            </a:endParaRPr>
          </a:p>
          <a:p>
            <a:pPr marL="318960" indent="-31896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ô hoäi kinh doanh laø nhöõng ñieàu kieän moâi tröôøng beân ngoaøi coù lôïi cho coâng ty. </a:t>
            </a:r>
            <a:endParaRPr b="0" lang="en-US" sz="2800" spc="-1" strike="noStrike">
              <a:solidFill>
                <a:srgbClr val="000000"/>
              </a:solidFill>
              <a:latin typeface="VNI-Helve"/>
            </a:endParaRPr>
          </a:p>
          <a:p>
            <a:pPr marL="318960" indent="-31896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uy cô thò tröôøng laø nhöõng ñieàu kieän moâi tröôøng beân ngoaøi gaây baát lôïi cho coâng ty, coù aûnh höôûng ñeán khaû naêng sinh lôïi cuõng nhö vò trí treân thò tröôøng cuûa coâng ty.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DAD4BC9-8E64-4D30-A13B-2CFB7551C5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67000" y="1295280"/>
            <a:ext cx="803088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Phaân tíc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MOÂI TRÖÔØNG BEÂN TRONG</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9"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
          <p:cNvGrpSpPr/>
          <p:nvPr/>
        </p:nvGrpSpPr>
        <p:grpSpPr>
          <a:xfrm>
            <a:off x="3281400" y="3019320"/>
            <a:ext cx="2585880" cy="2771640"/>
            <a:chOff x="3281400" y="3019320"/>
            <a:chExt cx="2585880" cy="2771640"/>
          </a:xfrm>
        </p:grpSpPr>
        <p:grpSp>
          <p:nvGrpSpPr>
            <p:cNvPr id="231" name=""/>
            <p:cNvGrpSpPr/>
            <p:nvPr/>
          </p:nvGrpSpPr>
          <p:grpSpPr>
            <a:xfrm>
              <a:off x="3281400" y="3019320"/>
              <a:ext cx="2585880" cy="2068920"/>
              <a:chOff x="3281400" y="3019320"/>
              <a:chExt cx="2585880" cy="2068920"/>
            </a:xfrm>
          </p:grpSpPr>
          <p:sp>
            <p:nvSpPr>
              <p:cNvPr id="232"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3326760" y="3220200"/>
                <a:ext cx="2493360" cy="1352160"/>
                <a:chOff x="3326760" y="3220200"/>
                <a:chExt cx="2493360" cy="1352160"/>
              </a:xfrm>
            </p:grpSpPr>
            <p:sp>
              <p:nvSpPr>
                <p:cNvPr id="234"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5"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236" name=""/>
                <p:cNvGrpSpPr/>
                <p:nvPr/>
              </p:nvGrpSpPr>
              <p:grpSpPr>
                <a:xfrm>
                  <a:off x="5600520" y="4342320"/>
                  <a:ext cx="219600" cy="137160"/>
                  <a:chOff x="5600520" y="4342320"/>
                  <a:chExt cx="219600" cy="137160"/>
                </a:xfrm>
              </p:grpSpPr>
              <p:sp>
                <p:nvSpPr>
                  <p:cNvPr id="237"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8"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9"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240"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241" name=""/>
                <p:cNvGrpSpPr/>
                <p:nvPr/>
              </p:nvGrpSpPr>
              <p:grpSpPr>
                <a:xfrm>
                  <a:off x="5209560" y="3421440"/>
                  <a:ext cx="464400" cy="974160"/>
                  <a:chOff x="5209560" y="3421440"/>
                  <a:chExt cx="464400" cy="974160"/>
                </a:xfrm>
              </p:grpSpPr>
              <p:grpSp>
                <p:nvGrpSpPr>
                  <p:cNvPr id="242" name=""/>
                  <p:cNvGrpSpPr/>
                  <p:nvPr/>
                </p:nvGrpSpPr>
                <p:grpSpPr>
                  <a:xfrm>
                    <a:off x="5284080" y="3521160"/>
                    <a:ext cx="104040" cy="291960"/>
                    <a:chOff x="5284080" y="3521160"/>
                    <a:chExt cx="104040" cy="291960"/>
                  </a:xfrm>
                </p:grpSpPr>
                <p:sp>
                  <p:nvSpPr>
                    <p:cNvPr id="243"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4"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45"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246"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8"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9"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 name=""/>
                <p:cNvGrpSpPr/>
                <p:nvPr/>
              </p:nvGrpSpPr>
              <p:grpSpPr>
                <a:xfrm>
                  <a:off x="4359240" y="3224160"/>
                  <a:ext cx="234000" cy="248760"/>
                  <a:chOff x="4359240" y="3224160"/>
                  <a:chExt cx="234000" cy="248760"/>
                </a:xfrm>
              </p:grpSpPr>
              <p:grpSp>
                <p:nvGrpSpPr>
                  <p:cNvPr id="257" name=""/>
                  <p:cNvGrpSpPr/>
                  <p:nvPr/>
                </p:nvGrpSpPr>
                <p:grpSpPr>
                  <a:xfrm>
                    <a:off x="4451040" y="3378960"/>
                    <a:ext cx="73080" cy="93960"/>
                    <a:chOff x="4451040" y="3378960"/>
                    <a:chExt cx="73080" cy="93960"/>
                  </a:xfrm>
                </p:grpSpPr>
                <p:sp>
                  <p:nvSpPr>
                    <p:cNvPr id="258"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59"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0"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5"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6"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7"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8" name=""/>
            <p:cNvGrpSpPr/>
            <p:nvPr/>
          </p:nvGrpSpPr>
          <p:grpSpPr>
            <a:xfrm>
              <a:off x="3929760" y="3720240"/>
              <a:ext cx="1238760" cy="2070720"/>
              <a:chOff x="3929760" y="3720240"/>
              <a:chExt cx="1238760" cy="2070720"/>
            </a:xfrm>
          </p:grpSpPr>
          <p:sp>
            <p:nvSpPr>
              <p:cNvPr id="269"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4641480" y="3738960"/>
                <a:ext cx="527040" cy="2007360"/>
                <a:chOff x="4641480" y="3738960"/>
                <a:chExt cx="527040" cy="2007360"/>
              </a:xfrm>
            </p:grpSpPr>
            <p:sp>
              <p:nvSpPr>
                <p:cNvPr id="271"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C1D54C2A-387C-4ED6-90DD-CB60E391AB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caùc hoaït ñoäng</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aûn xuaát</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ieáp thò</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amp; phaùt trieån (R&amp;D)</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hoâng ti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øi chính</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aân söï</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ñieåm maïnh, ñieåm yeáu</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7B025FD-C17C-4B1F-A04E-608ABDFF8E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27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caùc hoaït ñoäng</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aûn xuaát</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ieáp thò</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amp; phaùt trieån (R&amp;D)</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hoâng ti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øi chính</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aân söï</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ñieåm maïnh, ñieåm yeáu</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5FC7666-9972-4614-A8EE-D552731701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MOÂI TRÖÔØNG BEÂN TRONG COÂNG TY</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277" name=""/>
          <p:cNvSpPr/>
          <p:nvPr/>
        </p:nvSpPr>
        <p:spPr>
          <a:xfrm>
            <a:off x="533520" y="2514600"/>
            <a:ext cx="1676160" cy="236232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Xem xeùt, ñaùnh giaù nguoàn löïc Coâng ty</a:t>
            </a:r>
            <a:endParaRPr b="0" lang="en-US" sz="1600" spc="-1" strike="noStrike">
              <a:solidFill>
                <a:srgbClr val="000000"/>
              </a:solidFill>
              <a:latin typeface="Times New Roman"/>
            </a:endParaRPr>
          </a:p>
        </p:txBody>
      </p:sp>
      <p:sp>
        <p:nvSpPr>
          <p:cNvPr id="278" name=""/>
          <p:cNvSpPr/>
          <p:nvPr/>
        </p:nvSpPr>
        <p:spPr>
          <a:xfrm>
            <a:off x="2590920" y="2514600"/>
            <a:ext cx="1752480" cy="236232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Naêng löïc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uû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oâng ty</a:t>
            </a:r>
            <a:endParaRPr b="0" lang="en-US" sz="1600" spc="-1" strike="noStrike">
              <a:solidFill>
                <a:srgbClr val="000000"/>
              </a:solidFill>
              <a:latin typeface="Times New Roman"/>
            </a:endParaRPr>
          </a:p>
        </p:txBody>
      </p:sp>
      <p:sp>
        <p:nvSpPr>
          <p:cNvPr id="279" name=""/>
          <p:cNvSpPr/>
          <p:nvPr/>
        </p:nvSpPr>
        <p:spPr>
          <a:xfrm>
            <a:off x="4724280" y="2514600"/>
            <a:ext cx="1828800" cy="236232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Naêng löïc chuû ñaïo vaø Naêng löïc khaùc bieät cuûa Cty</a:t>
            </a:r>
            <a:endParaRPr b="0" lang="en-US" sz="1600" spc="-1" strike="noStrike">
              <a:solidFill>
                <a:srgbClr val="000000"/>
              </a:solidFill>
              <a:latin typeface="Times New Roman"/>
            </a:endParaRPr>
          </a:p>
        </p:txBody>
      </p:sp>
      <p:sp>
        <p:nvSpPr>
          <p:cNvPr id="280" name=""/>
          <p:cNvSpPr/>
          <p:nvPr/>
        </p:nvSpPr>
        <p:spPr>
          <a:xfrm>
            <a:off x="6934320" y="2514600"/>
            <a:ext cx="1676160" cy="2362320"/>
          </a:xfrm>
          <a:prstGeom prst="rect">
            <a:avLst/>
          </a:prstGeom>
          <a:solidFill>
            <a:srgbClr val="00ff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Naêng löïc caïnh tranh cuûa Coâng ty</a:t>
            </a:r>
            <a:endParaRPr b="0" lang="en-US" sz="1600" spc="-1" strike="noStrike">
              <a:solidFill>
                <a:srgbClr val="000000"/>
              </a:solidFill>
              <a:latin typeface="Times New Roman"/>
            </a:endParaRPr>
          </a:p>
        </p:txBody>
      </p:sp>
      <p:sp>
        <p:nvSpPr>
          <p:cNvPr id="281" name=""/>
          <p:cNvSpPr/>
          <p:nvPr/>
        </p:nvSpPr>
        <p:spPr>
          <a:xfrm>
            <a:off x="2209680" y="3733920"/>
            <a:ext cx="3812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343400" y="3733920"/>
            <a:ext cx="380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553080" y="3733920"/>
            <a:ext cx="3812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EB09C6A-11BD-4FB7-AF81-CE0427664A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AÊNG LÖÏC (COMPETENCIES)</a:t>
            </a:r>
            <a:endParaRPr b="1" i="1" lang="en-US" sz="3400" spc="-1" strike="noStrike">
              <a:solidFill>
                <a:srgbClr val="ffff00"/>
              </a:solidFill>
              <a:latin typeface="VNI-Helve"/>
            </a:endParaRPr>
          </a:p>
        </p:txBody>
      </p:sp>
      <p:sp>
        <p:nvSpPr>
          <p:cNvPr id="28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huû ñaïo (Core competencies):</a:t>
            </a:r>
            <a:endParaRPr b="0" lang="en-US" sz="2800" spc="-1" strike="noStrike">
              <a:solidFill>
                <a:srgbClr val="000000"/>
              </a:solidFill>
              <a:latin typeface="VNI-Helve"/>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nhöõng naêng löïc maø Coâng ty coù theå thöïc hieän toát hôn nhöõng naêng löïc khaùc trong noäi boä coâng ty</a:t>
            </a:r>
            <a:endParaRPr b="0" lang="en-US" sz="2400" spc="-1" strike="noStrike">
              <a:solidFill>
                <a:srgbClr val="000000"/>
              </a:solidFill>
              <a:latin typeface="VNI-Helve"/>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nhöõng naêng löïc mang tính trung taâm ñoái vôùi khaû naêng caïnh tranh cuûa Coâng ty</a:t>
            </a:r>
            <a:endParaRPr b="0" lang="en-US" sz="2400" spc="-1" strike="noStrike">
              <a:solidFill>
                <a:srgbClr val="000000"/>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F6BD768A-B2AD-4872-9234-EA4A08B8B5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AÊNG LÖÏC KHAÙC BIEÄT</a:t>
            </a:r>
            <a:br>
              <a:rPr sz="3400"/>
            </a:br>
            <a:r>
              <a:rPr b="1" lang="en-US" sz="3400" spc="-1" strike="noStrike">
                <a:solidFill>
                  <a:srgbClr val="ffff00"/>
                </a:solidFill>
                <a:latin typeface="VNI-Helve"/>
              </a:rPr>
              <a:t>(Distinctive Competencies)</a:t>
            </a:r>
            <a:endParaRPr b="1" i="1" lang="en-US" sz="3400" spc="-1" strike="noStrike">
              <a:solidFill>
                <a:srgbClr val="ffff00"/>
              </a:solidFill>
              <a:latin typeface="VNI-Helve"/>
            </a:endParaRPr>
          </a:p>
        </p:txBody>
      </p:sp>
      <p:sp>
        <p:nvSpPr>
          <p:cNvPr id="287" name="PlaceHolder 2"/>
          <p:cNvSpPr>
            <a:spLocks noGrp="1"/>
          </p:cNvSpPr>
          <p:nvPr>
            <p:ph/>
          </p:nvPr>
        </p:nvSpPr>
        <p:spPr>
          <a:xfrm>
            <a:off x="152280" y="1523880"/>
            <a:ext cx="8686800" cy="457200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Distinctive Competencies):</a:t>
            </a:r>
            <a:endParaRPr b="0" lang="en-US" sz="2800" spc="-1" strike="noStrike">
              <a:solidFill>
                <a:srgbClr val="000000"/>
              </a:solidFill>
              <a:latin typeface="VNI-Helve"/>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nhöõng naêng löïc maø coâng ty coù theå thöïc hieän toát hôn ñoái thuû caïnh tranh </a:t>
            </a:r>
            <a:endParaRPr b="0" lang="en-US" sz="2400" spc="-1" strike="noStrike">
              <a:solidFill>
                <a:srgbClr val="000000"/>
              </a:solidFill>
              <a:latin typeface="VNI-Helve"/>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aêng löïc khaùc bieät cho pheùp Coâng ty taïo ra lôïi theá caïnh tranh (competitive advantage)</a:t>
            </a:r>
            <a:endParaRPr b="0" lang="en-US" sz="2400" spc="-1" strike="noStrike">
              <a:solidFill>
                <a:srgbClr val="000000"/>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8A9E712-20A7-42EB-A400-9F576457CC2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OÄT SOÁ VÍ DUÏ </a:t>
            </a:r>
            <a:endParaRPr b="1" i="1" lang="en-US" sz="3400" spc="-1" strike="noStrike">
              <a:solidFill>
                <a:srgbClr val="ffff00"/>
              </a:solidFill>
              <a:latin typeface="VNI-Helve"/>
            </a:endParaRPr>
          </a:p>
        </p:txBody>
      </p:sp>
      <p:sp>
        <p:nvSpPr>
          <p:cNvPr id="289"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fontScale="89000"/>
          </a:bodyPr>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05280" indent="-30528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cuûa Toyota, Honda vaø Nissan - saûn xuaát ôû möùc chi phí thaáp, chaát löôïng cao, chu kyø thieát keá saûn phaåm môùi tung ra thò tröôøng ngaén.</a:t>
            </a:r>
            <a:endParaRPr b="0" lang="en-US" sz="2800" spc="-1" strike="noStrike">
              <a:solidFill>
                <a:srgbClr val="000000"/>
              </a:solidFill>
              <a:latin typeface="VNI-Helve"/>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05280" indent="-30528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cuûa Intel laø phaùt trieån chip baùn daãn theá heä môùi cho maùy tính caù nhaân.</a:t>
            </a:r>
            <a:endParaRPr b="0" lang="en-US" sz="2800" spc="-1" strike="noStrike">
              <a:solidFill>
                <a:srgbClr val="000000"/>
              </a:solidFill>
              <a:latin typeface="VNI-Helve"/>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05280" indent="-3052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huû ñaïo cuûa Motorola laø khaû naêng saûn xuaát khoâng pheá phaåm (chaát löôïng six sigma – tæ leä pheá phaåm laø 1/1 trieäu saûn phaåm)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E2FE4DE-A19D-41B3-8D60-9DA2E17FDA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LÔÏI THEÁ CAÏNH TRANH BEÀN VÖÕNG </a:t>
            </a:r>
            <a:endParaRPr b="1" i="1" lang="en-US" sz="3400" spc="-1" strike="noStrike">
              <a:solidFill>
                <a:srgbClr val="ffff00"/>
              </a:solidFill>
              <a:latin typeface="VNI-Helve"/>
            </a:endParaRPr>
          </a:p>
        </p:txBody>
      </p:sp>
      <p:sp>
        <p:nvSpPr>
          <p:cNvPr id="2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ñoù coù deã daøng bò baét chöôùc hay khoâng?</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eá maïnh cuûa naêng löïc coù theå duy trì ñöôïc bao laâu? </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uûa Coâng ty coù thaät söï vöôït troäi hay khoâng? </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uûa coâng ty coù bò taùc ñoäng bôûi nhaø cung caáp khoâ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295657F-F795-4EB0-BA17-1C6D3FB65ED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Saûn xuaát</a:t>
            </a:r>
            <a:endParaRPr b="1" i="1" lang="en-US" sz="3400" spc="-1" strike="noStrike">
              <a:solidFill>
                <a:srgbClr val="ffff00"/>
              </a:solidFill>
              <a:latin typeface="VNI-Helve"/>
            </a:endParaRPr>
          </a:p>
        </p:txBody>
      </p:sp>
      <p:sp>
        <p:nvSpPr>
          <p:cNvPr id="29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i trình saûn xuaát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âng suaát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a ñieåm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 phí nguyeân vaät lieäu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ù thaønh saûn phaåm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 saûn xuaát vaø taùc vuï</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CE1A24B-406A-4B1B-9229-014679CE42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Tieáp thò</a:t>
            </a:r>
            <a:endParaRPr b="1" i="1" lang="en-US" sz="3400" spc="-1" strike="noStrike">
              <a:solidFill>
                <a:srgbClr val="ffff00"/>
              </a:solidFill>
              <a:latin typeface="VNI-Helve"/>
            </a:endParaRPr>
          </a:p>
        </p:txBody>
      </p:sp>
      <p:sp>
        <p:nvSpPr>
          <p:cNvPr id="295"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ò phaàn, Doanh soá</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ò trí treân thò tröôøng</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öông hieäu</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nghieân cöùu thò tröôøng</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saûn phaåm</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giaù</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eä thoáng phaân phoái</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hieâu thò</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aân saùch cho tieáp thò</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trung thaønh cuûa khaùch ha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96ED673-176A-49E0-AF14-38BDCA379C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Nghieân cöùu vaø phaùt trieån (R&amp;D)</a:t>
            </a:r>
            <a:endParaRPr b="1" i="1" lang="en-US" sz="3400" spc="-1" strike="noStrike">
              <a:solidFill>
                <a:srgbClr val="ffff00"/>
              </a:solidFill>
              <a:latin typeface="VNI-Helve"/>
            </a:endParaRPr>
          </a:p>
        </p:txBody>
      </p:sp>
      <p:sp>
        <p:nvSpPr>
          <p:cNvPr id="297"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nghieân cöùu cô baûn vaø kyõ thuaät (daãn ñaàu, theo sau,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aân saùch daønh cho nghieân cöùu vaø phaùt trieå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ình ñoä coâng ngheä</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ñoåi môùi saûn phaåm</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phaùt trieån saûn phaåm</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ñoåi môùi qui trì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F364778E-D9E6-44CA-985D-210F087745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Heä thoáng thoâng tin</a:t>
            </a:r>
            <a:endParaRPr b="1" i="1" lang="en-US" sz="3400" spc="-1" strike="noStrike">
              <a:solidFill>
                <a:srgbClr val="ffff00"/>
              </a:solidFill>
              <a:latin typeface="VNI-Helve"/>
            </a:endParaRPr>
          </a:p>
        </p:txBody>
      </p:sp>
      <p:sp>
        <p:nvSpPr>
          <p:cNvPr id="299"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hoâng tin quaûn lyù (MIS)</a:t>
            </a:r>
            <a:endParaRPr b="0" lang="en-US" sz="24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aûn xuaát / Taùc nghieäp</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aøi chính</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Nhaân söï</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a:t>
            </a:r>
            <a:endParaRPr b="0" lang="en-US" sz="2000" spc="-1" strike="noStrike">
              <a:solidFill>
                <a:srgbClr val="000000"/>
              </a:solidFill>
              <a:latin typeface="VNI-Helve"/>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Beân trong</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r>
              <a:rPr b="0" lang="en-US" sz="2400" spc="-1" strike="noStrike">
                <a:solidFill>
                  <a:srgbClr val="000000"/>
                </a:solidFill>
                <a:latin typeface="VNI-Helve"/>
              </a:rPr>
              <a:t>Heä thoáng thoâng tin chieán löôïc (SIS)</a:t>
            </a:r>
            <a:endParaRPr b="0" lang="en-US" sz="24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ïnh tranh</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oái thuû</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âi tröôøng hoaït ñoäng</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a:t>
            </a:r>
            <a:endParaRPr b="0" lang="en-US" sz="2000" spc="-1" strike="noStrike">
              <a:solidFill>
                <a:srgbClr val="000000"/>
              </a:solidFill>
              <a:latin typeface="VNI-Helv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VNI-Helve"/>
              </a:rPr>
              <a:t> </a:t>
            </a:r>
            <a:r>
              <a:rPr b="1" lang="en-US" sz="2400" spc="-1" strike="noStrike">
                <a:solidFill>
                  <a:srgbClr val="ff0000"/>
                </a:solidFill>
                <a:latin typeface="VNI-Helve"/>
              </a:rPr>
              <a:t>Beân trong vaø beân ngoaøi</a:t>
            </a:r>
            <a:r>
              <a:rPr b="0" lang="en-US" sz="2400" spc="-1" strike="noStrike">
                <a:solidFill>
                  <a:srgbClr val="ff0000"/>
                </a:solidFill>
                <a:latin typeface="VNI-Helve"/>
              </a:rPr>
              <a:t>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60F54BB4-12AF-4F0B-8E31-53AE0B7B9B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80520" y="1174680"/>
            <a:ext cx="836604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Phaân tíc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MOÂI TRÖÔØNG BEÂN NGOAØI</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 name=""/>
          <p:cNvGrpSpPr/>
          <p:nvPr/>
        </p:nvGrpSpPr>
        <p:grpSpPr>
          <a:xfrm>
            <a:off x="3281400" y="3019320"/>
            <a:ext cx="2585880" cy="2771640"/>
            <a:chOff x="3281400" y="3019320"/>
            <a:chExt cx="2585880" cy="2771640"/>
          </a:xfrm>
        </p:grpSpPr>
        <p:grpSp>
          <p:nvGrpSpPr>
            <p:cNvPr id="96" name=""/>
            <p:cNvGrpSpPr/>
            <p:nvPr/>
          </p:nvGrpSpPr>
          <p:grpSpPr>
            <a:xfrm>
              <a:off x="3281400" y="3019320"/>
              <a:ext cx="2585880" cy="2068920"/>
              <a:chOff x="3281400" y="3019320"/>
              <a:chExt cx="2585880" cy="2068920"/>
            </a:xfrm>
          </p:grpSpPr>
          <p:sp>
            <p:nvSpPr>
              <p:cNvPr id="97"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 name=""/>
              <p:cNvGrpSpPr/>
              <p:nvPr/>
            </p:nvGrpSpPr>
            <p:grpSpPr>
              <a:xfrm>
                <a:off x="3326760" y="3220200"/>
                <a:ext cx="2493360" cy="1352160"/>
                <a:chOff x="3326760" y="3220200"/>
                <a:chExt cx="2493360" cy="1352160"/>
              </a:xfrm>
            </p:grpSpPr>
            <p:sp>
              <p:nvSpPr>
                <p:cNvPr id="99"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101" name=""/>
                <p:cNvGrpSpPr/>
                <p:nvPr/>
              </p:nvGrpSpPr>
              <p:grpSpPr>
                <a:xfrm>
                  <a:off x="5600520" y="4342320"/>
                  <a:ext cx="219600" cy="137160"/>
                  <a:chOff x="5600520" y="4342320"/>
                  <a:chExt cx="219600" cy="137160"/>
                </a:xfrm>
              </p:grpSpPr>
              <p:sp>
                <p:nvSpPr>
                  <p:cNvPr id="102"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105"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106" name=""/>
                <p:cNvGrpSpPr/>
                <p:nvPr/>
              </p:nvGrpSpPr>
              <p:grpSpPr>
                <a:xfrm>
                  <a:off x="5209560" y="3421440"/>
                  <a:ext cx="464400" cy="974160"/>
                  <a:chOff x="5209560" y="3421440"/>
                  <a:chExt cx="464400" cy="974160"/>
                </a:xfrm>
              </p:grpSpPr>
              <p:grpSp>
                <p:nvGrpSpPr>
                  <p:cNvPr id="107" name=""/>
                  <p:cNvGrpSpPr/>
                  <p:nvPr/>
                </p:nvGrpSpPr>
                <p:grpSpPr>
                  <a:xfrm>
                    <a:off x="5284080" y="3521160"/>
                    <a:ext cx="104040" cy="291960"/>
                    <a:chOff x="5284080" y="3521160"/>
                    <a:chExt cx="104040" cy="291960"/>
                  </a:xfrm>
                </p:grpSpPr>
                <p:sp>
                  <p:nvSpPr>
                    <p:cNvPr id="108"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9"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0"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111"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3"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4"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4359240" y="3224160"/>
                  <a:ext cx="234000" cy="248760"/>
                  <a:chOff x="4359240" y="3224160"/>
                  <a:chExt cx="234000" cy="248760"/>
                </a:xfrm>
              </p:grpSpPr>
              <p:grpSp>
                <p:nvGrpSpPr>
                  <p:cNvPr id="122" name=""/>
                  <p:cNvGrpSpPr/>
                  <p:nvPr/>
                </p:nvGrpSpPr>
                <p:grpSpPr>
                  <a:xfrm>
                    <a:off x="4451040" y="3378960"/>
                    <a:ext cx="73080" cy="93960"/>
                    <a:chOff x="4451040" y="3378960"/>
                    <a:chExt cx="73080" cy="93960"/>
                  </a:xfrm>
                </p:grpSpPr>
                <p:sp>
                  <p:nvSpPr>
                    <p:cNvPr id="123"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1"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2"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 name=""/>
            <p:cNvGrpSpPr/>
            <p:nvPr/>
          </p:nvGrpSpPr>
          <p:grpSpPr>
            <a:xfrm>
              <a:off x="3929760" y="3720240"/>
              <a:ext cx="1238760" cy="2070720"/>
              <a:chOff x="3929760" y="3720240"/>
              <a:chExt cx="1238760" cy="2070720"/>
            </a:xfrm>
          </p:grpSpPr>
          <p:sp>
            <p:nvSpPr>
              <p:cNvPr id="134"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 name=""/>
              <p:cNvGrpSpPr/>
              <p:nvPr/>
            </p:nvGrpSpPr>
            <p:grpSpPr>
              <a:xfrm>
                <a:off x="4641480" y="3738960"/>
                <a:ext cx="527040" cy="2007360"/>
                <a:chOff x="4641480" y="3738960"/>
                <a:chExt cx="527040" cy="2007360"/>
              </a:xfrm>
            </p:grpSpPr>
            <p:sp>
              <p:nvSpPr>
                <p:cNvPr id="136"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8C59A56E-93B1-46CA-9737-EF4972A15D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Taøi chính</a:t>
            </a:r>
            <a:endParaRPr b="1" i="1" lang="en-US" sz="3400" spc="-1" strike="noStrike">
              <a:solidFill>
                <a:srgbClr val="ffff00"/>
              </a:solidFill>
              <a:latin typeface="VNI-Helve"/>
            </a:endParaRPr>
          </a:p>
        </p:txBody>
      </p:sp>
      <p:sp>
        <p:nvSpPr>
          <p:cNvPr id="301"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huy ñoäng voá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boå nguoàn voá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coå töù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taêng tröôû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sinh lôï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hanh toaù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øn caân nôï</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C4531A4-97A3-4BE5-8715-84DA0DD24A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Nhaân söï</a:t>
            </a:r>
            <a:endParaRPr b="1" i="1" lang="en-US" sz="3400" spc="-1" strike="noStrike">
              <a:solidFill>
                <a:srgbClr val="ffff00"/>
              </a:solidFill>
              <a:latin typeface="VNI-Helve"/>
            </a:endParaRPr>
          </a:p>
        </p:txBody>
      </p:sp>
      <p:sp>
        <p:nvSpPr>
          <p:cNvPr id="303"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aân löïc chuû choát</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ình ñoä tay ngheà</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ình ñoä chuyeân moâ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oån ñò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thu huùt nguoàn nhaân lö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ñaøo taïo vaø phaùt trieå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duy trì nguoàn nhaân löïc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FC6A33BA-2EFD-4E68-9753-64846554D2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Vaên hoùa coâng ty</a:t>
            </a:r>
            <a:endParaRPr b="1" i="1" lang="en-US" sz="3400" spc="-1" strike="noStrike">
              <a:solidFill>
                <a:srgbClr val="ffff00"/>
              </a:solidFill>
              <a:latin typeface="VNI-Helve"/>
            </a:endParaRPr>
          </a:p>
        </p:txBody>
      </p:sp>
      <p:sp>
        <p:nvSpPr>
          <p:cNvPr id="305" name="PlaceHolder 2"/>
          <p:cNvSpPr>
            <a:spLocks noGrp="1"/>
          </p:cNvSpPr>
          <p:nvPr>
            <p:ph/>
          </p:nvPr>
        </p:nvSpPr>
        <p:spPr>
          <a:xfrm>
            <a:off x="457200" y="1904760"/>
            <a:ext cx="8305920" cy="472428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aên hoùa laø taäp hôïp caùc giaù trò, nieàm tin, thaùi ñoä, taäp quaùn, qui ñònh, caù tính vaø nhöõng gì duøng ñeå moâ taû coâng ty. </a:t>
            </a:r>
            <a:endParaRPr b="0" lang="en-US" sz="2800" spc="-1" strike="noStrike">
              <a:solidFill>
                <a:srgbClr val="000000"/>
              </a:solidFill>
              <a:latin typeface="VNI-Helve"/>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caùc quan ñieåm, trieát lyù kinh doanh</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caùc kyù hieäu, bieåu tröng cho coâng ty</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aäp quaùn veà thaùi ñoä vaø haønh vi öùng xöû haøng ngaøy cuûa moãi thaønh vieân trong coâng ty</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eàn neáp taøi chính coâng ty</a:t>
            </a:r>
            <a:endParaRPr b="0" lang="en-US" sz="2400" spc="-1" strike="noStrike">
              <a:solidFill>
                <a:srgbClr val="000000"/>
              </a:solidFill>
              <a:latin typeface="VNI-Helve"/>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20B93874-E824-48AD-8B1B-559B5EBBA95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AÙNH GIAÙ</a:t>
            </a:r>
            <a:endParaRPr b="1" i="1" lang="en-US" sz="3400" spc="-1" strike="noStrike">
              <a:solidFill>
                <a:srgbClr val="ffff00"/>
              </a:solidFill>
              <a:latin typeface="VNI-Helve"/>
            </a:endParaRPr>
          </a:p>
        </p:txBody>
      </p:sp>
      <p:sp>
        <p:nvSpPr>
          <p:cNvPr id="307" name="PlaceHolder 2"/>
          <p:cNvSpPr>
            <a:spLocks noGrp="1"/>
          </p:cNvSpPr>
          <p:nvPr>
            <p:ph/>
          </p:nvPr>
        </p:nvSpPr>
        <p:spPr>
          <a:xfrm>
            <a:off x="457200" y="190476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Hieäu naêng (efficienc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Hieäu quaû (effectiveness)</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Möùc ñoä thoûa maõn coå ñoâ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Möùc ñoä thoaû maõn khaùch ha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89520FC-CC9D-4A13-B627-365C7BAB1A6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VNI-Helve"/>
              </a:rPr>
              <a:t>MA TRAÄN ÑAÙNH GIAÙ CAÙC YEÁU TOÁ NOÄI BOÄ </a:t>
            </a:r>
            <a:br>
              <a:rPr sz="3000"/>
            </a:br>
            <a:r>
              <a:rPr b="1" lang="en-US" sz="3000" spc="-1" strike="noStrike">
                <a:solidFill>
                  <a:srgbClr val="ffff00"/>
                </a:solidFill>
                <a:latin typeface="VNI-Helve"/>
              </a:rPr>
              <a:t>(Internal Factor Evaluation Matrix --IFE Matrix)</a:t>
            </a:r>
            <a:endParaRPr b="1" i="1" lang="en-US" sz="3000" spc="-1" strike="noStrike">
              <a:solidFill>
                <a:srgbClr val="ffff00"/>
              </a:solidFill>
              <a:latin typeface="VNI-Helve"/>
            </a:endParaRPr>
          </a:p>
        </p:txBody>
      </p:sp>
      <p:sp>
        <p:nvSpPr>
          <p:cNvPr id="30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a traän giuùp toùm taét vaø ñaùnh giaù caùc yeáu toá noäi boä, möùc ñoä quan troïng cuûa moãi yeáu toá ñeå xaùc ñònh ñieåm maïnh vaø ñieåm yeáu cuûa coâng ty cuõng nhö khaû naêng vaø naêng löïc cuûa coâng ty laøm cô sôû xaây döïng chieán löôïc cho phuø hôïp</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öông phaùp chuyeân gia thöôøng ñöôïc söû duïng ñeå xaây döïng ma traä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5252777-E037-4977-91AD-0FDC651699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VNI-Helve"/>
              </a:rPr>
              <a:t>PHAÂN TÍCH ÑIEÅM MAÏNH – ÑIEÅM YEÁU</a:t>
            </a:r>
            <a:r>
              <a:rPr b="1" i="1" lang="en-US" sz="3800" spc="-1" strike="noStrike">
                <a:solidFill>
                  <a:srgbClr val="ffff00"/>
                </a:solidFill>
                <a:latin typeface="VNI-Helve"/>
              </a:rPr>
              <a:t> </a:t>
            </a:r>
            <a:endParaRPr b="1" i="1" lang="en-US" sz="3800" spc="-1" strike="noStrike">
              <a:solidFill>
                <a:srgbClr val="ffff00"/>
              </a:solidFill>
              <a:latin typeface="VNI-Helve"/>
            </a:endParaRPr>
          </a:p>
        </p:txBody>
      </p:sp>
      <p:sp>
        <p:nvSpPr>
          <p:cNvPr id="31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eåm maïnh laø nhöõng gì maø coâng ty ñaõ laøm toát laøm toát hôn so vôùi coâng ty khaùc hoaëc chuùng giuùp laøm taêng khaû naêng caïnh tra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ñieåm yeáu laø nhöõng gì maø coâng ty thieáu/ khoâng coù hay thöïc hieän coøn keùm / chöa toát khi so vôùi coâng ty khaùc hoaëc nhöõng ñieàu laøm cho coâng ty maát lôïi theá caïnh tranh.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1D49D5B-2500-4851-B3A6-5F5401A239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0"/>
            <a:ext cx="9144000" cy="93672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Ñaùnh giaù vaø taän duïng cô hoäi</a:t>
            </a:r>
            <a:endParaRPr b="1" i="1" lang="en-US" sz="3400" spc="-1" strike="noStrike">
              <a:solidFill>
                <a:srgbClr val="ffff00"/>
              </a:solidFill>
              <a:latin typeface="VNI-Helve"/>
            </a:endParaRPr>
          </a:p>
        </p:txBody>
      </p:sp>
      <p:sp>
        <p:nvSpPr>
          <p:cNvPr id="313" name=""/>
          <p:cNvSpPr/>
          <p:nvPr/>
        </p:nvSpPr>
        <p:spPr>
          <a:xfrm>
            <a:off x="2687760" y="2460600"/>
            <a:ext cx="4430520" cy="1530360"/>
          </a:xfrm>
          <a:custGeom>
            <a:avLst/>
            <a:gdLst>
              <a:gd name="textAreaLeft" fmla="*/ 1334520 w 4430520"/>
              <a:gd name="textAreaRight" fmla="*/ 3096000 w 4430520"/>
              <a:gd name="textAreaTop" fmla="*/ 460800 h 1530360"/>
              <a:gd name="textAreaBottom" fmla="*/ 1069560 h 1530360"/>
            </a:gdLst>
            <a:ahLst/>
            <a:rect l="textAreaLeft" t="textAreaTop" r="textAreaRight" b="textAreaBottom"/>
            <a:pathLst>
              <a:path w="21600" h="21600">
                <a:moveTo>
                  <a:pt x="0" y="0"/>
                </a:moveTo>
                <a:lnTo>
                  <a:pt x="21600" y="0"/>
                </a:lnTo>
                <a:lnTo>
                  <a:pt x="13039" y="21600"/>
                </a:lnTo>
                <a:lnTo>
                  <a:pt x="8561" y="21600"/>
                </a:lnTo>
                <a:close/>
              </a:path>
            </a:pathLst>
          </a:custGeom>
          <a:gradFill rotWithShape="0">
            <a:gsLst>
              <a:gs pos="0">
                <a:srgbClr val="ada597"/>
              </a:gs>
              <a:gs pos="50000">
                <a:srgbClr val="4f4c45"/>
              </a:gs>
              <a:gs pos="100000">
                <a:srgbClr val="ada597"/>
              </a:gs>
            </a:gsLst>
            <a:lin ang="10800000"/>
          </a:gradFill>
          <a:ln w="936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030560" y="4587840"/>
            <a:ext cx="1803600" cy="969840"/>
          </a:xfrm>
          <a:custGeom>
            <a:avLst/>
            <a:gdLst>
              <a:gd name="textAreaLeft" fmla="*/ 541080 w 1803600"/>
              <a:gd name="textAreaRight" fmla="*/ 1262520 w 1803600"/>
              <a:gd name="textAreaTop" fmla="*/ 290880 h 969840"/>
              <a:gd name="textAreaBottom" fmla="*/ 678960 h 969840"/>
            </a:gdLst>
            <a:ahLst/>
            <a:rect l="textAreaLeft" t="textAreaTop" r="textAreaRight" b="textAreaBottom"/>
            <a:pathLst>
              <a:path w="21600" h="21600">
                <a:moveTo>
                  <a:pt x="0" y="0"/>
                </a:moveTo>
                <a:lnTo>
                  <a:pt x="21600" y="0"/>
                </a:lnTo>
                <a:lnTo>
                  <a:pt x="13082" y="21600"/>
                </a:lnTo>
                <a:lnTo>
                  <a:pt x="8518" y="21600"/>
                </a:lnTo>
                <a:close/>
              </a:path>
            </a:pathLst>
          </a:custGeom>
          <a:gradFill rotWithShape="0">
            <a:gsLst>
              <a:gs pos="0">
                <a:srgbClr val="ffff99"/>
              </a:gs>
              <a:gs pos="50000">
                <a:srgbClr val="757546"/>
              </a:gs>
              <a:gs pos="100000">
                <a:srgbClr val="ffff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665440" y="2233440"/>
            <a:ext cx="4460760" cy="384480"/>
          </a:xfrm>
          <a:prstGeom prst="ellipse">
            <a:avLst/>
          </a:prstGeom>
          <a:gradFill rotWithShape="0">
            <a:gsLst>
              <a:gs pos="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4446720" y="5896080"/>
            <a:ext cx="981000" cy="947520"/>
            <a:chOff x="4446720" y="5896080"/>
            <a:chExt cx="981000" cy="947520"/>
          </a:xfrm>
        </p:grpSpPr>
        <p:grpSp>
          <p:nvGrpSpPr>
            <p:cNvPr id="317" name=""/>
            <p:cNvGrpSpPr/>
            <p:nvPr/>
          </p:nvGrpSpPr>
          <p:grpSpPr>
            <a:xfrm>
              <a:off x="4454640" y="6002280"/>
              <a:ext cx="973080" cy="841320"/>
              <a:chOff x="4454640" y="6002280"/>
              <a:chExt cx="973080" cy="841320"/>
            </a:xfrm>
          </p:grpSpPr>
          <p:sp>
            <p:nvSpPr>
              <p:cNvPr id="318" name=""/>
              <p:cNvSpPr/>
              <p:nvPr/>
            </p:nvSpPr>
            <p:spPr>
              <a:xfrm>
                <a:off x="4842000" y="6648480"/>
                <a:ext cx="225360" cy="195120"/>
              </a:xfrm>
              <a:custGeom>
                <a:avLst/>
                <a:gdLst>
                  <a:gd name="textAreaLeft" fmla="*/ 49320 w 225360"/>
                  <a:gd name="textAreaRight" fmla="*/ 176040 w 225360"/>
                  <a:gd name="textAreaTop" fmla="*/ 42840 h 195120"/>
                  <a:gd name="textAreaBottom" fmla="*/ 152280 h 1951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ada597"/>
                  </a:gs>
                  <a:gs pos="50000">
                    <a:srgbClr val="4f4c45"/>
                  </a:gs>
                  <a:gs pos="100000">
                    <a:srgbClr val="ada597"/>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454640" y="6002280"/>
                <a:ext cx="973080" cy="652320"/>
              </a:xfrm>
              <a:custGeom>
                <a:avLst/>
                <a:gdLst>
                  <a:gd name="textAreaLeft" fmla="*/ 291960 w 973080"/>
                  <a:gd name="textAreaRight" fmla="*/ 681120 w 973080"/>
                  <a:gd name="textAreaTop" fmla="*/ 195840 h 652320"/>
                  <a:gd name="textAreaBottom" fmla="*/ 456480 h 652320"/>
                </a:gdLst>
                <a:ahLst/>
                <a:rect l="textAreaLeft" t="textAreaTop" r="textAreaRight" b="textAreaBottom"/>
                <a:pathLst>
                  <a:path w="21600" h="21600">
                    <a:moveTo>
                      <a:pt x="0" y="0"/>
                    </a:moveTo>
                    <a:lnTo>
                      <a:pt x="21600" y="0"/>
                    </a:lnTo>
                    <a:lnTo>
                      <a:pt x="13082" y="21600"/>
                    </a:lnTo>
                    <a:lnTo>
                      <a:pt x="8518" y="21600"/>
                    </a:lnTo>
                    <a:close/>
                  </a:path>
                </a:pathLst>
              </a:custGeom>
              <a:gradFill rotWithShape="0">
                <a:gsLst>
                  <a:gs pos="0">
                    <a:srgbClr val="ada597"/>
                  </a:gs>
                  <a:gs pos="50000">
                    <a:srgbClr val="4f4c45"/>
                  </a:gs>
                  <a:gs pos="100000">
                    <a:srgbClr val="ada597"/>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0" name=""/>
            <p:cNvSpPr/>
            <p:nvPr/>
          </p:nvSpPr>
          <p:spPr>
            <a:xfrm>
              <a:off x="4446720" y="5896080"/>
              <a:ext cx="976320" cy="201600"/>
            </a:xfrm>
            <a:prstGeom prst="ellipse">
              <a:avLst/>
            </a:prstGeom>
            <a:gradFill rotWithShape="0">
              <a:gsLst>
                <a:gs pos="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1" name=""/>
          <p:cNvSpPr/>
          <p:nvPr/>
        </p:nvSpPr>
        <p:spPr>
          <a:xfrm>
            <a:off x="4030560" y="4421160"/>
            <a:ext cx="1784520" cy="357120"/>
          </a:xfrm>
          <a:prstGeom prst="ellipse">
            <a:avLst/>
          </a:prstGeom>
          <a:gradFill rotWithShape="0">
            <a:gsLst>
              <a:gs pos="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 name=""/>
          <p:cNvGrpSpPr/>
          <p:nvPr/>
        </p:nvGrpSpPr>
        <p:grpSpPr>
          <a:xfrm>
            <a:off x="931680" y="907920"/>
            <a:ext cx="7515720" cy="1553040"/>
            <a:chOff x="931680" y="907920"/>
            <a:chExt cx="7515720" cy="1553040"/>
          </a:xfrm>
        </p:grpSpPr>
        <p:sp>
          <p:nvSpPr>
            <p:cNvPr id="323" name=""/>
            <p:cNvSpPr/>
            <p:nvPr/>
          </p:nvSpPr>
          <p:spPr>
            <a:xfrm>
              <a:off x="931680" y="907920"/>
              <a:ext cx="7515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rebuchet MS"/>
                </a:rPr>
                <a:t>All Potential Business Opportunities</a:t>
              </a:r>
              <a:endParaRPr b="0" lang="en-US" sz="3200" spc="-1" strike="noStrike">
                <a:solidFill>
                  <a:srgbClr val="000000"/>
                </a:solidFill>
                <a:latin typeface="Times New Roman"/>
              </a:endParaRPr>
            </a:p>
          </p:txBody>
        </p:sp>
        <p:sp>
          <p:nvSpPr>
            <p:cNvPr id="324" name=""/>
            <p:cNvSpPr/>
            <p:nvPr/>
          </p:nvSpPr>
          <p:spPr>
            <a:xfrm rot="5331600">
              <a:off x="2597760" y="1492560"/>
              <a:ext cx="911160" cy="1005120"/>
            </a:xfrm>
            <a:custGeom>
              <a:avLst/>
              <a:gdLst>
                <a:gd name="textAreaLeft" fmla="*/ 0 w 911160"/>
                <a:gd name="textAreaRight" fmla="*/ 911520 w 911160"/>
                <a:gd name="textAreaTop" fmla="*/ 0 h 1005120"/>
                <a:gd name="textAreaBottom" fmla="*/ 1005480 h 1005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rot="16268400">
              <a:off x="6207120" y="1449720"/>
              <a:ext cx="911160" cy="1005120"/>
            </a:xfrm>
            <a:custGeom>
              <a:avLst/>
              <a:gdLst>
                <a:gd name="textAreaLeft" fmla="*/ -360 w 911160"/>
                <a:gd name="textAreaRight" fmla="*/ 911160 w 911160"/>
                <a:gd name="textAreaTop" fmla="*/ 0 h 1005120"/>
                <a:gd name="textAreaBottom" fmla="*/ 1005480 h 1005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rot="5374800">
              <a:off x="4446000" y="1726920"/>
              <a:ext cx="834840" cy="507960"/>
            </a:xfrm>
            <a:prstGeom prst="rightArrow">
              <a:avLst>
                <a:gd name="adj1" fmla="val 50000"/>
                <a:gd name="adj2" fmla="val 41088"/>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7" name=""/>
          <p:cNvGrpSpPr/>
          <p:nvPr/>
        </p:nvGrpSpPr>
        <p:grpSpPr>
          <a:xfrm>
            <a:off x="1648080" y="3678120"/>
            <a:ext cx="3517560" cy="1086120"/>
            <a:chOff x="1648080" y="3678120"/>
            <a:chExt cx="3517560" cy="1086120"/>
          </a:xfrm>
        </p:grpSpPr>
        <p:sp>
          <p:nvSpPr>
            <p:cNvPr id="328" name=""/>
            <p:cNvSpPr/>
            <p:nvPr/>
          </p:nvSpPr>
          <p:spPr>
            <a:xfrm>
              <a:off x="4670280" y="4359240"/>
              <a:ext cx="495360" cy="405000"/>
            </a:xfrm>
            <a:prstGeom prst="downArrow">
              <a:avLst>
                <a:gd name="adj1" fmla="val 50000"/>
                <a:gd name="adj2" fmla="val 25000"/>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648080" y="3678120"/>
              <a:ext cx="2318760" cy="7963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Relevant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Opportunities</a:t>
              </a:r>
              <a:endParaRPr b="0" lang="en-US" sz="2400" spc="-1" strike="noStrike">
                <a:solidFill>
                  <a:srgbClr val="000000"/>
                </a:solidFill>
                <a:latin typeface="Times New Roman"/>
              </a:endParaRPr>
            </a:p>
          </p:txBody>
        </p:sp>
      </p:grpSp>
      <p:sp>
        <p:nvSpPr>
          <p:cNvPr id="330" name=""/>
          <p:cNvSpPr/>
          <p:nvPr/>
        </p:nvSpPr>
        <p:spPr>
          <a:xfrm>
            <a:off x="4451400" y="3990960"/>
            <a:ext cx="912600" cy="560520"/>
          </a:xfrm>
          <a:custGeom>
            <a:avLst/>
            <a:gdLst>
              <a:gd name="textAreaLeft" fmla="*/ 200520 w 912600"/>
              <a:gd name="textAreaRight" fmla="*/ 712080 w 912600"/>
              <a:gd name="textAreaTop" fmla="*/ 123120 h 560520"/>
              <a:gd name="textAreaBottom" fmla="*/ 437400 h 5605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00cc99"/>
              </a:gs>
              <a:gs pos="5000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
          <p:cNvGrpSpPr/>
          <p:nvPr/>
        </p:nvGrpSpPr>
        <p:grpSpPr>
          <a:xfrm>
            <a:off x="2034720" y="5452920"/>
            <a:ext cx="3015000" cy="565920"/>
            <a:chOff x="2034720" y="5452920"/>
            <a:chExt cx="3015000" cy="565920"/>
          </a:xfrm>
        </p:grpSpPr>
        <p:sp>
          <p:nvSpPr>
            <p:cNvPr id="332" name=""/>
            <p:cNvSpPr/>
            <p:nvPr/>
          </p:nvSpPr>
          <p:spPr>
            <a:xfrm>
              <a:off x="2034720" y="5452920"/>
              <a:ext cx="1787040" cy="56592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rebuchet MS"/>
                </a:rPr>
                <a:t>Proven</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rebuchet MS"/>
                </a:rPr>
                <a:t>Opportunities</a:t>
              </a:r>
              <a:endParaRPr b="0" lang="en-US" sz="1800" spc="-1" strike="noStrike">
                <a:solidFill>
                  <a:srgbClr val="000000"/>
                </a:solidFill>
                <a:latin typeface="Times New Roman"/>
              </a:endParaRPr>
            </a:p>
          </p:txBody>
        </p:sp>
        <p:sp>
          <p:nvSpPr>
            <p:cNvPr id="333" name=""/>
            <p:cNvSpPr/>
            <p:nvPr/>
          </p:nvSpPr>
          <p:spPr>
            <a:xfrm>
              <a:off x="4827600" y="5805360"/>
              <a:ext cx="222120" cy="209520"/>
            </a:xfrm>
            <a:prstGeom prst="downArrow">
              <a:avLst>
                <a:gd name="adj1" fmla="val 50000"/>
                <a:gd name="adj2" fmla="val 25000"/>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4" name=""/>
          <p:cNvSpPr/>
          <p:nvPr/>
        </p:nvSpPr>
        <p:spPr>
          <a:xfrm>
            <a:off x="4748040" y="5540400"/>
            <a:ext cx="378000" cy="298440"/>
          </a:xfrm>
          <a:custGeom>
            <a:avLst/>
            <a:gdLst>
              <a:gd name="textAreaLeft" fmla="*/ 83160 w 378000"/>
              <a:gd name="textAreaRight" fmla="*/ 294840 w 378000"/>
              <a:gd name="textAreaTop" fmla="*/ 65520 h 298440"/>
              <a:gd name="textAreaBottom" fmla="*/ 232920 h 29844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00cc99"/>
              </a:gs>
              <a:gs pos="5000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890800" y="6427800"/>
            <a:ext cx="148284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rebuchet MS"/>
              </a:rPr>
              <a:t>Product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55266AA-0FCB-40BD-B124-697D717A25C8}"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uïc ñích</a:t>
            </a:r>
            <a:endParaRPr b="1" i="1" lang="en-US" sz="3400" spc="-1" strike="noStrike">
              <a:solidFill>
                <a:srgbClr val="ffff00"/>
              </a:solidFill>
              <a:latin typeface="VNI-Helve"/>
            </a:endParaRPr>
          </a:p>
        </p:txBody>
      </p:sp>
      <p:sp>
        <p:nvSpPr>
          <p:cNvPr id="14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ñích phaân tích moâi tröôøng beân ngoaøi laø phaûi chæ ra ñ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ô hoäi ñoái vôùi coâng ty laø gì? </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uy cô caàn phaûi traùnh laø gì?</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EE149762-BBA5-484E-BF2E-0A09FEAF1C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moâ tröôøng cuûa coâng ty</a:t>
            </a:r>
            <a:endParaRPr b="1" i="1" lang="en-US" sz="3400" spc="-1" strike="noStrike">
              <a:solidFill>
                <a:srgbClr val="ffff00"/>
              </a:solidFill>
              <a:latin typeface="VNI-Helve"/>
            </a:endParaRPr>
          </a:p>
        </p:txBody>
      </p:sp>
      <p:grpSp>
        <p:nvGrpSpPr>
          <p:cNvPr id="142" name=""/>
          <p:cNvGrpSpPr/>
          <p:nvPr/>
        </p:nvGrpSpPr>
        <p:grpSpPr>
          <a:xfrm>
            <a:off x="1523880" y="1268280"/>
            <a:ext cx="5715000" cy="5361120"/>
            <a:chOff x="1523880" y="1268280"/>
            <a:chExt cx="5715000" cy="5361120"/>
          </a:xfrm>
        </p:grpSpPr>
        <p:sp>
          <p:nvSpPr>
            <p:cNvPr id="143" name=""/>
            <p:cNvSpPr/>
            <p:nvPr/>
          </p:nvSpPr>
          <p:spPr>
            <a:xfrm>
              <a:off x="1523880" y="1268280"/>
              <a:ext cx="5715000" cy="5361120"/>
            </a:xfrm>
            <a:prstGeom prst="rect">
              <a:avLst/>
            </a:prstGeom>
            <a:solidFill>
              <a:srgbClr val="ccccff"/>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MOÂI TRÖÔØNG VÓ MOÂ</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457200">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chính trò vaø phaùp lyù</a:t>
              </a:r>
              <a:endParaRPr b="0" lang="en-US" sz="1500" spc="-1" strike="noStrike">
                <a:solidFill>
                  <a:srgbClr val="000000"/>
                </a:solidFill>
                <a:latin typeface="Times New Roman"/>
              </a:endParaRPr>
            </a:p>
            <a:p>
              <a:pPr lvl="1" marL="457200">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kinh teá</a:t>
              </a:r>
              <a:endParaRPr b="0" lang="en-US" sz="1500" spc="-1" strike="noStrike">
                <a:solidFill>
                  <a:srgbClr val="000000"/>
                </a:solidFill>
                <a:latin typeface="Times New Roman"/>
              </a:endParaRPr>
            </a:p>
            <a:p>
              <a:pPr lvl="1" marL="457200">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xaõ hoäi</a:t>
              </a:r>
              <a:endParaRPr b="0" lang="en-US" sz="1500" spc="-1" strike="noStrike">
                <a:solidFill>
                  <a:srgbClr val="000000"/>
                </a:solidFill>
                <a:latin typeface="Times New Roman"/>
              </a:endParaRPr>
            </a:p>
            <a:p>
              <a:pPr lvl="1" marL="457200">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coâng ngheä</a:t>
              </a:r>
              <a:endParaRPr b="0" lang="en-US" sz="1500" spc="-1" strike="noStrike">
                <a:solidFill>
                  <a:srgbClr val="000000"/>
                </a:solidFill>
                <a:latin typeface="Times New Roman"/>
              </a:endParaRPr>
            </a:p>
            <a:p>
              <a:pPr lvl="1" marL="457200">
                <a:lnSpc>
                  <a:spcPct val="100000"/>
                </a:lnSpc>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töï nhieân</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4" name=""/>
            <p:cNvSpPr/>
            <p:nvPr/>
          </p:nvSpPr>
          <p:spPr>
            <a:xfrm>
              <a:off x="2514240" y="2971800"/>
              <a:ext cx="4724640" cy="3657600"/>
            </a:xfrm>
            <a:prstGeom prst="rect">
              <a:avLst/>
            </a:prstGeom>
            <a:solidFill>
              <a:srgbClr val="ccffcc"/>
            </a:solidFill>
            <a:ln w="0">
              <a:noFill/>
            </a:ln>
          </p:spPr>
          <p:style>
            <a:lnRef idx="0"/>
            <a:fillRef idx="0"/>
            <a:effectRef idx="0"/>
            <a:fontRef idx="minor"/>
          </p:style>
          <p:txBody>
            <a:bodyPr lIns="18000" rIns="18000" tIns="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MOÂI TRÖÔØNG TAÙC NGHIEÄP</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CAÙC TAÙC LÖÏC CAÏNH TRANH</a:t>
              </a:r>
              <a:endParaRPr b="0" lang="en-US" sz="1500" spc="-1" strike="noStrike">
                <a:solidFill>
                  <a:srgbClr val="000000"/>
                </a:solidFill>
                <a:latin typeface="Times New Roman"/>
              </a:endParaRPr>
            </a:p>
            <a:p>
              <a:pPr lvl="1" marL="457200">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ñoái thuû caïnh tranh</a:t>
              </a:r>
              <a:endParaRPr b="0" lang="en-US" sz="1500" spc="-1" strike="noStrike">
                <a:solidFill>
                  <a:srgbClr val="000000"/>
                </a:solidFill>
                <a:latin typeface="Times New Roman"/>
              </a:endParaRPr>
            </a:p>
            <a:p>
              <a:pPr lvl="1" marL="457200">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Khaùch haøng</a:t>
              </a:r>
              <a:endParaRPr b="0" lang="en-US" sz="1500" spc="-1" strike="noStrike">
                <a:solidFill>
                  <a:srgbClr val="000000"/>
                </a:solidFill>
                <a:latin typeface="Times New Roman"/>
              </a:endParaRPr>
            </a:p>
            <a:p>
              <a:pPr lvl="1" marL="457200">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Nhaø cung caáp</a:t>
              </a:r>
              <a:endParaRPr b="0" lang="en-US" sz="1500" spc="-1" strike="noStrike">
                <a:solidFill>
                  <a:srgbClr val="000000"/>
                </a:solidFill>
                <a:latin typeface="Times New Roman"/>
              </a:endParaRPr>
            </a:p>
            <a:p>
              <a:pPr lvl="1" marL="457200">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ñoái thuû tieàm aån</a:t>
              </a:r>
              <a:endParaRPr b="0" lang="en-US" sz="1500" spc="-1" strike="noStrike">
                <a:solidFill>
                  <a:srgbClr val="000000"/>
                </a:solidFill>
                <a:latin typeface="Times New Roman"/>
              </a:endParaRPr>
            </a:p>
            <a:p>
              <a:pPr lvl="1" marL="457200">
                <a:lnSpc>
                  <a:spcPct val="100000"/>
                </a:lnSpc>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Saûn phaåm thay theá</a:t>
              </a:r>
              <a:endParaRPr b="0" lang="en-US" sz="1500" spc="-1" strike="noStrike">
                <a:solidFill>
                  <a:srgbClr val="000000"/>
                </a:solidFill>
                <a:latin typeface="Times New Roman"/>
              </a:endParaRPr>
            </a:p>
          </p:txBody>
        </p:sp>
        <p:sp>
          <p:nvSpPr>
            <p:cNvPr id="145" name=""/>
            <p:cNvSpPr/>
            <p:nvPr/>
          </p:nvSpPr>
          <p:spPr>
            <a:xfrm>
              <a:off x="3508200" y="4647960"/>
              <a:ext cx="3730680" cy="1981440"/>
            </a:xfrm>
            <a:prstGeom prst="rect">
              <a:avLst/>
            </a:prstGeom>
            <a:solidFill>
              <a:srgbClr val="ffcc99"/>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MOÂI TRÖÔØNG NOÄI BOÄ</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457200">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Saûn xuaát</a:t>
              </a:r>
              <a:endParaRPr b="0" lang="en-US" sz="1500" spc="-1" strike="noStrike">
                <a:solidFill>
                  <a:srgbClr val="000000"/>
                </a:solidFill>
                <a:latin typeface="Times New Roman"/>
              </a:endParaRPr>
            </a:p>
            <a:p>
              <a:pPr lvl="1" marL="457200">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Marketing</a:t>
              </a:r>
              <a:endParaRPr b="0" lang="en-US" sz="1500" spc="-1" strike="noStrike">
                <a:solidFill>
                  <a:srgbClr val="000000"/>
                </a:solidFill>
                <a:latin typeface="Times New Roman"/>
              </a:endParaRPr>
            </a:p>
            <a:p>
              <a:pPr lvl="1" marL="457200">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Nghieân cöùu vaø phaùt trieån</a:t>
              </a:r>
              <a:endParaRPr b="0" lang="en-US" sz="1500" spc="-1" strike="noStrike">
                <a:solidFill>
                  <a:srgbClr val="000000"/>
                </a:solidFill>
                <a:latin typeface="Times New Roman"/>
              </a:endParaRPr>
            </a:p>
            <a:p>
              <a:pPr lvl="1" marL="457200">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Taøi chính</a:t>
              </a:r>
              <a:endParaRPr b="0" lang="en-US" sz="1500" spc="-1" strike="noStrike">
                <a:solidFill>
                  <a:srgbClr val="000000"/>
                </a:solidFill>
                <a:latin typeface="Times New Roman"/>
              </a:endParaRPr>
            </a:p>
            <a:p>
              <a:pPr lvl="1" marL="457200">
                <a:lnSpc>
                  <a:spcPct val="100000"/>
                </a:lnSpc>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Nguoàn nhaân löïc</a:t>
              </a:r>
              <a:endParaRPr b="0" lang="en-US" sz="1500" spc="-1" strike="noStrike">
                <a:solidFill>
                  <a:srgbClr val="000000"/>
                </a:solidFill>
                <a:latin typeface="Times New Roman"/>
              </a:endParaRPr>
            </a:p>
            <a:p>
              <a:pPr lvl="1" marL="457200">
                <a:lnSpc>
                  <a:spcPct val="100000"/>
                </a:lnSpc>
                <a:buClr>
                  <a:srgbClr val="000000"/>
                </a:buClr>
                <a:buFont typeface="Times New Roman"/>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Heä thoáng thoâng tin</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pSp>
      <p:sp>
        <p:nvSpPr>
          <p:cNvPr id="3" name="PlaceHolder 2"/>
          <p:cNvSpPr>
            <a:spLocks noGrp="1"/>
          </p:cNvSpPr>
          <p:nvPr>
            <p:ph type="sldNum" idx="3"/>
          </p:nvPr>
        </p:nvSpPr>
        <p:spPr/>
        <p:txBody>
          <a:bodyPr/>
          <a:p>
            <a:fld id="{345D756C-8541-4382-8F69-D8DFD26ABE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I TRÖÔØNG VÓ MOÂ </a:t>
            </a:r>
            <a:br>
              <a:rPr sz="3400"/>
            </a:br>
            <a:r>
              <a:rPr b="1" i="1" lang="en-US" sz="3400" spc="-1" strike="noStrike">
                <a:solidFill>
                  <a:srgbClr val="ffff00"/>
                </a:solidFill>
                <a:latin typeface="VNI-Helve"/>
              </a:rPr>
              <a:t>(PEST&amp;N)</a:t>
            </a:r>
            <a:endParaRPr b="1" i="1" lang="en-US" sz="3400" spc="-1" strike="noStrike">
              <a:solidFill>
                <a:srgbClr val="ffff00"/>
              </a:solidFill>
              <a:latin typeface="VNI-Helve"/>
            </a:endParaRPr>
          </a:p>
        </p:txBody>
      </p:sp>
      <p:sp>
        <p:nvSpPr>
          <p:cNvPr id="14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chính trò – phaùp lyù (Politic Factors)</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kinh teá (Economic Factors) </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xaõ hoäi (Social Factors) </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coâng ngheä (Technology Factors) </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töï nhieân (Natural Factors)</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577904B-CA8E-4839-8149-118EA15516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hính trò – Phaùp lyù </a:t>
            </a:r>
            <a:br>
              <a:rPr sz="3400"/>
            </a:br>
            <a:r>
              <a:rPr b="1" i="1" lang="en-US" sz="3400" spc="-1" strike="noStrike">
                <a:solidFill>
                  <a:srgbClr val="ffff00"/>
                </a:solidFill>
                <a:latin typeface="VNI-Helve"/>
              </a:rPr>
              <a:t>(Politic Factors) </a:t>
            </a:r>
            <a:endParaRPr b="1" i="1" lang="en-US" sz="3400" spc="-1" strike="noStrike">
              <a:solidFill>
                <a:srgbClr val="ffff00"/>
              </a:solidFill>
              <a:latin typeface="VNI-Helve"/>
            </a:endParaRPr>
          </a:p>
        </p:txBody>
      </p:sp>
      <p:sp>
        <p:nvSpPr>
          <p:cNvPr id="14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1000"/>
          </a:bodyPr>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 chính trò/Möùc ñoä oån ñònh veà chính trò</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uaät caïnh tranh/Qui ñònh choáng ñoäc quyeàn</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uaät lao ñoäng</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uaät ñaàu tö/Öu ñaõi ñaàu tö/Moâi tröôøng ñaàu tö</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qui ñònh veà thueáá</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ính saùch öu ñaõi ñaëc bieät</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i ñònh quaûng caùo, khuyeán maõi</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4F85ACC-5D15-4663-AE40-443389D45E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kinh teá </a:t>
            </a:r>
            <a:br>
              <a:rPr sz="3400"/>
            </a:br>
            <a:r>
              <a:rPr b="1" i="1" lang="en-US" sz="3400" spc="-1" strike="noStrike">
                <a:solidFill>
                  <a:srgbClr val="ffff00"/>
                </a:solidFill>
                <a:latin typeface="VNI-Helve"/>
              </a:rPr>
              <a:t>(Economic Factors)</a:t>
            </a:r>
            <a:endParaRPr b="1" i="1" lang="en-US" sz="3400" spc="-1" strike="noStrike">
              <a:solidFill>
                <a:srgbClr val="ffff00"/>
              </a:solidFill>
              <a:latin typeface="VNI-Helve"/>
            </a:endParaRPr>
          </a:p>
        </p:txBody>
      </p:sp>
      <p:sp>
        <p:nvSpPr>
          <p:cNvPr id="15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i ñoaïn trong chu kyø kinh teá</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u höôùng GDP/Möùc taêng tröôûng GD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u nhaä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aïm phaùt</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át nghieä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9373040-D5D5-44DB-B8EE-09CF342535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13:50Z</dcterms:modified>
  <cp:revision>16</cp:revision>
  <dc:subject/>
  <dc:title>PowerPoint Presentation</dc:title>
</cp:coreProperties>
</file>